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3303-E0DB-4413-97FE-80A461439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76EF-F4AB-45E8-B2DB-CBA93A4C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1258-0745-4FA6-9ABE-0E39755F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5389-430E-433E-8A9A-AA080416E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1D90-C3A8-48D6-8141-C45C77D8A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C15A-E3AA-47DD-BEA2-906496B8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F3E-C6C1-4344-AA71-B7163787A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FE80-E042-40DD-957E-90507F5E2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5CD0-50AD-4F82-8DF8-28872D597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269A-CEB2-4C10-A7EA-15D1A35E9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33CD-5104-45C9-A355-108B17878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64A1-A39F-4E63-816A-3F09D2350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8393-9424-4DDE-A4B0-FDBAD233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2841-E3E7-4BD5-A1D0-9EA006EF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5E6A-7E48-49F2-9891-33C63FFB4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FF7E-CD05-41C5-8F5C-731FD80C1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FD88-8DCC-4B25-90FC-205A88FE5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2284-F1A6-4B32-A2F2-B4253AB09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EDD-5BD4-40E8-BD6C-C505CE5DE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BCBC-A12C-46FF-841B-C81902F33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449B-688B-4BFF-8C2D-2784D6F2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B640-31A5-42D8-9B3A-B30820F5D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3212-7589-45DE-8932-21739597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685800"/>
            <a:ext cx="8191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THE PLOTS / STARS, IDENTIFY THESE FILMS WITH "CRAZY" IN THE 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49360" y="761760"/>
            <a:ext cx="8045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TEENAGERS PRETEND TO DATE EACH OTHER TO MAKE THEIR RECENT EX'S JEALOUS, BUT FALL IN L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4520" y="762120"/>
            <a:ext cx="791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TISH EXCHANGE STUDENT FELICITY JONES FALLS IN LOVE WITH ANTON YELCHIN, BUT THEY ARE SEPARATED BY VISA PROBL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,  STUPID,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VE CARELL'S WIFE LEAVES HIM, AND RYAN GOSLING TEACHES HIM TO PICK UP WOMEN IN B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RICH  AS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42960" y="762120"/>
            <a:ext cx="7858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TANCE WU TRAVELS TO MEET HER BOYFRIEND HENRY GOLDING'S WEALTHY FAMILY IN SINGAP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CRAZY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85720" y="762120"/>
            <a:ext cx="797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CUSACK AND HIS FRIENDS TRY TO SAVE DEMI MOORE'S GRANDFATHER'S HOUSE ON NANTUC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01760" y="762120"/>
            <a:ext cx="834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NTRY SINGER JEFF BRIDGES TRIES TO TURN HIS LIFE AROUND WHILE DATING MAGGIE GYLLENHA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DS  MUST  BE  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50920" y="762120"/>
            <a:ext cx="684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SWANA BUSHMEN DISCOVER AN EMPTY COKE BOTTLE AND THINK IT IS SAC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R  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 WILDER AND RICHARD PRYOR GO TO JAIL AFTER BEING FRAMED FOR A BANK ROBB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/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OR HIGH SCHOOLER JAY HERNANDEZ FALLS IN LOVE WITH A TROUBLED KIRSTEN DUNST FROM AN AFFLUENT NEIGHBOR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VE CARELL'S WIFE LEAVES HIM, AND RYAN GOSLING TEACHES HIM TO PICK UP WOMEN IN B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 EXECUTIVE DUDLEY MOORE, UNDER THE CARE OF DARYL HANNAH, WRITES HONEST AND SUCCESSFUL 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  ME  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28560" y="762120"/>
            <a:ext cx="7886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TEENAGERS PRETEND TO DATE EACH OTHER TO MAKE THEIR RECENT EX'S JEALOUS, BUT FALL IN LO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49440" y="762120"/>
            <a:ext cx="7843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TISH EXCHANGE STUDENT FELICITY JONES FALLS IN LOVE WITH ANTON YELCHIN, BUT THEY ARE SEPARATED BY VISA PROBL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TANCE WU TRAVELS TO MEET HER BOYFRIEND HENRY GOLDING'S WEALTHY FAMILY IN SINGAP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4640" y="762120"/>
            <a:ext cx="779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CUSACK AND HIS FRIENDS TRY TO SAVE DEMI MOORE'S GRANDFATHER'S HOUSE ON NANTUC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NTRY SINGER JEFF BRIDGES TRIES TO TURN HIS LIFE AROUND WHILE DATING MAGGIE GYLLENHA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87000" y="762120"/>
            <a:ext cx="65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SWANA BUSHMEN DISCOVER AN EMPTY COKE BOTTLE AND THINK IT IS SAC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64720" y="761760"/>
            <a:ext cx="7412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 WILDER AND  RICHARD PRYOR GO TO JAIL AFTER BEING FRAMED FOR A BANK ROBB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4240" y="761760"/>
            <a:ext cx="771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OR HIGH SCHOOLER JAY HERNANDEZ FALLS IN LOVE WITH A TROUBLED KIRSTEN DUNST FROM AN AFFLUENT NEIGHBOR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 EXECUTIVE DUDLEY MOORE, UNDER THE CARE OF DARYL HANNAH, WRITES HONEST AND SUCCESSFUL 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5-06T12:40:10Z</dcterms:modified>
  <cp:revision>383</cp:revision>
  <dc:subject/>
  <dc:title>Slide 1</dc:title>
</cp:coreProperties>
</file>