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7206-7988-4EA6-80C6-9DCEDB02E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3736-C759-45E1-BB12-B13B26395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5422-2751-45E1-99BF-5A28CB7C7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864F-E8C3-4730-967E-8C2C5E311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C079-6AC1-49BE-BDD1-C2926C5E5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79DB-D533-4458-90B7-1FD9EC49B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3F33-7E76-44F6-9377-0169F724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FAD2-0940-4463-8FFA-3BA46CAA2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A96C-E4F1-49F0-8E67-076FCD97C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7CBE-DCDA-4E17-AEBE-298374A8D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155F-E76C-45AF-A023-A9DA5F118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E592-127F-4B78-A3AC-1ED909794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A59B-1B4B-4ADF-8510-DD59D45B4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F0F8-ADEC-4CA7-ACCF-DD6F15D44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680D-4E65-4252-9F52-D25FA7C4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5BF6-127A-498C-8A18-92D1ABCC1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9CB9-0642-435D-BA6A-6467FB04B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1BC5-FF27-45F6-924A-C67264E8B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12BB-71EF-4EA8-924E-502E8A49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8643-BC64-4EAF-ABCF-460A9DED1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D97C-EFC6-4BD9-B6A7-F648399D4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68AE-86D6-42E7-B813-E07D31BBF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E4A2-6EBB-4573-A228-E8003B429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685800"/>
            <a:ext cx="8191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THE PLOTS / STARS, IDENTIFY THESE FILMS WITH "CRAZY" IN THE 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49360" y="761760"/>
            <a:ext cx="8045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TEENAGERS PRETEND TO DATE EACH OTHER TO MAKE THEIR RECENT EX'S JEALOUS, BUT FALL IN L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4520" y="762120"/>
            <a:ext cx="791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TISH EXCHANGE STUDENT FELICITY JONES FALLS IN LOVE WITH ANTON YELCHIN, BUT THEY ARE SEPARATED BY VISA PROBL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,  STUPID,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VE CARELL'S WIFE LEAVES HIM, AND RYAN GOSLING TEACHES HIM TO PICK UP WOMEN IN B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RICH  AS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42960" y="762120"/>
            <a:ext cx="7858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TANCE WU TRAVELS TO MEET HER BOYFRIEND HENRY GOLDING'S WEALTHY FAMILY IN SINGAP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CRAZY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85720" y="762120"/>
            <a:ext cx="797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CUSACK AND HIS FRIENDS TRY TO SAVE DEMI MOORE'S GRANDFATHER'S HOUSE ON NANTUC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01760" y="762120"/>
            <a:ext cx="834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NTRY SINGER JEFF BRIDGES TRIES TO TURN HIS LIFE AROUND WHILE DATING MAGGIE GYLLENHA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DS  MUST  BE  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50920" y="762120"/>
            <a:ext cx="684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SWANA BUSHMEN DISCOVER AN EMPTY COKE BOTTLE AND THINK IT IS SAC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R  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 WILDER AND RICHARD PRYOR GO TO JAIL AFTER BEING FRAMED FOR A BANK ROBB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/ BEAUTI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OR HIGH SCHOOLER JAY HERNANDEZ FALLS IN LOVE WITH A TROUBLED KIRSTEN DUNST FROM AN AFFLUENT NEIGHBOR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VE CARELL'S WIFE LEAVES HIM, AND RYAN GOSLING TEACHES HIM TO PICK UP WOMEN IN B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 EXECUTIVE DUDLEY MOORE, UNDER THE CARE OF DARYL HANNAH, WRITES HONEST AND SUCCESSFUL 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  ME  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28560" y="762120"/>
            <a:ext cx="7886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TEENAGERS PRETEND TO DATE EACH OTHER TO MAKE THEIR RECENT EX'S JEALOUS, BUT FALL IN LO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49440" y="762120"/>
            <a:ext cx="7843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TISH EXCHANGE STUDENT FELICITY JONES FALLS IN LOVE WITH ANTON YELCHIN, BUT THEY ARE SEPARATED BY VISA PROBL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TANCE WU TRAVELS TO MEET HER BOYFRIEND HENRY GOLDING'S WEALTHY FAMILY IN SINGAP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4640" y="762120"/>
            <a:ext cx="779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CUSACK AND HIS FRIENDS TRY TO SAVE DEMI MOORE'S GRANDFATHER'S HOUSE ON NANTUC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NTRY SINGER JEFF BRIDGES TRIES TO TURN HIS LIFE AROUND WHILE DATING MAGGIE GYLLENHA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87000" y="762120"/>
            <a:ext cx="6567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OTSWANA BUSHMEN DISCOVER AN EMPTY COKE BOTTLE AND THINK IT IS SAC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64720" y="761760"/>
            <a:ext cx="7412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E WILDER AND  RICHARD PRYOR GO TO JAIL AFTER BEING FRAMED FOR A BANK ROBB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4240" y="761760"/>
            <a:ext cx="771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OR HIGH SCHOOLER JAY HERNANDEZ FALLS IN LOVE WITH A TROUBLED KIRSTEN DUNST FROM AN AFFLUENT NEIGHBOR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 EXECUTIVE DUDLEY MOORE, UNDER THE CARE OF DARYL HANNAH, WRITES HONEST AND SUCCESSFUL 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5-06T12:40:10Z</dcterms:modified>
  <cp:revision>383</cp:revision>
  <dc:subject/>
  <dc:title>Slide 1</dc:title>
</cp:coreProperties>
</file>