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54022-DB19-4328-BCC1-946BC873BB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98165-D8D7-454C-A28C-2D9A90D734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95E14-8869-4D4A-A9AD-FBD91B4FC0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AAE5C-51B5-43A4-B477-33D29C274A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7C858-DCE2-4B83-8BF3-C207883986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B21FD-0320-46F9-A81A-170A4D392A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D4412-B554-45BD-A63C-D4AB90B851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938DD-7CBC-42F1-86A4-D7D2ECA8BE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A0D49-80BD-4AA1-AE9E-EF9E4F7438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89B14-98C4-4F22-AA04-6A856A6F13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B72A2-1F4C-4A20-BDA1-63E3897191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E1ACD-166B-476A-8643-FB71CF1569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2BECF-421E-4F20-B112-9603727BCD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EBA6D-5940-44D1-875F-3B021D4999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81C94-A3BD-41A2-B7E9-C791869854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1A15D-A737-4F3B-89A4-4662E21A79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2A7D2-F3CB-4836-83E4-54FD55C59C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45817-BE45-4922-97E6-BECD14BF0A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41D7D-36FA-4DC8-BF19-BD71F9C33E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2CB42-71EE-4056-BE3B-5F03B11DF6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416C2-85B4-4DA8-B8D2-C0218E577E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4D73E-765D-4060-B002-143CB4EEBA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E1DB8-CC48-4304-9177-F7CBDD633F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95360" y="1333440"/>
            <a:ext cx="81532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DENTIFY THESE FILMS (WITH "STAR" IN THE TITLE) BY THEIR MOVIE POSTER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3110040" y="1279440"/>
            <a:ext cx="2923920" cy="4299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" name="Picture 4" descr=""/>
          <p:cNvPicPr/>
          <p:nvPr/>
        </p:nvPicPr>
        <p:blipFill>
          <a:blip r:embed="rId1"/>
          <a:stretch/>
        </p:blipFill>
        <p:spPr>
          <a:xfrm>
            <a:off x="2836800" y="1306440"/>
            <a:ext cx="3470400" cy="424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Rectangle 3"/>
          <p:cNvSpPr/>
          <p:nvPr/>
        </p:nvSpPr>
        <p:spPr>
          <a:xfrm>
            <a:off x="457200" y="502920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TAR  WA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3" descr=""/>
          <p:cNvPicPr/>
          <p:nvPr/>
        </p:nvPicPr>
        <p:blipFill>
          <a:blip r:embed="rId1"/>
          <a:stretch/>
        </p:blipFill>
        <p:spPr>
          <a:xfrm>
            <a:off x="3051000" y="1263600"/>
            <a:ext cx="3042000" cy="3765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Rectangle 3"/>
          <p:cNvSpPr/>
          <p:nvPr/>
        </p:nvSpPr>
        <p:spPr>
          <a:xfrm>
            <a:off x="457200" y="502920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TAR  TRE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2" descr=""/>
          <p:cNvPicPr/>
          <p:nvPr/>
        </p:nvPicPr>
        <p:blipFill>
          <a:blip r:embed="rId1"/>
          <a:stretch/>
        </p:blipFill>
        <p:spPr>
          <a:xfrm>
            <a:off x="2965320" y="1295280"/>
            <a:ext cx="3213360" cy="3678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Rectangle 3"/>
          <p:cNvSpPr/>
          <p:nvPr/>
        </p:nvSpPr>
        <p:spPr>
          <a:xfrm>
            <a:off x="304920" y="5029200"/>
            <a:ext cx="85341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OCKST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3" descr=""/>
          <p:cNvPicPr/>
          <p:nvPr/>
        </p:nvPicPr>
        <p:blipFill>
          <a:blip r:embed="rId1"/>
          <a:stretch/>
        </p:blipFill>
        <p:spPr>
          <a:xfrm>
            <a:off x="2955960" y="1308240"/>
            <a:ext cx="3230640" cy="3689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380880" y="685440"/>
            <a:ext cx="83822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Rectangle 3"/>
          <p:cNvSpPr/>
          <p:nvPr/>
        </p:nvSpPr>
        <p:spPr>
          <a:xfrm>
            <a:off x="457200" y="5029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  STAR  IS  BOR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3" descr=""/>
          <p:cNvPicPr/>
          <p:nvPr/>
        </p:nvPicPr>
        <p:blipFill>
          <a:blip r:embed="rId1"/>
          <a:stretch/>
        </p:blipFill>
        <p:spPr>
          <a:xfrm>
            <a:off x="2571840" y="1295280"/>
            <a:ext cx="4000320" cy="3630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TIN  ST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3" descr=""/>
          <p:cNvPicPr/>
          <p:nvPr/>
        </p:nvPicPr>
        <p:blipFill>
          <a:blip r:embed="rId1"/>
          <a:stretch/>
        </p:blipFill>
        <p:spPr>
          <a:xfrm>
            <a:off x="2571840" y="1295280"/>
            <a:ext cx="4000320" cy="3624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FAULT  IN  OUR  STA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2" descr=""/>
          <p:cNvPicPr/>
          <p:nvPr/>
        </p:nvPicPr>
        <p:blipFill>
          <a:blip r:embed="rId1"/>
          <a:stretch/>
        </p:blipFill>
        <p:spPr>
          <a:xfrm>
            <a:off x="2732040" y="1287360"/>
            <a:ext cx="3679920" cy="3741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ST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3" descr=""/>
          <p:cNvPicPr/>
          <p:nvPr/>
        </p:nvPicPr>
        <p:blipFill>
          <a:blip r:embed="rId1"/>
          <a:stretch/>
        </p:blipFill>
        <p:spPr>
          <a:xfrm>
            <a:off x="3086280" y="1255680"/>
            <a:ext cx="2971800" cy="3773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2824200" y="1266840"/>
            <a:ext cx="3495600" cy="4324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380880" y="5029200"/>
            <a:ext cx="84582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PS  TO  THE  STA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2" descr=""/>
          <p:cNvPicPr/>
          <p:nvPr/>
        </p:nvPicPr>
        <p:blipFill>
          <a:blip r:embed="rId1"/>
          <a:stretch/>
        </p:blipFill>
        <p:spPr>
          <a:xfrm>
            <a:off x="2070000" y="1273320"/>
            <a:ext cx="5004000" cy="374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53352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Rectangle 3"/>
          <p:cNvSpPr/>
          <p:nvPr/>
        </p:nvSpPr>
        <p:spPr>
          <a:xfrm>
            <a:off x="457200" y="4968720"/>
            <a:ext cx="822960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4000"/>
          </a:bodyPr>
          <a:p>
            <a:pPr marL="82080" indent="-82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ONE  ST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82080" indent="-82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82080" indent="-82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3" descr=""/>
          <p:cNvPicPr/>
          <p:nvPr/>
        </p:nvPicPr>
        <p:blipFill>
          <a:blip r:embed="rId1"/>
          <a:stretch/>
        </p:blipFill>
        <p:spPr>
          <a:xfrm>
            <a:off x="3300480" y="1219320"/>
            <a:ext cx="2541600" cy="3733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TARGA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2" descr=""/>
          <p:cNvPicPr/>
          <p:nvPr/>
        </p:nvPicPr>
        <p:blipFill>
          <a:blip r:embed="rId1"/>
          <a:stretch/>
        </p:blipFill>
        <p:spPr>
          <a:xfrm>
            <a:off x="3084480" y="1295280"/>
            <a:ext cx="2975040" cy="3643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2701800" y="1287360"/>
            <a:ext cx="3740400" cy="4283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Picture 3" descr=""/>
          <p:cNvPicPr/>
          <p:nvPr/>
        </p:nvPicPr>
        <p:blipFill>
          <a:blip r:embed="rId1"/>
          <a:stretch/>
        </p:blipFill>
        <p:spPr>
          <a:xfrm>
            <a:off x="2712960" y="1295280"/>
            <a:ext cx="3718080" cy="424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2200320" y="1276200"/>
            <a:ext cx="4743360" cy="4305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2247840" y="1324080"/>
            <a:ext cx="4648320" cy="4209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2473200" y="1295280"/>
            <a:ext cx="4197600" cy="426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2884320" y="1285920"/>
            <a:ext cx="3375360" cy="4286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1720800" y="1297080"/>
            <a:ext cx="5702400" cy="42638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11T14:39:58Z</dcterms:created>
  <dc:creator>Jennifer Budzinski</dc:creator>
  <dc:description/>
  <dc:language>en-US</dc:language>
  <cp:lastModifiedBy>Erich Friedman</cp:lastModifiedBy>
  <dcterms:modified xsi:type="dcterms:W3CDTF">2022-07-11T14:03:43Z</dcterms:modified>
  <cp:revision>291</cp:revision>
  <dc:subject/>
  <dc:title>Slide 1</dc:title>
</cp:coreProperties>
</file>