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30B1-8A54-4546-A550-2CC964A5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A505-BA29-44D9-9B93-163B9D3C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840F-214B-45FC-9499-E3650579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A621-E9AD-4C35-86F9-D1AC96F07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FD85-FE33-45DA-8E91-03DBF5A59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017A-EEA6-4B87-98EB-B56BB08A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096D-9B4B-4CFE-A752-C50716A7B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26B50-6910-4806-A94A-EFDF949F8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37C6-F0D2-4754-90D6-629606DC6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A32B-ECB8-420D-8243-6FD5438F9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4233-2ED2-4D78-83BF-1E138EC62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7BF9-CCFE-4668-A000-FFD52F3C1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7AC0-1BF0-46DC-A8DE-967A680A4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1FA2-264F-4B39-ABC9-38D9C2C9F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45735-7086-47A0-9C73-23F58BCB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D107-58EC-44DE-B275-7F422FF9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CFA3-5559-4DA2-A815-3342CCD57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88BF-855C-4E2D-891D-33D97DBDD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D076-C88C-4C02-9F2E-E20DB2E5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FFB-AFC3-4DC7-B4DC-3FB979A7C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B637-2EF1-4E22-B9C5-245E55DE5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FDB-4D1F-4DD2-8ACC-4E94C6EF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49A4-61A8-4198-8030-EEF857033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ILMS (WITH "STAR" IN THE TITLE) BY THEIR MOVI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110040" y="1279440"/>
            <a:ext cx="2923920" cy="42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836800" y="1306440"/>
            <a:ext cx="3470400" cy="42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51000" y="1263600"/>
            <a:ext cx="304200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65320" y="1295280"/>
            <a:ext cx="321336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55960" y="1308240"/>
            <a:ext cx="3230640" cy="368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STAR  IS  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71840" y="1295280"/>
            <a:ext cx="400032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N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571840" y="1295280"/>
            <a:ext cx="400032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AULT  IN  OUR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32040" y="1287360"/>
            <a:ext cx="3679920" cy="374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086280" y="1255680"/>
            <a:ext cx="297180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24200" y="1266840"/>
            <a:ext cx="3495600" cy="43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S  TO  THE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070000" y="1273320"/>
            <a:ext cx="500400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68720"/>
            <a:ext cx="82296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300480" y="1219320"/>
            <a:ext cx="254160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084480" y="1295280"/>
            <a:ext cx="297504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01800" y="1287360"/>
            <a:ext cx="3740400" cy="428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712960" y="1295280"/>
            <a:ext cx="3718080" cy="42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00320" y="1276200"/>
            <a:ext cx="4743360" cy="430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47840" y="1324080"/>
            <a:ext cx="4648320" cy="42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73200" y="1295280"/>
            <a:ext cx="41976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84320" y="1285920"/>
            <a:ext cx="3375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20800" y="1297080"/>
            <a:ext cx="5702400" cy="426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1T14:03:43Z</dcterms:modified>
  <cp:revision>291</cp:revision>
  <dc:subject/>
  <dc:title>Slide 1</dc:title>
</cp:coreProperties>
</file>