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E160-D3DD-49B4-8717-1F3729046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112F-1E9D-4410-AB1B-08520F3BE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4B41-7479-4E59-9034-3D1FCD4FA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4339-A020-41C9-9F1E-41751B12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E2FB-5CC9-4EE1-8A1F-77083719D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0814-4B83-4D02-B353-178E6AD46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AE54-8AAC-49BC-A4BE-575A22F3B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5C04-BA84-4B90-A849-60F049346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D3B8-26D3-4C7B-84CC-FFE1E65C4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9EA7-83C4-43E5-909A-1BE446BA3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2291-289C-4069-8241-4FE17C4BD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F654-4DE9-40C9-B6C8-59B82EB42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D065-F106-497E-B829-57B3784EA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0D37-3E35-4EBB-86F5-D9813005E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8F15-726C-42A9-8782-09A04FD54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CF0D-0A42-4759-BAAD-22F7E0524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E101-1AC7-48D2-97FB-8028B1DEB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3F79-2320-4540-BE27-0AFE3DBC0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1AB0-776A-43B8-A33C-A884F9912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25AE-53FD-4284-B5A7-5A64D9045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E5EE-AF50-4FB1-9F80-E59903608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C054-F56F-45A5-8F38-D65F13C29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C1E9A-E4CE-4383-AFB0-61D5970DE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RIGINAL FILM TIT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M HANKS FILM WAS ALMOST CALLED "WHEN I GROW U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93680" y="762120"/>
            <a:ext cx="695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T PACK FILM WAS ALMOST CALLED "THE LUNCH BUN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14400" y="49528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LE  YOU  WERE  SLEE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50840" y="762120"/>
            <a:ext cx="704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NDRA BULLOCK FILM WAS ALMOST CALLED "COMA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P  F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57400" y="762120"/>
            <a:ext cx="6829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TRAVOLTA / SAMUEL L. JACKSON FILM WAS ALMOST CALLED "BLACK MAS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TTY  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9560" y="762120"/>
            <a:ext cx="718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CHARD GERE / JULIA ROBERTS FILM WAS ALMOST CALLED "$30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24040" y="762120"/>
            <a:ext cx="7329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TE WINSLET / LEONARDO DICAPRIO FILM WAS ALMOST CALLED  "THE SHIP OF DREA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DE  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24000" y="762120"/>
            <a:ext cx="849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RISON FORD FILM WAS ALMOST CALLED "ANDROID" OR "MECHANISMO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98640" y="762120"/>
            <a:ext cx="714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OURNEY WEAVER FILM WAS ALMOST CALLED "STAR BE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S  ON  A 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90640" y="762120"/>
            <a:ext cx="736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MUEL L. JACKSON FILM WAS ALMOST CALLED "PACIFIC AIR FLIGHT 12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77480" y="762120"/>
            <a:ext cx="6986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NDRA BULLOCK FILM WAS ALMOST CALLED "COMA GU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LASHER FILM WAS ORIGINALLY CALLED "SCARY MOVIE", THE TITLE OF A 2000 PARODY OF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69840" y="762120"/>
            <a:ext cx="7202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M HANKS FILM WAS ALMOST CALLED "WHEN I GROW 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EAKFAST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44440" y="762120"/>
            <a:ext cx="68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T PACK FILM WAS ALMOST CALLED "THE LUNCH BUN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25000" y="761760"/>
            <a:ext cx="6891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TRAVOLTA / SAMUEL L. JACKSON FILM WAS ALMOST CALLED "BLACK MAS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01880" y="762120"/>
            <a:ext cx="714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CHARD GERE / JULIA ROBERTS FILM WAS ALMOST CALLED "$30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0800" y="762120"/>
            <a:ext cx="7319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TE WINSLET / LEONARDO DICAPRIO FILM WAS ALMOST CALLED "THE SHIP OF DREA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RISON FORD FILM WAS ALMOST CALLED "ANDROID" OR "MECHANISMO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60480" y="761760"/>
            <a:ext cx="7223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OURNEY WEAVER FILM WAS ALMOST CALLED "STAR BEA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MUEL L. JACKSON FILM WAS ALMOST CALLED "PACIFIC AIR FLIGHT 12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6320" y="761760"/>
            <a:ext cx="7731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LASHER FILM WAS ORIGINALLY CALLED "SCARY MOVIE", THE TITLE OF A 2000 PARODY OF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2T12:17:05Z</dcterms:modified>
  <cp:revision>382</cp:revision>
  <dc:subject/>
  <dc:title>Slide 1</dc:title>
</cp:coreProperties>
</file>