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4F53-68A1-4319-BD40-6B18A7A5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F202-6F60-43AF-8053-7A6A0186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58F-9F71-4186-8F1E-51B215AD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9CB-B26F-451D-AC5D-0F16F8FA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9D62-DE06-4C13-96D8-F55008A9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3DFB-EB66-425B-96AE-59CC62658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D25-F6D4-419C-86B6-E4CCB87F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E0E-8D9D-482C-9D39-4763F36F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EFD-F0C5-4801-9010-1AC083F49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8104-4309-4CE3-A565-3D93B967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8CA-5B94-430B-A622-65AD7978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5EF-D865-450F-946C-6500367D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17FF-F85D-4BC6-91E2-246009E2E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A8AB-EF57-4B14-B8D1-4CCDFA55B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3174-E2EC-4D53-B48C-E3CA887D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DB9-4EB2-4F24-8FF9-A13F6D6E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832F-401D-4FB8-8BF7-7B7ACC44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EF49-E236-4587-9E5D-D7FB00DC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40F-9576-4BA0-A3F3-64E3F746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1159-8F15-486A-83D7-F218A2D4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4797-5BE4-44B4-8FC3-D51F612B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C98F-D70D-4395-98A5-E6D84B29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34A6-D4E8-44EB-9F3F-2B901619A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FILM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WAS ALMOST CALLED "WHEN I GROW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93680" y="762120"/>
            <a:ext cx="695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T PACK FILM WAS ALMOST CALLED "THE LUNCH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14400" y="49528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LE  YOU  WERE  SLEE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50840" y="762120"/>
            <a:ext cx="704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NDRA BULLOCK FILM WAS ALMOST CALLED "COMA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P  F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57400" y="762120"/>
            <a:ext cx="6829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TRAVOLTA / SAMUEL L. JACKSON FILM WAS ALMOST CALLED "BLACK MAS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TTY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9560" y="762120"/>
            <a:ext cx="718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CHARD GERE / JULIA ROBERTS FILM WAS ALMOST CALLED "$30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24040" y="762120"/>
            <a:ext cx="732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E WINSLET / LEONARDO DICAPRIO FILM WAS ALMOST CALLED  "THE SHIP OF DRE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FILM WAS ALMOST CALLED "ANDROID" OR "MECHANISMO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8640" y="762120"/>
            <a:ext cx="714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OURNEY WEAVER FILM WAS ALMOST CALLED "STAR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S  ON  A 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0640" y="762120"/>
            <a:ext cx="73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MUEL L. JACKSON FILM WAS ALMOST CALLED "PACIFIC AIR FLIGHT 12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77480" y="762120"/>
            <a:ext cx="6986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NDRA BULLOCK FILM WAS ALMOST CALLED "COMA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LASHER FILM WAS ORIGINALLY CALLED "SCARY MOVIE", THE TITLE OF A 2000 PARODY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9840" y="762120"/>
            <a:ext cx="7202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WAS ALMOST CALLED "WHEN I GROW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EAKFAST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4440" y="762120"/>
            <a:ext cx="68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T PACK FILM WAS ALMOST CALLED "THE LUNCH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5000" y="761760"/>
            <a:ext cx="689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TRAVOLTA / SAMUEL L. JACKSON FILM WAS ALMOST CALLED "BLACK MAS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1880" y="762120"/>
            <a:ext cx="714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CHARD GERE / JULIA ROBERTS FILM WAS ALMOST CALLED "$30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0800" y="762120"/>
            <a:ext cx="731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E WINSLET / LEONARDO DICAPRIO FILM WAS ALMOST CALLED "THE SHIP OF DRE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FILM WAS ALMOST CALLED "ANDROID" OR "MECHANISM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OURNEY WEAVER FILM WAS ALMOST CALLED "STAR BE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MUEL L. JACKSON FILM WAS ALMOST CALLED "PACIFIC AIR FLIGHT 12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6320" y="761760"/>
            <a:ext cx="7731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LASHER FILM WAS ORIGINALLY CALLED "SCARY MOVIE", THE TITLE OF A 2000 PARODY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2T12:17:05Z</dcterms:modified>
  <cp:revision>382</cp:revision>
  <dc:subject/>
  <dc:title>Slide 1</dc:title>
</cp:coreProperties>
</file>