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9481-89CC-428C-BC0E-561C01F42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4BEB-91DC-4CA3-8E61-D34EF4064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6792-4737-47C4-9328-2E755F9D0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BFA-743B-4A15-B2A3-A2499740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9DA5-417D-4645-878F-4CEEEF82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D55E-04B6-4E73-91CB-812CED10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FF31-CD69-46E9-BCB6-4A2727D5F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FA17-5532-4B60-99CB-DE524AC1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B0A3-E282-4237-B151-798AF18A2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071-1B2C-48B6-95F4-C5EF2A029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F26C-8427-40FB-B588-BE72074F7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8D7-BB1E-4EC4-828C-67B54B46C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F12E-4D0C-47D8-8AAE-F443645AC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A5F6-C50E-4C7C-98A5-EAE249923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F1C-18F5-4F15-B9F8-CD7EB504B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469C-85F5-45B9-9F22-AF329B4A5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5C8BC-4B2C-4BA2-B83F-6662D0E59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C9BC-87BA-4040-A954-308AF20E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6A16-01B2-4CDB-A7B9-E633C94E1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E763-5687-4226-AA75-87ABE78BD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E620-E4F4-4A9A-8914-DBE7F2120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F11AB-2815-44CA-9416-AE77FCCE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92F5-71AE-4FFF-8AFA-A9EEB530A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CRUISE FILMS BY THEIR POST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51gki0QUmuL.jpg"/>
          <p:cNvPicPr/>
          <p:nvPr/>
        </p:nvPicPr>
        <p:blipFill>
          <a:blip r:embed="rId1"/>
          <a:stretch/>
        </p:blipFill>
        <p:spPr>
          <a:xfrm>
            <a:off x="2897280" y="1219320"/>
            <a:ext cx="33494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30480" y="1219320"/>
            <a:ext cx="30830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K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62320" y="1143000"/>
            <a:ext cx="4427280" cy="37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  G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5111BanI82L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LIV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629080" y="1143000"/>
            <a:ext cx="3886200" cy="374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DE  SH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eyes-wide-shut-british-movie-poster.jpg"/>
          <p:cNvPicPr/>
          <p:nvPr/>
        </p:nvPicPr>
        <p:blipFill>
          <a:blip r:embed="rId1"/>
          <a:stretch/>
        </p:blipFill>
        <p:spPr>
          <a:xfrm>
            <a:off x="2743200" y="1143000"/>
            <a:ext cx="3676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ST  SAMUR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666880" y="1219320"/>
            <a:ext cx="39862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066eb1e26244a4d9ce32c4a7fc6b8a6f.jpg"/>
          <p:cNvPicPr/>
          <p:nvPr/>
        </p:nvPicPr>
        <p:blipFill>
          <a:blip r:embed="rId1"/>
          <a:stretch/>
        </p:blipFill>
        <p:spPr>
          <a:xfrm>
            <a:off x="2362320" y="1219320"/>
            <a:ext cx="43434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AND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51gki0QUmuL.jpg"/>
          <p:cNvPicPr/>
          <p:nvPr/>
        </p:nvPicPr>
        <p:blipFill>
          <a:blip r:embed="rId1"/>
          <a:stretch/>
        </p:blipFill>
        <p:spPr>
          <a:xfrm>
            <a:off x="2895480" y="1143000"/>
            <a:ext cx="334980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-firm-movie-poster-1993-1020194595.jpg"/>
          <p:cNvPicPr/>
          <p:nvPr/>
        </p:nvPicPr>
        <p:blipFill>
          <a:blip r:embed="rId1"/>
          <a:stretch/>
        </p:blipFill>
        <p:spPr>
          <a:xfrm>
            <a:off x="3048120" y="1143000"/>
            <a:ext cx="308124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erry-maguire-movie-poster-1996-1020199178.jpg"/>
          <p:cNvPicPr/>
          <p:nvPr/>
        </p:nvPicPr>
        <p:blipFill>
          <a:blip r:embed="rId1"/>
          <a:stretch/>
        </p:blipFill>
        <p:spPr>
          <a:xfrm>
            <a:off x="2357280" y="1246320"/>
            <a:ext cx="44294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5111BanI82L.jpg"/>
          <p:cNvPicPr/>
          <p:nvPr/>
        </p:nvPicPr>
        <p:blipFill>
          <a:blip r:embed="rId1"/>
          <a:stretch/>
        </p:blipFill>
        <p:spPr>
          <a:xfrm>
            <a:off x="2727360" y="1219320"/>
            <a:ext cx="36892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blivion-poster-morgan-freeman-tom-cruise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1160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eyes-wide-shut-british-movie-poster.jpg"/>
          <p:cNvPicPr/>
          <p:nvPr/>
        </p:nvPicPr>
        <p:blipFill>
          <a:blip r:embed="rId1"/>
          <a:stretch/>
        </p:blipFill>
        <p:spPr>
          <a:xfrm>
            <a:off x="2733840" y="1219320"/>
            <a:ext cx="3676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929704.3.jpg"/>
          <p:cNvPicPr/>
          <p:nvPr/>
        </p:nvPicPr>
        <p:blipFill>
          <a:blip r:embed="rId1"/>
          <a:stretch/>
        </p:blipFill>
        <p:spPr>
          <a:xfrm>
            <a:off x="2895480" y="1219320"/>
            <a:ext cx="3505320" cy="38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a-few-good-men-movie-poster-1992-1020470674.jpg"/>
          <p:cNvPicPr/>
          <p:nvPr/>
        </p:nvPicPr>
        <p:blipFill>
          <a:blip r:embed="rId1"/>
          <a:stretch/>
        </p:blipFill>
        <p:spPr>
          <a:xfrm>
            <a:off x="2577960" y="1295280"/>
            <a:ext cx="39862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Knight-And-Day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372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8:14:04Z</dcterms:created>
  <dc:creator>Jennifer Budzinski</dc:creator>
  <dc:description/>
  <dc:language>en-US</dc:language>
  <cp:lastModifiedBy>Erich Friedman</cp:lastModifiedBy>
  <dcterms:modified xsi:type="dcterms:W3CDTF">2020-08-30T14:43:35Z</dcterms:modified>
  <cp:revision>288</cp:revision>
  <dc:subject/>
  <dc:title>Slide 1</dc:title>
</cp:coreProperties>
</file>