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9E14-7A06-4DF7-ABB3-DE2EB518D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6F5-91AD-4FE3-A5CE-2D70BD41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23A-024C-4FC4-A6CD-6D966622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9D8-15BD-4C06-A093-BF5D7ACB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FF5-3B93-40B9-80BC-54632880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23A-FD32-4500-9397-2783907B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C098-CB33-4E3F-9497-718CDF837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134-6027-4910-92B7-58A9F242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DA9D-4623-42BD-AE9B-29E0E7FA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BAB-F128-4C57-87D2-FA82277D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5D9-68EE-4B91-9520-1E29E2924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C9A-34F6-4A09-8E86-D3557664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7F2-9260-4EBB-AC5B-6C1FD4A5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948-AE13-4473-9DF4-D3BA84A1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9D09-E453-4DF0-91F0-EA25CB07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D75D-A32E-40D0-9516-B2F87C87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526E-907B-4F83-994B-68BD7E15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2D2-CFD5-4C03-A038-4BAAD06C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145-35C7-4B4A-9B85-FE46A51F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F93-F6A3-4CC6-A41C-2B4C0FFA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E24-B643-4B1E-B2C8-B598EB50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09B-C66E-4F24-A793-FBCDF2CE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DDF-AB57-48F5-A449-F3B2A2D3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CRUISE FILMS BY THEIR POST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gki0QUmuL.jpg"/>
          <p:cNvPicPr/>
          <p:nvPr/>
        </p:nvPicPr>
        <p:blipFill>
          <a:blip r:embed="rId1"/>
          <a:stretch/>
        </p:blipFill>
        <p:spPr>
          <a:xfrm>
            <a:off x="2897280" y="1219320"/>
            <a:ext cx="3349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30480" y="1219320"/>
            <a:ext cx="30830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62320" y="1143000"/>
            <a:ext cx="442728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111BanI82L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LIV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DE  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eyes-wide-shut-british-movie-poster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76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SAMU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666880" y="1219320"/>
            <a:ext cx="3986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AND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gki0QUmuL.jpg"/>
          <p:cNvPicPr/>
          <p:nvPr/>
        </p:nvPicPr>
        <p:blipFill>
          <a:blip r:embed="rId1"/>
          <a:stretch/>
        </p:blipFill>
        <p:spPr>
          <a:xfrm>
            <a:off x="2895480" y="1143000"/>
            <a:ext cx="3349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48120" y="1143000"/>
            <a:ext cx="308124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57280" y="1246320"/>
            <a:ext cx="44294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111BanI82L.jpg"/>
          <p:cNvPicPr/>
          <p:nvPr/>
        </p:nvPicPr>
        <p:blipFill>
          <a:blip r:embed="rId1"/>
          <a:stretch/>
        </p:blipFill>
        <p:spPr>
          <a:xfrm>
            <a:off x="2727360" y="121932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1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eyes-wide-shut-british-movie-poster.jpg"/>
          <p:cNvPicPr/>
          <p:nvPr/>
        </p:nvPicPr>
        <p:blipFill>
          <a:blip r:embed="rId1"/>
          <a:stretch/>
        </p:blipFill>
        <p:spPr>
          <a:xfrm>
            <a:off x="2733840" y="1219320"/>
            <a:ext cx="3676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577960" y="1295280"/>
            <a:ext cx="3986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8:14:04Z</dcterms:created>
  <dc:creator>Jennifer Budzinski</dc:creator>
  <dc:description/>
  <dc:language>en-US</dc:language>
  <cp:lastModifiedBy>Erich Friedman</cp:lastModifiedBy>
  <dcterms:modified xsi:type="dcterms:W3CDTF">2020-08-30T14:43:35Z</dcterms:modified>
  <cp:revision>288</cp:revision>
  <dc:subject/>
  <dc:title>Slide 1</dc:title>
</cp:coreProperties>
</file>