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51A-FB54-42BD-85DF-80D99C3D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C59-E611-438B-9935-63F7585F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472-DA03-4BA1-BE52-BA7FA18C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A25-AB96-473E-822A-75430897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948-4829-407A-AF97-1647715F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942-5B78-42C0-82B5-2123B93E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404-633E-47E2-A937-C0F59E7D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456-984B-4874-971F-F6C20063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A54-5617-4BC3-8089-F9033589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6CBF-3201-4CF0-8DEA-85CA029E8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1BE-8DBC-497F-AD47-C2502D20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9A6-58F5-4A6F-90D4-43A03FE4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F4C9-344D-4217-AE63-07382E07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5EF-5BA9-48F8-AA2A-893766D4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A7C-3BF3-4A56-835B-72153196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777-03F0-4AB6-A7B1-328E7D36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7491-58E6-4119-BFB2-BCC40E55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FB4-F475-4D1E-86B8-A3FC3AD6A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858-6C32-42D6-BDE6-4D91B4A6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7D75-57A8-4B6D-86C1-C4F5BAB8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7436-4CA5-4A21-9B96-043AA049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67E2-7222-47EF-8254-7A69CBAF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67A0-439D-4142-B431-2BE2DD74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CRUISE FILMS BY THEIR POST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gki0QUmuL.jpg"/>
          <p:cNvPicPr/>
          <p:nvPr/>
        </p:nvPicPr>
        <p:blipFill>
          <a:blip r:embed="rId1"/>
          <a:stretch/>
        </p:blipFill>
        <p:spPr>
          <a:xfrm>
            <a:off x="2897280" y="1219320"/>
            <a:ext cx="3349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30480" y="1219320"/>
            <a:ext cx="30830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62320" y="1143000"/>
            <a:ext cx="442728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111BanI82L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LIV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DE  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eyes-wide-shut-british-movie-poster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76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SAMU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666880" y="1219320"/>
            <a:ext cx="3986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AND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gki0QUmuL.jpg"/>
          <p:cNvPicPr/>
          <p:nvPr/>
        </p:nvPicPr>
        <p:blipFill>
          <a:blip r:embed="rId1"/>
          <a:stretch/>
        </p:blipFill>
        <p:spPr>
          <a:xfrm>
            <a:off x="2895480" y="1143000"/>
            <a:ext cx="3349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48120" y="1143000"/>
            <a:ext cx="308124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57280" y="1246320"/>
            <a:ext cx="44294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111BanI82L.jpg"/>
          <p:cNvPicPr/>
          <p:nvPr/>
        </p:nvPicPr>
        <p:blipFill>
          <a:blip r:embed="rId1"/>
          <a:stretch/>
        </p:blipFill>
        <p:spPr>
          <a:xfrm>
            <a:off x="2727360" y="121932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1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eyes-wide-shut-british-movie-poster.jpg"/>
          <p:cNvPicPr/>
          <p:nvPr/>
        </p:nvPicPr>
        <p:blipFill>
          <a:blip r:embed="rId1"/>
          <a:stretch/>
        </p:blipFill>
        <p:spPr>
          <a:xfrm>
            <a:off x="2733840" y="1219320"/>
            <a:ext cx="3676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577960" y="1295280"/>
            <a:ext cx="3986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8:14:04Z</dcterms:created>
  <dc:creator>Jennifer Budzinski</dc:creator>
  <dc:description/>
  <dc:language>en-US</dc:language>
  <cp:lastModifiedBy>Erich Friedman</cp:lastModifiedBy>
  <dcterms:modified xsi:type="dcterms:W3CDTF">2020-08-30T14:43:35Z</dcterms:modified>
  <cp:revision>288</cp:revision>
  <dc:subject/>
  <dc:title>Slide 1</dc:title>
</cp:coreProperties>
</file>