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5E55-7D73-4110-95F9-DE376D3C91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0C79E-11B7-439B-AB0A-1C80C307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EF642-5D01-40EE-B081-5D8A98BB3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0F3EE-BF8C-40A4-A917-E4D9FB5EC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8DB0-07DA-41DB-A89F-ABC1787BC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96879-294D-4C51-AE75-887AC3971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344B-3E66-4E1C-A099-C4FA95FE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2849-62EC-42DA-86DE-D58FB5E91E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B334-5534-42BE-9018-828775D19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4B38-5220-4FC9-980C-895AF0C01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2A86-05B9-4EAC-9134-FCF94AE15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4702-0E2B-4053-B7B1-C51CAACD7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7914-4C46-4166-9527-FB3939AF0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A5469-E032-44B0-9B2C-B6BF456914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D54D-3D3B-481A-B5C1-EA4ABCE98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5ED7-E067-474B-9774-231A73F30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E6F3-A19A-409B-895B-300C9B665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55EB-3462-4170-81B1-1717E52B1B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80AEA-08A0-476C-97D4-7C7053122B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A14B-E06E-4FBC-8493-E2727CB32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DDF49-1D39-4100-B34A-DF825B663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CF844-F77E-4021-917D-ECF66DFD6B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12AB9-6C63-4DC0-A0EC-9FADE21D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76280" y="685800"/>
            <a:ext cx="81914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ROM THE PLOTS / STARS, IDENTIFY THESE FILMS WITH "BIG" IN THE TIT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26960" y="761760"/>
            <a:ext cx="8290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, OWEN WILSON, AND STEVE MARTIN ARE COMPETING BIRDWATCH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230040" y="762120"/>
            <a:ext cx="868212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URT RUSSELL USES MARTIAL ARTS TO RESCUE KIM CATTRALL FROM AN ANCIENT SORCERER IN AN ETHNIC NEIGHBORHOOD OF SAN FRANCIS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3"/>
          <p:cNvSpPr/>
          <p:nvPr/>
        </p:nvSpPr>
        <p:spPr>
          <a:xfrm>
            <a:off x="1066680" y="495288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CH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0120" y="762120"/>
            <a:ext cx="848376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N CLOSE, WILLIAM HURT, JEFF GOLDBLUM, KEVIN KLINE, AND OTHERS REUNITE AFTER THEIR FRIEND KILLS HIMSELF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DAD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1312920" y="762120"/>
            <a:ext cx="65181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ADOPTS A KID WHO APPEARS ON HIS DOORSTEP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LEBOWS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331920" y="762120"/>
            <a:ext cx="8480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FF BRIDGES PLAYS A SLACKER BOWLER WHO IS MISTAKEN FOR A M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3"/>
          <p:cNvSpPr/>
          <p:nvPr/>
        </p:nvSpPr>
        <p:spPr>
          <a:xfrm>
            <a:off x="343080" y="4952880"/>
            <a:ext cx="8458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EE–WEE'S  BIG  ADVEN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"/>
          <p:cNvSpPr/>
          <p:nvPr/>
        </p:nvSpPr>
        <p:spPr>
          <a:xfrm>
            <a:off x="696960" y="762120"/>
            <a:ext cx="7750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REUBENS SEARCHES NATIONWIDE FOR HIS STOLEN BICYC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EAS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"/>
          <p:cNvSpPr/>
          <p:nvPr/>
        </p:nvSpPr>
        <p:spPr>
          <a:xfrm>
            <a:off x="843120" y="762120"/>
            <a:ext cx="7457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ORLEANS COP DENNIS QUAID AND DISTRICT ATTORNEY ELLEN BARKIN SOLVE A MURD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SHO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, STEVE CARELL, RYAN GOSLING, AND BRAD PITT ILLUSTRATE HOW THE STOCK MARKET CRASH OCCURRED IN 2008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SLEE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525600" y="762120"/>
            <a:ext cx="80913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MITCHUM (PLAYING DETECTIVE PHILIP MARLOWE) IS HIRED BY JIMMY STEWART TO FIND OUT WHO IS BLACKMAILING HI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15440" y="762120"/>
            <a:ext cx="8310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GLENN CLOSE, WILLIAM HURT, JEFF GOLDBLUM, KEVIN KLINE, AND OTHERS REUNITE AFTER THEIR FRIEND KILLS HIMSELF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53352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ITTLE  BIG  M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790560" y="762120"/>
            <a:ext cx="756288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STIN HOFFMAN, RAISED BY THE CHEYENNE AFTER HIS PIONEER PARENTS ARE KILLED, TELLS THE STORY OF HIS 120-YEAR LIF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3"/>
          <p:cNvSpPr/>
          <p:nvPr/>
        </p:nvSpPr>
        <p:spPr>
          <a:xfrm>
            <a:off x="380880" y="4952880"/>
            <a:ext cx="8382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BIG  YE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504720" y="762120"/>
            <a:ext cx="8134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ACK BLACK, OWEN WILSON, AND STEVE MARTIN ARE COMPETING BIRDWATCH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IG  TROUBLE  IN  LITTLE  CHI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210960" y="762120"/>
            <a:ext cx="8722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URT RUSSELL USES MARTIAL ARTS TO RESCUE KIM CATTRALL FROM AN ANCIENT SORCERER IN AN ETHNIC NEIGHBORHOOD OF SAN FRANCISCO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305000" y="761760"/>
            <a:ext cx="653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DAM SANDLER ADOPTS A KID WHO APPEARS ON HIS DOORSTEP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2"/>
          <p:cNvSpPr/>
          <p:nvPr/>
        </p:nvSpPr>
        <p:spPr>
          <a:xfrm>
            <a:off x="338040" y="762120"/>
            <a:ext cx="84679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JEFF BRIDGES PLAYS A SLACKER BOWLER WHO IS MISTAKEN FOR A MILLIONAI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68160" y="762120"/>
            <a:ext cx="7807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AUL REUBENS SEARCHES NATIONWIDE FOR HIS STOLEN BICYC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909720" y="762120"/>
            <a:ext cx="73231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W ORLEANS COP DENNIS QUAID AND DISTRICT ATTORNEY ELLEN BARKIN SOLVE A MURDE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62040" y="761760"/>
            <a:ext cx="7819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HRISTIAN BALE, STEVE CARELL, RYAN GOSLING, AND BRAD PITT ILLUSTRATE HOW THE STOCK MARKET CRASH OCCURRED IN 2008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87360" y="761760"/>
            <a:ext cx="8367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OBERT MITCHUM (PLAYING DETECTIVE PHILIP MARLOWE) IS HIRED BY JIMMY STEWART TO FIND OUT WHO IS BLACKMAILING HIM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43040" y="761760"/>
            <a:ext cx="7657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STIN HOFFMAN, RAISED BY THE CHEYENNE AFTER HIS PIONEER PARENTS ARE KILLED, TELLS THE STORY OF HIS 120-YEAR LIF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9-26T01:21:25Z</dcterms:created>
  <dc:creator>Jennifer Budzinski</dc:creator>
  <dc:description/>
  <dc:language>en-US</dc:language>
  <cp:lastModifiedBy>Erich Friedman</cp:lastModifiedBy>
  <dcterms:modified xsi:type="dcterms:W3CDTF">2022-05-09T23:55:04Z</dcterms:modified>
  <cp:revision>389</cp:revision>
  <dc:subject/>
  <dc:title>Slide 1</dc:title>
</cp:coreProperties>
</file>