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90D-1D19-4350-BC61-328056FF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09CE-04A4-4C35-8115-9E2B5050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27F-5DBB-4EE0-A05A-E8DD5D51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16B-6445-4FD4-87EE-C02619B2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AD7-9997-490B-86A3-AE3FB74B4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C44E-72EB-4928-8B05-D5CF1F22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2EB2-8935-45F7-8BD7-558D144F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25F-5230-4F3F-9115-E4423B42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823-CF45-4AE8-8861-DDB3CBCA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A9EF-C7AA-4399-A2DF-9580DC27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968-56AF-4038-93B4-4C4BFA13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7D2-4F7A-472B-8B88-CAD77453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102-E9E8-4142-B37E-D53BA9EC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4649-2164-4920-BB1A-C7B042BB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BB4-69CD-47DC-A50D-5B9FB5A7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46C-23D3-4313-94F2-647F0033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0318-7971-4B26-BBDF-77AE66FF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CEB-6867-4D2A-8180-0A18A88F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731-22E4-405C-B70A-33C25E11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BF8B-5515-4D2B-B554-2D170404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C470-B1E2-4108-991A-184049CD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456-D099-4D55-9BE6-ADA0507F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9C4-E0FA-4F1E-B0CB-5F70CE00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68580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THE PLOTS / STARS, IDENTIFY THESE FILMS WITH "BIG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6960" y="761760"/>
            <a:ext cx="829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, OWEN WILSON, AND STEVE MARTIN ARE COMPETING BIRDWATC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0040" y="762120"/>
            <a:ext cx="8682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URT RUSSELL USES MARTIAL ARTS TO RESCUE KIM CATTRALL FROM AN ANCIENT SORCERER IN AN ETHNIC NEIGHBORHOOD OF SAN FRANCIS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0120" y="762120"/>
            <a:ext cx="8483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N CLOSE, WILLIAM HURT, JEFF GOLDBLUM, KEVIN KLINE, AND OTHERS REUNITE AFTER THEIR FRIEND KILLS HIM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12920" y="762120"/>
            <a:ext cx="651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ADOPTS A KID WHO APPEARS ON HIS DOORST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LEBOW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FF BRIDGES PLAYS A SLACKER BOWLER WHO IS MISTAKEN FOR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–WEE'S  BIG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6960" y="762120"/>
            <a:ext cx="775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UBENS SEARCHES NATIONWIDE FOR HIS STOLEN BI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ORLEANS COP DENNIS QUAID AND DISTRICT ATTORNEY ELLEN BARKIN SOLVE A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, STEVE CARELL, RYAN GOSLING, AND BRAD PITT ILLUSTRATE HOW THE STOCK MARKET CRASH OCCURRE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5600" y="762120"/>
            <a:ext cx="80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MITCHUM (PLAYING DETECTIVE PHILIP MARLOWE) IS HIRED BY JIMMY STEWART TO FIND OUT WHO IS BLACKMAILING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N CLOSE, WILLIAM HURT, JEFF GOLDBLUM, KEVIN KLINE, AND OTHERS REUNITE AFTER THEIR FRIEND KILLS HIM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BIG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0560" y="76212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STIN HOFFMAN, RAISED BY THE CHEYENNE AFTER HIS PIONEER PARENTS ARE KILLED, TELLS THE STORY OF HIS 120-YEAR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, OWEN WILSON, AND STEVE MARTIN ARE COMPETING BIRDWAT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TROUBLE  IN  LITTLE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URT RUSSELL USES MARTIAL ARTS TO RESCUE KIM CATTRALL FROM AN ANCIENT SORCERER IN AN ETHNIC NEIGHBORHOOD OF SAN FRANCIS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ADOPTS A KID WHO APPEARS ON HIS DOORST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8040" y="762120"/>
            <a:ext cx="846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FF BRIDGES PLAYS A SLACKER BOWLER WHO IS MISTAKEN FOR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UBENS SEARCHES NATIONWIDE FOR HIS STOLEN BI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ORLEANS COP DENNIS QUAID AND DISTRICT ATTORNEY ELLEN BARKIN SOLVE A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, STEVE CARELL, RYAN GOSLING, AND BRAD PITT ILLUSTRATE HOW THE STOCK MARKET CRASH OCCURRE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MITCHUM (PLAYING DETECTIVE PHILIP MARLOWE) IS HIRED BY JIMMY STEWART TO FIND OUT WHO IS BLACKMAILING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STIN HOFFMAN, RAISED BY THE CHEYENNE AFTER HIS PIONEER PARENTS ARE KILLED, TELLS THE STORY OF HIS 120-YEAR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9T23:55:04Z</dcterms:modified>
  <cp:revision>389</cp:revision>
  <dc:subject/>
  <dc:title>Slide 1</dc:title>
</cp:coreProperties>
</file>