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FC3-D1B8-47B6-ACCE-E3EFB493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9BE-1680-4E97-9560-533E1844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B0AA-1CDD-49F2-BB09-22C6D1F1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794-E0A0-4DCE-864C-3A02A580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9C0-BFEC-47D1-9CD5-2238042F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F85-861E-42A7-809C-630B9468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790-F964-4A43-8401-A9B4C84F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2D3-55F0-4FCF-8123-84B70841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DB6-75FC-4FE8-908D-0827C59C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1FCB-00E0-4473-A46E-7A88156E5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4770-5CED-4FF5-995E-5244F27C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7FE-6D7F-4D58-946A-51E5D14F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CCB-9024-4974-8110-4C6F13CF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4AEF-858F-450F-BD92-C32576D0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A3A-E346-4123-B230-C69D4C49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868E-6A8D-4B4B-A4F4-B9A3B6D7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A5F-5F9D-41AF-ABBC-87117649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B86-62BF-479E-94F2-C44315548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4570-1C31-421A-8582-F71780DF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341-E7F3-42A6-AB61-93BD085B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6E87-598C-4E83-A8A6-C79B39D3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77B6-CF2C-45F2-8273-C14631DA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698B-1757-407F-AEFF-6EFAD5A7C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LMS DID THESE QUOTES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ASTIC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LL ALWAYS HAVE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THE  WATER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DON'T UNDERSTAND!           I COULDA HAD CLASS.  I COULDA BEEN A CONTENDER.  I COULD'VE BEEN SOMEBO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DDEN 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 AHEAD, MAKE MY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L  HAND  L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WE'VE GOT HERE IS FAILURE TO COMMUNIC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CALYPSE 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838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THE SMELL OF NAPALM IN THE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ZEN  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EB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543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OW ME THE MON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HARRY  MET  S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752480" y="762120"/>
            <a:ext cx="56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HAVE WHAT SHE'S HAV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DON'T UNDERSTAND!          I COULDA HAD CLASS.  I COULDA BEEN A CONTENDER.  I COULD'VE BEEN SOMEBO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DU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AST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68580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LL ALWAYS HAVE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 AHEAD, MAKE MY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WE'VE GOT HERE IS FAILURE TO COMMUNIC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THE SMELL OF NAPALM IN THE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EB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OW ME THE MON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HAVE WHAT SHE'S HAV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8:20:58Z</dcterms:created>
  <dc:creator>Jennifer Budzinski</dc:creator>
  <dc:description/>
  <dc:language>en-US</dc:language>
  <cp:lastModifiedBy>Erich Friedman</cp:lastModifiedBy>
  <dcterms:modified xsi:type="dcterms:W3CDTF">2022-10-31T16:48:42Z</dcterms:modified>
  <cp:revision>334</cp:revision>
  <dc:subject/>
  <dc:title>Slide 1</dc:title>
</cp:coreProperties>
</file>