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A3B5-CF18-459A-8FCC-AB2DE82EB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6B81-CEE4-429D-B3AE-10A1EC6A4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9932-1D88-423D-9EE9-14F83486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4542-8A69-4411-9E6D-5D15CD64B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D45F4-5951-4A2A-9A91-99EE57A17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38DA-968A-4120-AB4A-21C50E649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456A-2516-41C8-880A-C673C7392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41C6-296D-448B-BF61-F2020C8AB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32C9-2089-408D-AA02-ADD83BA71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B520-8729-4EC7-B8D0-52BB6D9E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ACD9-9760-4035-97FB-59000C1B6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9CE6-8124-44DA-8893-304D64041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9AA4-A818-4CB8-A4A1-551DF071A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7D8D-5734-4EE0-BB7B-72622300E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E0A3-6B4A-4522-883B-BFFCBE47E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6081-C719-491B-8E59-4E2E9F5D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5C82-4619-4B37-B4B7-8AAD42CEF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F412-D70D-458A-92B8-B648152C6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5AEC-693A-4B06-A3F3-ACCCDB2DF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71D0-2A62-47AF-9F04-58CACEE66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2982-E4B6-4ED7-873B-419F32B23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AE9F-2203-4972-B056-16D50B58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86C8-45D0-4F24-B64C-FA0AF97FF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19320" y="9903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FILMS DID THESE QUOTES COM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ASTIC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'LL ALWAYS HAVE PAR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  THE  WATERFRO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DON'T UNDERSTAND!           I COULDA HAD CLASS.  I COULDA BEEN A CONTENDER.  I COULD'VE BEEN SOMEBO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DDEN  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 AHEAD, MAKE MY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L  HAND  L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 WE'VE GOT HERE IS FAILURE TO COMMUNIC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OCALYPSE 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5800" y="838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LOVE THE SMELL OF NAPALM IN THE MORN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ZEN  K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SEBU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MAGU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543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OW ME THE MONE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EN  HARRY  MET  SA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752480" y="762120"/>
            <a:ext cx="56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HAVE WHAT SHE'S HAV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DON'T UNDERSTAND!          I COULDA HAD CLASS.  I COULDA BEEN A CONTENDER.  I COULD'VE BEEN SOMEBO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85800" y="68580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BE BA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ADU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PLASTIC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ABLAN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685800"/>
            <a:ext cx="8077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E'LL ALWAYS HAVE PAR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 AHEAD, MAKE MY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 WE'VE GOT HERE IS FAILURE TO COMMUNIC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LOVE THE SMELL OF NAPALM IN THE MORN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7617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SEBU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HOW ME THE MONE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HAVE WHAT SHE'S HAV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'LL BE BAC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18:20:58Z</dcterms:created>
  <dc:creator>Jennifer Budzinski</dc:creator>
  <dc:description/>
  <dc:language>en-US</dc:language>
  <cp:lastModifiedBy>Erich Friedman</cp:lastModifiedBy>
  <dcterms:modified xsi:type="dcterms:W3CDTF">2022-10-31T16:48:42Z</dcterms:modified>
  <cp:revision>334</cp:revision>
  <dc:subject/>
  <dc:title>Slide 1</dc:title>
</cp:coreProperties>
</file>