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4630-BFC3-4538-807A-859FC82C9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7879-BD5C-4DD6-8224-98994EB0B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8A88-2681-402D-AB9D-E8B79A94E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73E4-3F44-4B0E-AFA4-F61C927CF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3360-D269-4588-B393-346E9F0ED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29A3-B1CD-483E-82AC-92D34A20C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D052-C67B-4BED-BC80-48C94AD90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B0DD-6725-4065-907C-D52D81C8C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120D-F5C0-44C4-BC38-81D59F6D3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A250-8829-4BC6-97AA-0251B9F3A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4078-A9A1-4001-B032-DB0087874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4EC5-4529-492C-B8B0-55DF79219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D7D8-412D-4F30-8E71-BE65745EF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D3BF-137D-4BED-AF9A-0BF5F6196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D1EB-240C-47F6-955A-925E2D4F9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784E-EF45-4FF7-A49E-DBE442F10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B714-9B37-4F2D-A3BD-9CA2BD3F1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C711-B5DC-495B-919A-84DC0F1A5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074C-A4B2-441B-9BA4-D4D3D81A0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88FA-99CD-409E-9ECC-64AB680BA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6B95-ED02-4180-BBEA-D79BDCB35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418E-C7B7-4E2A-84A6-70CE3EA24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4B23-F0A6-4135-B067-9BDA3595C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62120" y="1333440"/>
            <a:ext cx="76197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ANGELINA JOLIE MOVIES FROM THEIR POS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MV5BMjAyNTUyNjkzNl5BMl5BanBnXkFtZTgwMTk3ODYxMTE@._V1_.jpg"/>
          <p:cNvPicPr/>
          <p:nvPr/>
        </p:nvPicPr>
        <p:blipFill>
          <a:blip r:embed="rId1"/>
          <a:stretch/>
        </p:blipFill>
        <p:spPr>
          <a:xfrm>
            <a:off x="2895480" y="1219320"/>
            <a:ext cx="3429000" cy="37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4eaeb1733fc95c1c0e6a1d98d5bdebf5.jpg"/>
          <p:cNvPicPr/>
          <p:nvPr/>
        </p:nvPicPr>
        <p:blipFill>
          <a:blip r:embed="rId1"/>
          <a:stretch/>
        </p:blipFill>
        <p:spPr>
          <a:xfrm>
            <a:off x="2819520" y="1219320"/>
            <a:ext cx="3581280" cy="37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6188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B  RAI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tomb raider movie posters compared alicia vikander angelina jolie.jpg"/>
          <p:cNvPicPr/>
          <p:nvPr/>
        </p:nvPicPr>
        <p:blipFill>
          <a:blip r:embed="rId1"/>
          <a:stretch/>
        </p:blipFill>
        <p:spPr>
          <a:xfrm>
            <a:off x="2913120" y="1279440"/>
            <a:ext cx="33177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R.  AND  MRS.  SM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d7afabafd7d9ac71a6afec0a8ee0eb9e.jpg"/>
          <p:cNvPicPr/>
          <p:nvPr/>
        </p:nvPicPr>
        <p:blipFill>
          <a:blip r:embed="rId1"/>
          <a:stretch/>
        </p:blipFill>
        <p:spPr>
          <a:xfrm>
            <a:off x="3535200" y="1219320"/>
            <a:ext cx="20736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MOV_7c3f73e9_b.jpg"/>
          <p:cNvPicPr/>
          <p:nvPr/>
        </p:nvPicPr>
        <p:blipFill>
          <a:blip r:embed="rId1"/>
          <a:stretch/>
        </p:blipFill>
        <p:spPr>
          <a:xfrm>
            <a:off x="2708280" y="1295280"/>
            <a:ext cx="37260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N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angelina-jolie-wanted-movie-poster-01.jpg"/>
          <p:cNvPicPr/>
          <p:nvPr/>
        </p:nvPicPr>
        <p:blipFill>
          <a:blip r:embed="rId1"/>
          <a:stretch/>
        </p:blipFill>
        <p:spPr>
          <a:xfrm>
            <a:off x="2971800" y="1295280"/>
            <a:ext cx="32418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68360" y="4962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RL, INTERRUP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936full-girl-interrupted-poster.jpg"/>
          <p:cNvPicPr/>
          <p:nvPr/>
        </p:nvPicPr>
        <p:blipFill>
          <a:blip r:embed="rId1"/>
          <a:stretch/>
        </p:blipFill>
        <p:spPr>
          <a:xfrm>
            <a:off x="2786040" y="1349280"/>
            <a:ext cx="35719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Y  THE  S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bythesea1.jpg"/>
          <p:cNvPicPr/>
          <p:nvPr/>
        </p:nvPicPr>
        <p:blipFill>
          <a:blip r:embed="rId1"/>
          <a:stretch/>
        </p:blipFill>
        <p:spPr>
          <a:xfrm>
            <a:off x="2666880" y="1219320"/>
            <a:ext cx="3886200" cy="360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NG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MPW-50098.jpg"/>
          <p:cNvPicPr/>
          <p:nvPr/>
        </p:nvPicPr>
        <p:blipFill>
          <a:blip r:embed="rId1"/>
          <a:stretch/>
        </p:blipFill>
        <p:spPr>
          <a:xfrm>
            <a:off x="3192480" y="1219320"/>
            <a:ext cx="27590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tomb raider movie posters compared alicia vikander angelina jolie.jpg"/>
          <p:cNvPicPr/>
          <p:nvPr/>
        </p:nvPicPr>
        <p:blipFill>
          <a:blip r:embed="rId1"/>
          <a:stretch/>
        </p:blipFill>
        <p:spPr>
          <a:xfrm>
            <a:off x="2843280" y="1273320"/>
            <a:ext cx="34560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49528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NE  IN  60 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maxresdefault.jpg"/>
          <p:cNvPicPr/>
          <p:nvPr/>
        </p:nvPicPr>
        <p:blipFill>
          <a:blip r:embed="rId1"/>
          <a:stretch/>
        </p:blipFill>
        <p:spPr>
          <a:xfrm>
            <a:off x="2171880" y="1268280"/>
            <a:ext cx="4800600" cy="368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ONE  COLL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MV5BMjAyNTUyNjkzNl5BMl5BanBnXkFtZTgwMTk3ODYxMTE@._V1_.jpg"/>
          <p:cNvPicPr/>
          <p:nvPr/>
        </p:nvPicPr>
        <p:blipFill>
          <a:blip r:embed="rId1"/>
          <a:stretch/>
        </p:blipFill>
        <p:spPr>
          <a:xfrm>
            <a:off x="2878200" y="1297080"/>
            <a:ext cx="33876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707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LEFIC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4eaeb1733fc95c1c0e6a1d98d5bdebf5.jpg"/>
          <p:cNvPicPr/>
          <p:nvPr/>
        </p:nvPicPr>
        <p:blipFill>
          <a:blip r:embed="rId1"/>
          <a:stretch/>
        </p:blipFill>
        <p:spPr>
          <a:xfrm>
            <a:off x="2830680" y="1295280"/>
            <a:ext cx="34826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d7afabafd7d9ac71a6afec0a8ee0eb9e.jpg"/>
          <p:cNvPicPr/>
          <p:nvPr/>
        </p:nvPicPr>
        <p:blipFill>
          <a:blip r:embed="rId1"/>
          <a:stretch/>
        </p:blipFill>
        <p:spPr>
          <a:xfrm>
            <a:off x="3490920" y="1244520"/>
            <a:ext cx="216216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MOV_7c3f73e9_b.jpg"/>
          <p:cNvPicPr/>
          <p:nvPr/>
        </p:nvPicPr>
        <p:blipFill>
          <a:blip r:embed="rId1"/>
          <a:stretch/>
        </p:blipFill>
        <p:spPr>
          <a:xfrm>
            <a:off x="2743200" y="1295280"/>
            <a:ext cx="37260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angelina-jolie-wanted-movie-poster-01.jpg"/>
          <p:cNvPicPr/>
          <p:nvPr/>
        </p:nvPicPr>
        <p:blipFill>
          <a:blip r:embed="rId1"/>
          <a:stretch/>
        </p:blipFill>
        <p:spPr>
          <a:xfrm>
            <a:off x="2971800" y="1295280"/>
            <a:ext cx="32418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936full-girl-interrupted-poster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bythesea1.jpg"/>
          <p:cNvPicPr/>
          <p:nvPr/>
        </p:nvPicPr>
        <p:blipFill>
          <a:blip r:embed="rId1"/>
          <a:stretch/>
        </p:blipFill>
        <p:spPr>
          <a:xfrm>
            <a:off x="2666880" y="1295280"/>
            <a:ext cx="3962520" cy="36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MPW-50098.jpg"/>
          <p:cNvPicPr/>
          <p:nvPr/>
        </p:nvPicPr>
        <p:blipFill>
          <a:blip r:embed="rId1"/>
          <a:stretch/>
        </p:blipFill>
        <p:spPr>
          <a:xfrm>
            <a:off x="3162240" y="1295280"/>
            <a:ext cx="2819520" cy="373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maxresdefault.jpg"/>
          <p:cNvPicPr/>
          <p:nvPr/>
        </p:nvPicPr>
        <p:blipFill>
          <a:blip r:embed="rId1"/>
          <a:stretch/>
        </p:blipFill>
        <p:spPr>
          <a:xfrm>
            <a:off x="2139840" y="1295280"/>
            <a:ext cx="48643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9T12:53:27Z</dcterms:created>
  <dc:creator>Jennifer Budzinski</dc:creator>
  <dc:description/>
  <dc:language>en-US</dc:language>
  <cp:lastModifiedBy>Erich Friedman</cp:lastModifiedBy>
  <dcterms:modified xsi:type="dcterms:W3CDTF">2020-08-30T14:45:59Z</dcterms:modified>
  <cp:revision>289</cp:revision>
  <dc:subject/>
  <dc:title>Slide 1</dc:title>
</cp:coreProperties>
</file>