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CD41-AEBF-4A22-8F8D-71001956F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9F78-ED89-4A1F-9E09-CB45165DF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7561-CF7D-4108-9C2A-320E5FDBF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F60E-80DD-43D0-A289-A8FB8B5FF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5615-310F-4240-9343-DE60AB29F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1753-E8AF-40C1-8C37-6C0A30E74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F00C-3407-4921-A441-CD1A130CB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CF44-D2D7-4491-912A-447AD01F8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A200-A748-48ED-A0F4-2A5D169D5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EB0C-E7B6-4C4B-95BC-32BA1A9EE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9447-5FA9-4069-BA7C-D64414681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C70D-434C-4E86-A6CE-51119DB8E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E905-0E5B-4844-B033-D54D9D598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2946-7C97-4CD4-99D5-DF135AF3F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1E4F-4863-4F7A-B1C0-BEBEAA3E0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3649-459D-48FB-A6B8-4680C8312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5AD7-7520-462A-B624-F2D085E71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38B5-D07D-4334-9F1D-A3D16CD7F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F839-BA39-4DC1-917A-C6DE18705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D019-A0A2-4366-86D0-51145FCCC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416E-12D8-4B44-89BF-3FAFFB492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8D4D-E151-4345-915E-F42B14A18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208B-DD8A-4074-A6E8-7B4DB2E71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33344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ANGELINA JOLIE MOVIES FROM THEIR PO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MV5BMjAyNTUyNjkzNl5BMl5BanBnXkFtZTgwMTk3ODYxMTE@._V1_.jpg"/>
          <p:cNvPicPr/>
          <p:nvPr/>
        </p:nvPicPr>
        <p:blipFill>
          <a:blip r:embed="rId1"/>
          <a:stretch/>
        </p:blipFill>
        <p:spPr>
          <a:xfrm>
            <a:off x="2895480" y="1219320"/>
            <a:ext cx="3429000" cy="37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4eaeb1733fc95c1c0e6a1d98d5bdebf5.jpg"/>
          <p:cNvPicPr/>
          <p:nvPr/>
        </p:nvPicPr>
        <p:blipFill>
          <a:blip r:embed="rId1"/>
          <a:stretch/>
        </p:blipFill>
        <p:spPr>
          <a:xfrm>
            <a:off x="2819520" y="1219320"/>
            <a:ext cx="3581280" cy="37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6188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B  RA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tomb raider movie posters compared alicia vikander angelina jolie.jpg"/>
          <p:cNvPicPr/>
          <p:nvPr/>
        </p:nvPicPr>
        <p:blipFill>
          <a:blip r:embed="rId1"/>
          <a:stretch/>
        </p:blipFill>
        <p:spPr>
          <a:xfrm>
            <a:off x="2913120" y="1279440"/>
            <a:ext cx="33177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R.  AND  MRS. 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d7afabafd7d9ac71a6afec0a8ee0eb9e.jpg"/>
          <p:cNvPicPr/>
          <p:nvPr/>
        </p:nvPicPr>
        <p:blipFill>
          <a:blip r:embed="rId1"/>
          <a:stretch/>
        </p:blipFill>
        <p:spPr>
          <a:xfrm>
            <a:off x="3535200" y="1219320"/>
            <a:ext cx="2073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MOV_7c3f73e9_b.jpg"/>
          <p:cNvPicPr/>
          <p:nvPr/>
        </p:nvPicPr>
        <p:blipFill>
          <a:blip r:embed="rId1"/>
          <a:stretch/>
        </p:blipFill>
        <p:spPr>
          <a:xfrm>
            <a:off x="2708280" y="1295280"/>
            <a:ext cx="37260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N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angelina-jolie-wanted-movie-poster-01.jpg"/>
          <p:cNvPicPr/>
          <p:nvPr/>
        </p:nvPicPr>
        <p:blipFill>
          <a:blip r:embed="rId1"/>
          <a:stretch/>
        </p:blipFill>
        <p:spPr>
          <a:xfrm>
            <a:off x="2971800" y="1295280"/>
            <a:ext cx="32418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68360" y="4962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RL, INTERRUP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936full-girl-interrupted-poster.jpg"/>
          <p:cNvPicPr/>
          <p:nvPr/>
        </p:nvPicPr>
        <p:blipFill>
          <a:blip r:embed="rId1"/>
          <a:stretch/>
        </p:blipFill>
        <p:spPr>
          <a:xfrm>
            <a:off x="2786040" y="1349280"/>
            <a:ext cx="35719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 THE  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bythesea1.jpg"/>
          <p:cNvPicPr/>
          <p:nvPr/>
        </p:nvPicPr>
        <p:blipFill>
          <a:blip r:embed="rId1"/>
          <a:stretch/>
        </p:blipFill>
        <p:spPr>
          <a:xfrm>
            <a:off x="2666880" y="1219320"/>
            <a:ext cx="3886200" cy="36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NG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MPW-50098.jpg"/>
          <p:cNvPicPr/>
          <p:nvPr/>
        </p:nvPicPr>
        <p:blipFill>
          <a:blip r:embed="rId1"/>
          <a:stretch/>
        </p:blipFill>
        <p:spPr>
          <a:xfrm>
            <a:off x="3192480" y="1219320"/>
            <a:ext cx="27590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tomb raider movie posters compared alicia vikander angelina jolie.jpg"/>
          <p:cNvPicPr/>
          <p:nvPr/>
        </p:nvPicPr>
        <p:blipFill>
          <a:blip r:embed="rId1"/>
          <a:stretch/>
        </p:blipFill>
        <p:spPr>
          <a:xfrm>
            <a:off x="2843280" y="1273320"/>
            <a:ext cx="3456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4952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NE  IN  60 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maxresdefault.jpg"/>
          <p:cNvPicPr/>
          <p:nvPr/>
        </p:nvPicPr>
        <p:blipFill>
          <a:blip r:embed="rId1"/>
          <a:stretch/>
        </p:blipFill>
        <p:spPr>
          <a:xfrm>
            <a:off x="2171880" y="1268280"/>
            <a:ext cx="4800600" cy="368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ONE  COLL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MV5BMjAyNTUyNjkzNl5BMl5BanBnXkFtZTgwMTk3ODYxMTE@._V1_.jpg"/>
          <p:cNvPicPr/>
          <p:nvPr/>
        </p:nvPicPr>
        <p:blipFill>
          <a:blip r:embed="rId1"/>
          <a:stretch/>
        </p:blipFill>
        <p:spPr>
          <a:xfrm>
            <a:off x="2878200" y="1297080"/>
            <a:ext cx="338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EFIC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4eaeb1733fc95c1c0e6a1d98d5bdebf5.jpg"/>
          <p:cNvPicPr/>
          <p:nvPr/>
        </p:nvPicPr>
        <p:blipFill>
          <a:blip r:embed="rId1"/>
          <a:stretch/>
        </p:blipFill>
        <p:spPr>
          <a:xfrm>
            <a:off x="2830680" y="1295280"/>
            <a:ext cx="34826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d7afabafd7d9ac71a6afec0a8ee0eb9e.jpg"/>
          <p:cNvPicPr/>
          <p:nvPr/>
        </p:nvPicPr>
        <p:blipFill>
          <a:blip r:embed="rId1"/>
          <a:stretch/>
        </p:blipFill>
        <p:spPr>
          <a:xfrm>
            <a:off x="3490920" y="1244520"/>
            <a:ext cx="216216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MOV_7c3f73e9_b.jpg"/>
          <p:cNvPicPr/>
          <p:nvPr/>
        </p:nvPicPr>
        <p:blipFill>
          <a:blip r:embed="rId1"/>
          <a:stretch/>
        </p:blipFill>
        <p:spPr>
          <a:xfrm>
            <a:off x="2743200" y="1295280"/>
            <a:ext cx="37260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angelina-jolie-wanted-movie-poster-01.jpg"/>
          <p:cNvPicPr/>
          <p:nvPr/>
        </p:nvPicPr>
        <p:blipFill>
          <a:blip r:embed="rId1"/>
          <a:stretch/>
        </p:blipFill>
        <p:spPr>
          <a:xfrm>
            <a:off x="2971800" y="1295280"/>
            <a:ext cx="32418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936full-girl-interrupted-poster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bythesea1.jpg"/>
          <p:cNvPicPr/>
          <p:nvPr/>
        </p:nvPicPr>
        <p:blipFill>
          <a:blip r:embed="rId1"/>
          <a:stretch/>
        </p:blipFill>
        <p:spPr>
          <a:xfrm>
            <a:off x="2666880" y="1295280"/>
            <a:ext cx="3962520" cy="36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MPW-50098.jpg"/>
          <p:cNvPicPr/>
          <p:nvPr/>
        </p:nvPicPr>
        <p:blipFill>
          <a:blip r:embed="rId1"/>
          <a:stretch/>
        </p:blipFill>
        <p:spPr>
          <a:xfrm>
            <a:off x="3162240" y="1295280"/>
            <a:ext cx="2819520" cy="37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maxresdefault.jpg"/>
          <p:cNvPicPr/>
          <p:nvPr/>
        </p:nvPicPr>
        <p:blipFill>
          <a:blip r:embed="rId1"/>
          <a:stretch/>
        </p:blipFill>
        <p:spPr>
          <a:xfrm>
            <a:off x="2139840" y="1295280"/>
            <a:ext cx="48643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9T12:53:27Z</dcterms:created>
  <dc:creator>Jennifer Budzinski</dc:creator>
  <dc:description/>
  <dc:language>en-US</dc:language>
  <cp:lastModifiedBy>Erich Friedman</cp:lastModifiedBy>
  <dcterms:modified xsi:type="dcterms:W3CDTF">2020-08-30T14:45:59Z</dcterms:modified>
  <cp:revision>289</cp:revision>
  <dc:subject/>
  <dc:title>Slide 1</dc:title>
</cp:coreProperties>
</file>