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9261-5A3C-4007-86B0-404625AE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2BC-BC42-4B5A-921D-0A733712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069-52D9-4350-A045-FDCC8E2A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722-881B-4006-B9B0-69B17A8B9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E3C3-173B-4688-9978-2181C0704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B40-49AA-4A0C-8DF7-16DB7846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410E-B218-4685-8CD2-8FA729CF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4D20-4BD3-4C57-890A-6FCE0C26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693-05E9-4BED-9F7C-DA5F3A965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0843-8C92-4C62-98FD-ABA5782D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297B-4E79-467A-92F4-D26D58DF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35A-7548-438A-9F37-E32C6D33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2A5-AC6B-4337-B24E-01C0EE81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E5F-E8E7-4C89-A43E-D2031970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70B1-B5AC-49C6-9733-34A10499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8A1E-1E37-41B6-B361-6584C47E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BB0A-4117-48C2-9019-76C13C59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996-D65B-4AA8-A95A-09A19016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0E5-59E3-4EDB-8ED4-BDCA0A96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F59F-A1B3-4147-9213-A8B4D3B7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1BB9-A4F8-486A-ACC7-CD9091E2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D12-C1FF-4899-9D5C-D8659309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4C50-F47F-4D3C-99CB-E8327A18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GELINA JOLIE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290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4eaeb1733fc95c1c0e6a1d98d5bdebf5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188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  RA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913120" y="1279440"/>
            <a:ext cx="331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AND  MRS.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7afabafd7d9ac71a6afec0a8ee0eb9e.jpg"/>
          <p:cNvPicPr/>
          <p:nvPr/>
        </p:nvPicPr>
        <p:blipFill>
          <a:blip r:embed="rId1"/>
          <a:stretch/>
        </p:blipFill>
        <p:spPr>
          <a:xfrm>
            <a:off x="3535200" y="1219320"/>
            <a:ext cx="2073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OV_7c3f73e9_b.jpg"/>
          <p:cNvPicPr/>
          <p:nvPr/>
        </p:nvPicPr>
        <p:blipFill>
          <a:blip r:embed="rId1"/>
          <a:stretch/>
        </p:blipFill>
        <p:spPr>
          <a:xfrm>
            <a:off x="270828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8360" y="4962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, INTERRU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936full-girl-interrupted-poster.jpg"/>
          <p:cNvPicPr/>
          <p:nvPr/>
        </p:nvPicPr>
        <p:blipFill>
          <a:blip r:embed="rId1"/>
          <a:stretch/>
        </p:blipFill>
        <p:spPr>
          <a:xfrm>
            <a:off x="2786040" y="1349280"/>
            <a:ext cx="35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ythesea1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620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G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PW-50098.jpg"/>
          <p:cNvPicPr/>
          <p:nvPr/>
        </p:nvPicPr>
        <p:blipFill>
          <a:blip r:embed="rId1"/>
          <a:stretch/>
        </p:blipFill>
        <p:spPr>
          <a:xfrm>
            <a:off x="3192480" y="1219320"/>
            <a:ext cx="2759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843280" y="1273320"/>
            <a:ext cx="345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IN  60 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xresdefault.jpg"/>
          <p:cNvPicPr/>
          <p:nvPr/>
        </p:nvPicPr>
        <p:blipFill>
          <a:blip r:embed="rId1"/>
          <a:stretch/>
        </p:blipFill>
        <p:spPr>
          <a:xfrm>
            <a:off x="2171880" y="1268280"/>
            <a:ext cx="480060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E  COL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78200" y="1297080"/>
            <a:ext cx="338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EFI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4eaeb1733fc95c1c0e6a1d98d5bdebf5.jpg"/>
          <p:cNvPicPr/>
          <p:nvPr/>
        </p:nvPicPr>
        <p:blipFill>
          <a:blip r:embed="rId1"/>
          <a:stretch/>
        </p:blipFill>
        <p:spPr>
          <a:xfrm>
            <a:off x="2830680" y="1295280"/>
            <a:ext cx="3482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7afabafd7d9ac71a6afec0a8ee0eb9e.jpg"/>
          <p:cNvPicPr/>
          <p:nvPr/>
        </p:nvPicPr>
        <p:blipFill>
          <a:blip r:embed="rId1"/>
          <a:stretch/>
        </p:blipFill>
        <p:spPr>
          <a:xfrm>
            <a:off x="3490920" y="1244520"/>
            <a:ext cx="21621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OV_7c3f73e9_b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936full-girl-interrupted-poster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ythesea1.jpg"/>
          <p:cNvPicPr/>
          <p:nvPr/>
        </p:nvPicPr>
        <p:blipFill>
          <a:blip r:embed="rId1"/>
          <a:stretch/>
        </p:blipFill>
        <p:spPr>
          <a:xfrm>
            <a:off x="2666880" y="1295280"/>
            <a:ext cx="396252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PW-50098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xresdefault.jpg"/>
          <p:cNvPicPr/>
          <p:nvPr/>
        </p:nvPicPr>
        <p:blipFill>
          <a:blip r:embed="rId1"/>
          <a:stretch/>
        </p:blipFill>
        <p:spPr>
          <a:xfrm>
            <a:off x="2139840" y="1295280"/>
            <a:ext cx="486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2:53:27Z</dcterms:created>
  <dc:creator>Jennifer Budzinski</dc:creator>
  <dc:description/>
  <dc:language>en-US</dc:language>
  <cp:lastModifiedBy>Erich Friedman</cp:lastModifiedBy>
  <dcterms:modified xsi:type="dcterms:W3CDTF">2020-08-30T14:45:59Z</dcterms:modified>
  <cp:revision>289</cp:revision>
  <dc:subject/>
  <dc:title>Slide 1</dc:title>
</cp:coreProperties>
</file>