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6CE-164D-437F-8447-6FD0D814D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E987-5D42-4B80-BF5D-CDFF8AA3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156B-3ED1-44B6-BAF9-94204165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04F3-DB20-4960-BF4B-C7C7F36A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063D-BE9C-4D8B-B836-C5995CB2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047E-1470-4735-8225-07FC20646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5D1F-1662-4D01-9A77-DCC6C8BE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D6C4-E75E-4CAE-A3DE-2A3915E4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02DA-6D91-4193-BA57-A63EFB32C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1DC0-0768-4933-A204-09559E9F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7010-F6F0-4E93-A1A8-AF2D0C01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650-FAA3-45A7-AA40-FAB44563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A4F9-FCC5-4DB5-91D9-4136190B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EB4F-E251-4E0E-915A-5A9F32E9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58D7-6E8C-4959-AFE2-3649B562D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11E-A2DF-420C-8D29-74D33950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6BF-2E47-4F41-A816-AD9782742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43B3-BA00-41AC-A1DA-ADE38913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05C5-0260-4616-BAEA-9D177499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CF46-4B69-401D-80D6-9F291C02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4E8D-9A22-4C57-8DE8-C6B29B9C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D93-0F5A-486B-A11D-C2B435A7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E99C-1835-4FD5-9B48-DA38E1FBB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JULIA ROBERTS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closer.jpg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37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wonder.jpg"/>
          <p:cNvPicPr/>
          <p:nvPr/>
        </p:nvPicPr>
        <p:blipFill>
          <a:blip r:embed="rId1"/>
          <a:stretch/>
        </p:blipFill>
        <p:spPr>
          <a:xfrm>
            <a:off x="762120" y="1219320"/>
            <a:ext cx="7588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N  BROCKOV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erin brockovich.jpg"/>
          <p:cNvPicPr/>
          <p:nvPr/>
        </p:nvPicPr>
        <p:blipFill>
          <a:blip r:embed="rId1"/>
          <a:stretch/>
        </p:blipFill>
        <p:spPr>
          <a:xfrm>
            <a:off x="2209680" y="1219320"/>
            <a:ext cx="46706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4784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TTY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pretty-woman.jpg"/>
          <p:cNvPicPr/>
          <p:nvPr/>
        </p:nvPicPr>
        <p:blipFill>
          <a:blip r:embed="rId1"/>
          <a:stretch/>
        </p:blipFill>
        <p:spPr>
          <a:xfrm>
            <a:off x="3352680" y="1219320"/>
            <a:ext cx="2362320" cy="37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AWAY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runaway brid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21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  MAGNO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teel-magnolias.jpg"/>
          <p:cNvPicPr/>
          <p:nvPr/>
        </p:nvPicPr>
        <p:blipFill>
          <a:blip r:embed="rId1"/>
          <a:stretch/>
        </p:blipFill>
        <p:spPr>
          <a:xfrm>
            <a:off x="2590920" y="1219320"/>
            <a:ext cx="40510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TING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NOTTING HILL.jpg"/>
          <p:cNvPicPr/>
          <p:nvPr/>
        </p:nvPicPr>
        <p:blipFill>
          <a:blip r:embed="rId1"/>
          <a:stretch/>
        </p:blipFill>
        <p:spPr>
          <a:xfrm>
            <a:off x="2743200" y="1219320"/>
            <a:ext cx="377676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T  PRA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eat pray love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33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ROR  MI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irror mirror.jpg"/>
          <p:cNvPicPr/>
          <p:nvPr/>
        </p:nvPicPr>
        <p:blipFill>
          <a:blip r:embed="rId1"/>
          <a:stretch/>
        </p:blipFill>
        <p:spPr>
          <a:xfrm>
            <a:off x="2133720" y="12193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erin brockovich.jpg"/>
          <p:cNvPicPr/>
          <p:nvPr/>
        </p:nvPicPr>
        <p:blipFill>
          <a:blip r:embed="rId1"/>
          <a:stretch/>
        </p:blipFill>
        <p:spPr>
          <a:xfrm>
            <a:off x="2209680" y="1219320"/>
            <a:ext cx="4670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BEST  FRIEND'S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y_best_friends_wedding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76360" cy="38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closer.jpg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37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wonder.jpg"/>
          <p:cNvPicPr/>
          <p:nvPr/>
        </p:nvPicPr>
        <p:blipFill>
          <a:blip r:embed="rId1"/>
          <a:stretch/>
        </p:blipFill>
        <p:spPr>
          <a:xfrm>
            <a:off x="762120" y="1219320"/>
            <a:ext cx="75880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pretty-woman.jpg"/>
          <p:cNvPicPr/>
          <p:nvPr/>
        </p:nvPicPr>
        <p:blipFill>
          <a:blip r:embed="rId1"/>
          <a:stretch/>
        </p:blipFill>
        <p:spPr>
          <a:xfrm>
            <a:off x="3352680" y="1219320"/>
            <a:ext cx="2362320" cy="37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runaway brid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21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teel-magnolias.jpg"/>
          <p:cNvPicPr/>
          <p:nvPr/>
        </p:nvPicPr>
        <p:blipFill>
          <a:blip r:embed="rId1"/>
          <a:stretch/>
        </p:blipFill>
        <p:spPr>
          <a:xfrm>
            <a:off x="2590920" y="1219320"/>
            <a:ext cx="4051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NOTTING HILL.jpg"/>
          <p:cNvPicPr/>
          <p:nvPr/>
        </p:nvPicPr>
        <p:blipFill>
          <a:blip r:embed="rId1"/>
          <a:stretch/>
        </p:blipFill>
        <p:spPr>
          <a:xfrm>
            <a:off x="2743200" y="1219320"/>
            <a:ext cx="377676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eat pray love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3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irror mirror.jpg"/>
          <p:cNvPicPr/>
          <p:nvPr/>
        </p:nvPicPr>
        <p:blipFill>
          <a:blip r:embed="rId1"/>
          <a:stretch/>
        </p:blipFill>
        <p:spPr>
          <a:xfrm>
            <a:off x="2133720" y="12193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y_best_friends_wedding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76360" cy="38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14:48:11Z</dcterms:modified>
  <cp:revision>289</cp:revision>
  <dc:subject/>
  <dc:title>Slide 1</dc:title>
</cp:coreProperties>
</file>