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C21E-C35F-4282-AF6D-3EACBE506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87C4-70FD-48D1-A1E9-29F738843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1685-D603-4579-B5F1-3D943283B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D9CC-2A48-4365-9A6D-4B7D235BB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E12D-4662-478C-8157-D4EC78C99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11F6-9459-43D2-9DD4-F2ED3893D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BE8C-AE3C-474F-9891-CD1FB1B68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3B51-C270-4551-AC05-B30D7C7CF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0E30-421D-4BB2-965E-149C8F6E8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4F23-520A-4890-861C-371EC0301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30DB-3E49-4019-8C53-DD860C8DA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2011-A485-4ECE-8033-5B88AFB5F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207B-82E6-4850-A982-4967C4B27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1366-4C7A-4319-B3B2-AAF183FC8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5FE4-783C-421E-B4B6-DE436B256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AD4D-1C37-4740-9CE1-EDE77E737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FD9F-2ACC-4C0F-BC10-DCB6BF22E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CCA1-5D9C-441A-91BA-BDB629960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031C-723B-4DF1-8FEE-E9C03090F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EB81-F090-4C6B-BA24-5F8D74951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BAB6-3588-4929-BD33-07D9D51FD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FFA5-7BB4-4DE2-9925-1BE5D3056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9120-E741-4378-AFB8-D40D7BB97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6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TIM BURTON MOVIES FROM THEIR PO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814480" y="1219320"/>
            <a:ext cx="35150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2378160" y="1295280"/>
            <a:ext cx="43876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0" y="502920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THE  NIGHTMARE  BEFORE  CHRIST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1913040" y="1295280"/>
            <a:ext cx="5317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PSE  B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2768760" y="1219320"/>
            <a:ext cx="3606480" cy="37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ETLEJU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849400" y="1295280"/>
            <a:ext cx="332280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WARD  SCISSORH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1496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ENWEEN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936720" y="1295280"/>
            <a:ext cx="7270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0" y="50292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HARLIE  AND  THE  CHOCOLATE  FA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1880" indent="-191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3162240" y="1295280"/>
            <a:ext cx="2819520" cy="36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  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909880" y="1295280"/>
            <a:ext cx="33242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913040" y="1295280"/>
            <a:ext cx="53179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AND  THE  GIANT  P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1938240" y="1295280"/>
            <a:ext cx="52675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1066680" y="4572000"/>
            <a:ext cx="7010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  PEREGRINE'S  HOME  FOR  PECULIAR  CHILD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2814480" y="1219320"/>
            <a:ext cx="35150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E  WEE'S  BIG  ADVEN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2378160" y="1295280"/>
            <a:ext cx="43876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768760" y="1219320"/>
            <a:ext cx="3606480" cy="37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849400" y="1295280"/>
            <a:ext cx="3445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1496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936720" y="1295280"/>
            <a:ext cx="7270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3162240" y="1295280"/>
            <a:ext cx="2819520" cy="36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874960" y="1295280"/>
            <a:ext cx="33940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1938240" y="1295280"/>
            <a:ext cx="52675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9T13:32:54Z</dcterms:created>
  <dc:creator>Jennifer Budzinski</dc:creator>
  <dc:description/>
  <dc:language>en-US</dc:language>
  <cp:lastModifiedBy>Erich Friedman</cp:lastModifiedBy>
  <dcterms:modified xsi:type="dcterms:W3CDTF">2020-08-30T14:49:15Z</dcterms:modified>
  <cp:revision>290</cp:revision>
  <dc:subject/>
  <dc:title>Slide 1</dc:title>
</cp:coreProperties>
</file>