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A23F-E5DE-494A-A0CD-33AADCF98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A3B2-6286-475E-B102-C82CCF787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8706-ED18-4B0E-86B4-5532091E6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CE66-0237-45D6-B7C7-DFBC4F26D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5E8D-BCC3-4852-9889-A7087E659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F215-0194-4957-9405-D695C9656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4E03-0BD2-4C4A-9D6F-FA6B1DFF2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A8FA-2F0E-4643-AACB-4CAD4A1CC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5C79-5869-4078-A2B3-E29A1211F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F619-067B-4C9C-A5F0-89CBCD4E4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28FB-0836-4537-8155-865E4E2D4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3EE5-AE15-4878-AECC-75B586354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6708-1154-4687-ADAB-79D07285E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396B-469F-496C-9CC6-3652A510B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91AD-BB47-4803-A5EE-D0B7ECE18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D5F5-820C-41CB-BC09-D2E831E4C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E20F-2B78-43AD-BF7D-4DBDCFB3B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A30C-E28B-4D87-9737-E5BC8BC84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BE19-D16B-4D17-9E1D-EEF9881D9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00BC-28E9-490C-802D-56F3EB616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F25F-D3E7-4EF8-9A7B-4C281DCC8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D1DB-7F28-4E4C-BC97-8927FDB3C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756B-40B9-4416-AB27-EDD1AE696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7160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TIM BURTON MOVIES FROM THEIR PO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2814480" y="1219320"/>
            <a:ext cx="35150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2378160" y="1295280"/>
            <a:ext cx="43876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0" y="50292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 NIGHTMARE  BEFORE  CHRIST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1913040" y="1295280"/>
            <a:ext cx="53179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PSE  B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2768760" y="1219320"/>
            <a:ext cx="3606480" cy="37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ETLEJU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2849400" y="1295280"/>
            <a:ext cx="332280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WARD  SCISSORH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1496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ENWEE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936720" y="1295280"/>
            <a:ext cx="7270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0" y="50292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HARLIE  AND  THE  CHOCOLATE  FA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"/>
          <p:cNvPicPr/>
          <p:nvPr/>
        </p:nvPicPr>
        <p:blipFill>
          <a:blip r:embed="rId1"/>
          <a:stretch/>
        </p:blipFill>
        <p:spPr>
          <a:xfrm>
            <a:off x="3162240" y="1295280"/>
            <a:ext cx="2819520" cy="36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  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2909880" y="1295280"/>
            <a:ext cx="33242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1913040" y="1295280"/>
            <a:ext cx="53179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AND  THE  GIANT  P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1938240" y="1295280"/>
            <a:ext cx="52675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1066680" y="4572000"/>
            <a:ext cx="7010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S  PEREGRINE'S  HOME  FOR  PECULIAR  CHILD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2814480" y="1219320"/>
            <a:ext cx="35150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E  WEE'S  BIG  ADVEN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"/>
          <p:cNvPicPr/>
          <p:nvPr/>
        </p:nvPicPr>
        <p:blipFill>
          <a:blip r:embed="rId1"/>
          <a:stretch/>
        </p:blipFill>
        <p:spPr>
          <a:xfrm>
            <a:off x="2378160" y="1295280"/>
            <a:ext cx="43876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768760" y="1219320"/>
            <a:ext cx="3606480" cy="37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849400" y="1295280"/>
            <a:ext cx="3445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1496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936720" y="1295280"/>
            <a:ext cx="7270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3162240" y="1295280"/>
            <a:ext cx="2819520" cy="36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874960" y="1295280"/>
            <a:ext cx="33940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1938240" y="1295280"/>
            <a:ext cx="52675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9T13:32:54Z</dcterms:created>
  <dc:creator>Jennifer Budzinski</dc:creator>
  <dc:description/>
  <dc:language>en-US</dc:language>
  <cp:lastModifiedBy>Erich Friedman</cp:lastModifiedBy>
  <dcterms:modified xsi:type="dcterms:W3CDTF">2020-08-30T14:49:15Z</dcterms:modified>
  <cp:revision>290</cp:revision>
  <dc:subject/>
  <dc:title>Slide 1</dc:title>
</cp:coreProperties>
</file>