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DF0D-CBCB-4120-8263-0F02D398D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BE27-15F1-45A9-AD08-01D18928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722A-C636-48DE-B80D-9ACC66613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DEDB-2495-4A9B-A639-BC050B40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C10D-BB03-49B4-AEBE-5089887B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2CCD-AA02-4E77-A9D1-B93B993D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1373-05AF-40E3-889C-D10D0CF2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969-A2A8-425A-9E56-901ED20D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1A8C-7EFC-488F-95A6-CC4847D9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AAB2-BC8E-424B-8243-62509DE3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90E1-4610-4EDF-ADAE-11AF9768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0C26-7F96-44CC-B0AB-C070E12C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9448-21C4-49C3-BB8C-F01CC33C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AF2E-8444-42D0-966B-4FC6F0CA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79DE-4B3E-4771-84A2-1A672817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96E8-370C-4549-AD1A-8552138C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2DC0-0076-49EA-903E-0FA1AD4F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539B-16B4-4165-946B-CD57C53A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C9A-F5DC-4E07-BA65-50D5D844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3FDC-7F5C-48D3-B7B4-78A3D0119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B68F-368B-4938-9E21-4BE13DE4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7A2-F612-4FF9-83DF-B39A9374D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22AB-6159-47D7-BB22-7D02376F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LOV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DIANE LANE AND JOHN CUSACK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THAT CONTAINS "LOVE" IN THE TITLE THAT EVER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,  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UGH GRANT FILM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M  RUSSIA  WITH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THE SPY WHO LOVED ME", WHAT IS THE ONLY JAMES BOND FILM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TRANGE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DIRECTED BY STANLEY KUBRICK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S.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FILM STARRING HILARY SWANK AND GERARD BUTLER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YOU,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STARRING PAUL RUDD AND JASON SEGAL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CONTAINING "LOVE" IN THE TITLE WAS BASED ON A POPULAR BOOK BY ERICH SEG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304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VE  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NEY FILM ABOUT A VOLKSWAGEN NAMED HERBIE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UGH GRANT FILM CONTAINING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2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&amp;  OTHER 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STARRING JAKE GYLLENHAAL AND ANNE HATHAWAY CONTAINS "LOVE" IN TH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  LOVE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DIANE LANE AND JOHN CUSACK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IN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THAT CONTAINS "LOVE" IN THE TITLE THAT EVER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THE SPY WHO LOVED ME", WHAT IS THE ONLY JAMES BOND FILM CONTAINING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DIRECTED BY STANLEY KUBRICK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FILM STARRING HILARY SWANK AND GERARD BUTLER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STARRING PAUL RUDD AND JASON SEGAL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CONTAINING "LOVE" IN THE TITLE WAS BASED ON A POPULAR BOOK BY ERICH SEG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NEY FILM ABOUT A VOLKSWAGEN NAMED HERBIE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STARRING JAKE GYLLENHAAL AND ANNE HATHAWAY CONTAINS "LOVE" IN TH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1:15Z</dcterms:modified>
  <cp:revision>365</cp:revision>
  <dc:subject/>
  <dc:title>Slide 1</dc:title>
</cp:coreProperties>
</file>