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6D25-4817-4DFE-93DF-309F89AE1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765A-212E-499B-A799-CA5A5BE1E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8113-573E-4794-9B77-1F2F55E05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D0F6-9E13-439F-BD87-13ECC4BAE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3EFF-B5A0-42F6-B870-CE3E2BB28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BC7D-93DC-4C97-BD1B-2F7049DA9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65E9-F151-4181-8B48-658E87CBF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D474-B1F8-4482-9FFE-422B5E0B1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6767-83A6-459A-A33C-A700F0605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AC9E-4A95-4E40-AD1A-C2908A388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38B1-9D83-4F3E-BAB6-09291D52D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CECB-C12A-46D2-BF87-236074AC2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144E-B53D-42EC-BEB7-9E1AEC3C4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D8E5-65C6-45BB-955F-AB2DD0B80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FC99-5CCE-4446-8E79-5685B22E0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9DB6-8325-4BB1-9C14-61D06F939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ED70-A1C7-4FFE-81DA-6D752CAF8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303F-5554-45A8-A579-8003291EF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7337-032E-46DF-B0C5-FC88BD6F2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EC9A-717B-4A28-A69B-C48146557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C452-710B-46A2-A1B9-35E81E61B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AF85-3D0B-4833-91CA-80F89F335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6FCE-B553-47B7-8F64-2B7594F89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"LOVE" FIL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FILM STARRING DIANE LANE AND JOHN CUSACK CONTAINS "LOVE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2396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FILM THAT CONTAINS "LOVE" IN THE TITLE THAT EVER WON AN OSCAR FOR BEST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,  ACTU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HUGH GRANT FILM CONTAINING "LOV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OM  RUSSIA  WITH 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SIDES "THE SPY WHO LOVED ME", WHAT IS THE ONLY JAMES BOND FILM CONTAINING "LOV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.  STRANGE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FILM DIRECTED BY STANLEY KUBRICK CONTAINING "LOV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8080"/>
            <a:ext cx="845820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.S.  I  LOVE 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81200" y="762120"/>
            <a:ext cx="7581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7 FILM STARRING HILARY SWANK AND GERARD BUTLER CONTAINS "LOV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LOVE  YOU,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COMEDY FILM STARRING PAUL RUDD AND JASON SEGAL CONTAINS "LOV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  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0 FILM CONTAINING "LOVE" IN THE TITLE WAS BASED ON A POPULAR BOOK BY ERICH SEG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304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OVE  BU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04840" y="762120"/>
            <a:ext cx="693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NEY FILM ABOUT A VOLKSWAGEN NAMED HERBIE CONTAINS "LOV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HUGH GRANT FILM CONTAINING "LOVE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0212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  &amp;  OTHER 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43040" y="762120"/>
            <a:ext cx="7657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0 FILM STARRING JAKE GYLLENHAAL AND ANNE HATHAWAY CONTAINS "LOVE" IN THE TITL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ST  LOVE  DO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0720" y="762120"/>
            <a:ext cx="716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FILM STARRING DIANE LANE AND JOHN CUSACK CONTAINS "LOV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62120" y="4876920"/>
            <a:ext cx="7619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KESPEARE  IN 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FILM THAT CONTAINS "LOVE" IN THE TITLE THAT EVER WON AN OSCAR FOR BEST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SIDES "THE SPY WHO LOVED ME", WHAT IS THE ONLY JAMES BOND FILM CONTAINING "LOVE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FILM DIRECTED BY STANLEY KUBRICK CONTAINING "LOVE" IN TH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7 FILM STARRING HILARY SWANK AND GERARD BUTLER CONTAINS "LOVE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COMEDY FILM STARRING PAUL RUDD AND JASON SEGAL CONTAINS "LOVE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0 FILM CONTAINING "LOVE" IN THE TITLE WAS BASED ON A POPULAR BOOK BY ERICH SEG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NEY FILM ABOUT A VOLKSWAGEN NAMED HERBIE CONTAINS "LOVE" IN TH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0 FILM STARRING JAKE GYLLENHAAL AND ANNE HATHAWAY CONTAINS "LOVE" IN THE TITL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8T22:34:55Z</dcterms:created>
  <dc:creator>Jennifer Budzinski</dc:creator>
  <dc:description/>
  <dc:language>en-US</dc:language>
  <cp:lastModifiedBy>Erich Friedman</cp:lastModifiedBy>
  <dcterms:modified xsi:type="dcterms:W3CDTF">2020-08-30T16:51:15Z</dcterms:modified>
  <cp:revision>365</cp:revision>
  <dc:subject/>
  <dc:title>Slide 1</dc:title>
</cp:coreProperties>
</file>