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63C5-3266-40DF-AE75-399AC08B2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2B36-FA2E-4A54-A316-E1C93DAB4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E446-CFCF-4FBD-860F-8B3BBA4A6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7738-A74A-40F5-9955-6C99D0744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5FF9-BC15-44B4-9602-670C55D09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F59E-A7A9-4A08-81E2-AC2F9C0C8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D496-8FFD-4B35-B89A-C07229E05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66EF-C12C-460A-BC6F-160142341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31AC-9377-4AFC-A07C-28B1CFF87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E36B-5CD5-4017-8BB8-5CDE6E681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0250-38B7-4350-B050-74AD7851C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FD7B-66C4-4FF7-B924-6E738000E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2284-220E-4CE5-B98B-752303D9B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0481-E7D9-48B2-B7CE-68C2033EA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CB18-153F-47D0-A55F-C0F24ABDB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DC29-E335-4AE6-9D6A-C0BCC9C95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4681-87DB-486D-9BF7-FEFB3AD2E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22C5-721B-465A-A882-0ED819B63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BEBB-3564-4295-AF19-2EF4E078D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3D9E-14C4-422C-B30B-13DF60D28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1922-9AD3-40D7-A579-6FE660268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BD25-41C8-4E50-B0CB-7128C3A14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FF0C-C856-469A-BCC4-69A1E5CA0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"LOVE" FIL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FILM STARRING DIANE LANE AND JOHN CUSACK CONTAINS "LOV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FILM THAT CONTAINS "LOVE" IN THE TITLE THAT EVER WON AN OSCAR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,  ACTU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HUGH GRANT FILM CONTAINING "LOV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OM  RUSSIA  WITH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SIDES "THE SPY WHO LOVED ME", WHAT IS THE ONLY JAMES BOND FILM CONTAINING "LOV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.  STRANGE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FILM DIRECTED BY STANLEY KUBRICK CONTAINING "LOV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8080"/>
            <a:ext cx="84582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.S.  I  LOVE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81200" y="762120"/>
            <a:ext cx="758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 FILM STARRING HILARY SWANK AND GERARD BUTLER CONTAINS "LOV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LOVE  YOU,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COMEDY FILM STARRING PAUL RUDD AND JASON SEGAL CONTAINS "LOV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 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0 FILM CONTAINING "LOVE" IN THE TITLE WAS BASED ON A POPULAR BOOK BY ERICH SEG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304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OVE  B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NEY FILM ABOUT A VOLKSWAGEN NAMED HERBIE CONTAINS "LOV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HUGH GRANT FILM CONTAINING "LOV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0212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  &amp;  OTHER 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43040" y="762120"/>
            <a:ext cx="7657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FILM STARRING JAKE GYLLENHAAL AND ANNE HATHAWAY CONTAINS "LOVE" IN THE TIT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ST  LOVE  D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FILM STARRING DIANE LANE AND JOHN CUSACK CONTAINS "LOV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619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KESPEARE  IN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FILM THAT CONTAINS "LOVE" IN THE TITLE THAT EVER WON AN OSCAR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SIDES "THE SPY WHO LOVED ME", WHAT IS THE ONLY JAMES BOND FILM CONTAINING "LOV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FILM DIRECTED BY STANLEY KUBRICK CONTAINING "LOV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 FILM STARRING HILARY SWANK AND GERARD BUTLER CONTAINS "LOV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COMEDY FILM STARRING PAUL RUDD AND JASON SEGAL CONTAINS "LOV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0 FILM CONTAINING "LOVE" IN THE TITLE WAS BASED ON A POPULAR BOOK BY ERICH SEG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NEY FILM ABOUT A VOLKSWAGEN NAMED HERBIE CONTAINS "LOV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FILM STARRING JAKE GYLLENHAAL AND ANNE HATHAWAY CONTAINS "LOVE" IN THE TITL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8T22:34:55Z</dcterms:created>
  <dc:creator>Jennifer Budzinski</dc:creator>
  <dc:description/>
  <dc:language>en-US</dc:language>
  <cp:lastModifiedBy>Erich Friedman</cp:lastModifiedBy>
  <dcterms:modified xsi:type="dcterms:W3CDTF">2020-08-30T16:51:15Z</dcterms:modified>
  <cp:revision>365</cp:revision>
  <dc:subject/>
  <dc:title>Slide 1</dc:title>
</cp:coreProperties>
</file>