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4452-CDB2-4D18-B08D-605B0A40F6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301A-BF8B-4BEB-AAA4-BB14E48BB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1F8F-FA40-45F0-9278-50D11F24A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2828-9493-4216-8158-AE9A0FAB2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B73F-D7F4-42BF-92B0-D051FC4C5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25EB-8892-43D8-901E-0200717DA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EB3E-6FF4-4CD0-A85A-31D3553F3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3EC4-B328-461A-9598-728E4FFD4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E902-8522-4A5B-8755-84392E7CA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0DDF-D558-4577-9953-0FFB48C1E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A197-FE67-47A9-A8B1-5DE477529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40FA-0A07-4F76-9113-F88E68FDD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D6AE-09F3-4CCE-B38E-31FA97FFD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8D58-59E1-4C6B-9715-AB87E80E9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6086-B7EE-4689-93E1-C37969E09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E851-B3C7-49FF-A0D8-812F4D503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E090-36F3-4F2D-96B5-E440B7F4C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83DA-492A-40AA-B609-29843A856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4BC4-3FCE-4139-9DA6-9FDED5E41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5681-C24C-43B0-837B-1B1DE4C3C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B1B9-9BDE-4D6E-AC7F-5C95053C7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8099-008D-426E-BE7C-5464A8F0F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BC7E-329A-4DBD-918A-18A2EEC59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9903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FILMS DID THESE QUOTES COME FRO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M KING OF THE WOR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LL RIGHT, MR. DEMILLE, I'M READY FOR MY CLOSE-U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NE  WITH  THE  W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858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RANKLY, MY DEAR, I DON'T GIVE A DAM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486080" y="762120"/>
            <a:ext cx="6172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'RE GONNA NEED A BIGGER BO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695600" y="4343400"/>
            <a:ext cx="5752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REASURE  OF  THE  SIERRA  MAD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4480" y="762120"/>
            <a:ext cx="89154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ADGES?  WE AIN'T GOT NO BADGES!  WE DON'T NEED NO BADGES!  I DON'T HAVE TO SHOW YOU ANY STINKING BADGES!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ELD  OF  DR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981080" y="770040"/>
            <a:ext cx="5181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F YOU BUILD IT, HE WILL C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OLLO  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714680" y="762120"/>
            <a:ext cx="5715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OUSTON, WE HAVE A PROBLE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IMAL  CRAC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NE MORNING I SHOT AN ELEPHANT IN MY PAJAMAS. HOW HE GOT IN MY PAJAMAS, I DON'T KN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H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19320" y="762120"/>
            <a:ext cx="6705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RE'S JOHNNY!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RANKLY, MY DEAR, I DON'T GIVE A DAM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76520" y="4343400"/>
            <a:ext cx="5790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IONAL  LAMPOON'S  ANIMAL 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OGA!  TOGA!  TOGA!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ITAN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M KING OF THE WOR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SET  BLVD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LL RIGHT, MR. DEMILLE, I'M READY FOR MY CLOSE-U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447920" y="761760"/>
            <a:ext cx="6248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'RE GONNA NEED A BIGGER BOA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4480" y="76212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ADGES?  WE AIN'T GOT NO BADGES!  WE DON'T NEED NO BADGES!  I DON'T HAVE TO SHOW YOU ANY STINKING BADGES!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981080" y="762120"/>
            <a:ext cx="5181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F YOU BUILD IT, HE WILL CO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752480" y="761760"/>
            <a:ext cx="5639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OUSTON, WE HAVE A PROBLE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NE MORNING I SHOT AN ELEPHANT IN MY PAJAMAS. HOW HE GOT IN MY PAJAMAS, I DON'T KN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RE'S JOHNNY!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OGA!  TOGA!  TOGA!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5T18:47:52Z</dcterms:created>
  <dc:creator>Jennifer Budzinski</dc:creator>
  <dc:description/>
  <dc:language>en-US</dc:language>
  <cp:lastModifiedBy>Erich Friedman</cp:lastModifiedBy>
  <dcterms:modified xsi:type="dcterms:W3CDTF">2020-08-30T16:52:30Z</dcterms:modified>
  <cp:revision>338</cp:revision>
  <dc:subject/>
  <dc:title>Slide 1</dc:title>
</cp:coreProperties>
</file>