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EDC-5887-4919-A610-DF66B358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BCC-1D0F-4E0E-B4A3-E16E280F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D758-C641-47FC-9A1F-C46A0EE5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13B-7775-47EF-AEEE-F6DD7AB4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2A7-BB25-4817-9DD2-25958D64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898-04C8-4C06-A179-54AF08DB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4A1-5B6B-4AA0-A468-9812DC4C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682D-AEA5-4D6B-9749-F85468C1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496-5690-4D83-8619-2685F24C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B7D-6C18-4BA7-B37E-C4F60A64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3078-E101-481E-A29F-F82C49BB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C9E-3357-47A5-B448-78010925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979-EC25-4BD6-A58E-6EC69B18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458-C5A4-4981-AE96-C0AE4FB1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08A-B3C6-4DA5-AEE5-D58EA047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216-2233-4461-A1C8-A1A4CF06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1CA-A20E-4AC5-8A59-25475700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8BE-E628-4CF1-B1D8-0BA83C6B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A8B8-4EF8-463C-B8F8-0D057AA6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30B-D991-4FD4-B1D1-77090C6D7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331-FC8D-45F1-A9FC-52FE9D85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1221-5CF3-4C24-B20B-EE67E0C4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5AE0-5C9B-499C-B3FD-CD241836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ID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KING OF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RIGHT, MR. DEMILLE, I'M READY FOR MY CLOSE-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ANKLY, MY DEAR, I DON'T GIVE A DAM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GONNA NEED A BIGGER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95600" y="4343400"/>
            <a:ext cx="5752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EASURE  OF  THE  SIERRA  M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480" y="762120"/>
            <a:ext cx="8915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GES?  WE AIN'T GOT NO BADGES!  WE DON'T NEED NO BADGES!  I DON'T HAVE TO SHOW YOU ANY STINKING BADGES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LD  OF 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81080" y="770040"/>
            <a:ext cx="51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 BUILD IT, HE WILL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TON, WE HAVE A PROBL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  CR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NING I SHOT AN ELEPHANT IN MY PAJAMAS. HOW HE GOT IN MY PAJAMAS, I DON'T K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JOHNNY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ANKLY, MY DEAR, I DON'T GIVE A DAM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LAMPOON'S  ANIMA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GA!  TOGA!  TOG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KING OF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ET  BLV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RIGHT, MR. DEMILLE, I'M READY FOR MY CLOSE-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GONNA NEED A BIGGER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48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GES?  WE AIN'T GOT NO BADGES!  WE DON'T NEED NO BADGES!  I DON'T HAVE TO SHOW YOU ANY STINKING BADGES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81080" y="7621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 BUILD IT, HE WILL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TON, WE HAVE A PROBL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NING I SHOT AN ELEPHANT IN MY PAJAMAS. HOW HE GOT IN MY PAJAMAS, I DON'T K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JOHNNY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GA!  TOGA!  TOGA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47:52Z</dcterms:created>
  <dc:creator>Jennifer Budzinski</dc:creator>
  <dc:description/>
  <dc:language>en-US</dc:language>
  <cp:lastModifiedBy>Erich Friedman</cp:lastModifiedBy>
  <dcterms:modified xsi:type="dcterms:W3CDTF">2020-08-30T16:52:30Z</dcterms:modified>
  <cp:revision>338</cp:revision>
  <dc:subject/>
  <dc:title>Slide 1</dc:title>
</cp:coreProperties>
</file>