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C326-8926-4694-B9A6-BE30573FB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15A3-51F3-4D56-9C28-0A396C8FA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BDF9-A5BF-4AA5-BECB-2F502C416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4415-4DEF-4D9F-B364-AF89FA07D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5909-AB64-4127-804A-12E9EC5D4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E091-2C77-4EFF-9590-B38DCB9E2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0352-12F2-4B85-AA4B-337E19ECE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D24A-1A86-4954-8034-F778B44EF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5EF9-30FA-4004-AFBD-4A8AED3E3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3DDF-4E70-46F2-830A-CD0C899D5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8C42-9CAD-4133-B804-CD6105507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5B1B-A655-446A-9D56-6B2FBEAF4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4F48-9150-4A6D-BCA6-736FECC67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BCDB-A1B2-4AEE-B79C-4DB67CCDB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8CA2-C2D3-4932-8C9B-4C4B5C21A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1804-ECA4-405C-87CF-557406DEA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6E4D-5AF6-4152-8B7D-5F4ACEC99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7BA8-03DA-450B-8754-2B01ABED4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F2BB-6E7A-4501-88C2-5D026F837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7E2C-896D-40DF-BC47-A50188523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607B-14E8-4D81-A0A1-D6ACB1412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8088-4B08-4086-B1A5-4D045394B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B26C-DC3A-47A6-B083-A1A8A41A4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"BLACK" FILM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4 FILM CONTAINING "BLACK" IN THE TITLE DOES ALAN CUMMING VOICE THE  EQUINE MAIN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1085760" y="762120"/>
            <a:ext cx="6972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HUCK NORRIS FILM THAT CONTAINS THE WORD "BLACK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SW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ILM CONTAINING THE WORD "BLACK" IN THE TITLE THAT WAS NOMINATED FOR BEST PICTURE BEFORE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N  IN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514440" y="762120"/>
            <a:ext cx="8115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SCI-FI FILM STARRING TOMMY LEE JONES AND WILL SMITH CONTAINS "BLACK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49280" y="487044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PAN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CONTAINING "BLACK" IN THE TITLE WAS 2018'S SECOND HIGHEST GROSSING FILM, AFTER "AVENGERS: INFINITY W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371600" y="441972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ATURE  FROM  THE  BLACK  LAG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30240" y="914400"/>
            <a:ext cx="3986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4267080" y="609480"/>
            <a:ext cx="4291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HAWK 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WAR FILM SET IN MOGADISHU CONTAINS THE WORD "BLACK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LACK  DAH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864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006 CRIME THRILLER STARRING JOSH HARTNETT, SCARLETT JOHANSSON, AARON ECKHART AND HILARY SWANK CONTAINS "BLACK" IN THE TIT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3840" y="4876920"/>
            <a:ext cx="8896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RY  OF  A  MAD  BLACK  WO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19200" y="762120"/>
            <a:ext cx="7905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YLER PERRY'S FIRST FILM, AND THE ONLY ONE THAT CONTAINS THE WORD "BLACK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ILM CONTAINING THE WORD "BLACK" IN THE TITLE THAT WAS NOMINATED FOR BEST PICTURE BEFORE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URSE  OF  THE  BLACK  PEA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32040" y="762120"/>
            <a:ext cx="7279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BTITLE OF THE FIRST "PIRATES OF THE CARIBBEAN" FIL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BEAU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4 FILM CONTAINING "BLACK" IN THE TITLE DOES ALAN CUMMING VOICE THE  EQUINE MAIN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GUYS  WEAR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095480" y="762120"/>
            <a:ext cx="6953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HUCK NORRIS FILM THAT CONTAINS THE WORD "BLACK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SCI-FI FILM STARRING TOMMY LEE JONES AND WILL SMITH CONTAINS "BLACK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CONTAINING "BLACK" IN THE TITLE WAS 2018'S SECOND HIGHEST GROSSING FILM, AFTER "AVENGERS: INFINITY W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3543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HAD THIS MOVIE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4267080" y="609480"/>
            <a:ext cx="4291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WAR FILM SET IN MOGADISHU CONTAINS THE WORD "BLACK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006 CRIME THRILLER STARRING JOSH HARTNETT, SCARLETT JOHANSSON, AARON ECKHART AND HILARY SWANK CONTAINS "BLACK" IN THE TITL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61960" y="761760"/>
            <a:ext cx="8020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YLER PERRY'S FIRST FILM, AND THE ONLY ONE THAT CONTAINS THE WORD "BLACK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BTITLE OF THE FIRST "PIRATES OF THE CARIBBEAN" FIL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8T22:34:55Z</dcterms:created>
  <dc:creator>Jennifer Budzinski</dc:creator>
  <dc:description/>
  <dc:language>en-US</dc:language>
  <cp:lastModifiedBy>Erich Friedman</cp:lastModifiedBy>
  <dcterms:modified xsi:type="dcterms:W3CDTF">2020-08-30T16:53:56Z</dcterms:modified>
  <cp:revision>375</cp:revision>
  <dc:subject/>
  <dc:title>Slide 1</dc:title>
</cp:coreProperties>
</file>