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0721-64C9-4AB5-9308-B13A58B8A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B93D-BFF4-41AE-B2F1-82A21EFB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B449-1D21-46C3-8304-2262C25D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400-152C-4707-9BEE-14BAF57F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255-60E5-4112-B04B-5AB28F9C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364F-9EB6-49FC-8EDC-247E9F84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C1A4-0BC4-4A27-B846-067EC029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C685-D768-4BF5-8951-5A9C082E2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975-CCC4-4485-9737-8DD96935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5D61-7082-413E-9786-57991A21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C52B-EA31-4599-916A-C223C1F84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0B3-6E8D-42C0-B101-A1F9C3B4C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CCA-BAA8-4E21-AF1F-A1CF31C1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7526-065C-4D64-9B81-51A573F47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437F-C7E0-4C2B-B504-78614528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EA1B-56AC-42E5-BA4F-0B628F3A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01F0-ED83-4FF0-8A0B-E59F349CB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A217-02A7-41AC-AD31-3F3D88414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83B1-B2D4-4761-90FF-1FBAFB6B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AE3A-0E2D-46AC-9F97-D28D9B2A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748-13C1-450F-ADB4-81A9A331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FABD-44A7-4924-BE3A-34F7B7BA6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9ED9-CC89-4123-9B77-9072C647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BLACK" FILM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CONTAINING "BLACK" IN THE TITLE DOES ALAN CUMMING VOICE THE  EQUINE MAIN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UCK NORRIS FILM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CONTAINING THE WORD "BLACK" IN THE TITLE THAT WAS NOMINATED FOR BEST PICTURE BEFORE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IN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SCI-FI FILM STARRING TOMMY LEE JONES AND WILL SMITH CONTAINS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49280" y="48704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NTAINING "BLACK" IN THE TITLE WAS 2018'S SECOND HIGHEST GROSSING FILM, AFTER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371600" y="441972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TURE  FROM  THE  BLACK  LAG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0240" y="914400"/>
            <a:ext cx="398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291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WAR FILM SET IN MOGADISHU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DAH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864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06 CRIME THRILLER STARRING JOSH HARTNETT, SCARLETT JOHANSSON, AARON ECKHART AND HILARY SWANK CONTAINS "BLACK" IN THE TIT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3840" y="4876920"/>
            <a:ext cx="8896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RY  OF  A  MAD  BLACK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19200" y="762120"/>
            <a:ext cx="790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YLER PERRY'S FIRST FILM, AND THE ONLY ONE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CONTAINING THE WORD "BLACK" IN THE TITLE THAT WAS NOMINATED FOR BEST PICTURE BEFORE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URSE  OF  THE  BLACK  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2040" y="762120"/>
            <a:ext cx="727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FIRST "PIRATES OF THE CARIBBEAN" FI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CONTAINING "BLACK" IN THE TITLE DOES ALAN CUMMING VOICE THE  EQUINE MAIN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GUYS  WEAR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095480" y="762120"/>
            <a:ext cx="695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UCK NORRIS FILM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SCI-FI FILM STARRING TOMMY LEE JONES AND WILL SMITH CONTAINS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NTAINING "BLACK" IN THE TITLE WAS 2018'S SECOND HIGHEST GROSSING FILM, AFTER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3543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291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WAR FILM SET IN MOGADISHU CONTAINS THE WORD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06 CRIME THRILLER STARRING JOSH HARTNETT, SCARLETT JOHANSSON, AARON ECKHART AND HILARY SWANK CONTAINS "BLACK" IN THE TIT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YLER PERRY'S FIRST FILM, AND THE ONLY ONE THAT CONTAINS THE WORD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FIRST "PIRATES OF THE CARIBBEAN" FI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3:56Z</dcterms:modified>
  <cp:revision>375</cp:revision>
  <dc:subject/>
  <dc:title>Slide 1</dc:title>
</cp:coreProperties>
</file>