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F6E-1F7B-49A4-86B6-C234C99F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13FD-2BD5-423A-85C2-C4864A7ED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0F35-1A66-4CD3-B7ED-B3BFE99A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E44-15C0-4BC2-A678-417F7F73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DC8-48F8-4A1F-AAE2-1441580D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A6DD-E061-4824-BFD3-4D6F22F9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FFE-FA1C-476A-A639-53125E75A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9A1-6D21-4381-A6FD-5308E69F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6D93-4FC4-4D64-A011-D7A32F0E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6FB4-4CEC-4F1D-AEDB-5A1463CB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0FDB-94C5-4C33-97EA-833AD0F0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2E34-9081-443A-931D-AE9F8413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4F5-0C18-40BE-89F5-510BFBAA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45FA-510C-4EEF-BEFA-D81CEB7D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F546-6288-4B33-AC56-46C91A2D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98C-330C-49A1-B72B-4E640702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F07A-5A3E-4EE0-993C-AB3039D1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4B0-0E98-45D0-812A-065D2AE0D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4E40-318B-4675-8155-F30917D1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E910-6BCD-404E-82BC-250C3BB1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0D3D-12C4-44B0-BE6B-465A251C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56C1-FB8F-40DA-AEF2-D2F14C19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48B-D6BD-4196-B74C-37A416AB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BLACK" FIL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CONTAINING "BLACK" IN THE TITLE DOES ALAN CUMMING VOICE THE  EQUINE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UCK NORRIS FILM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CONTAINING THE WORD "BLACK" IN THE TITLE THAT WAS NOMINATED FOR BEST PICTURE BEFORE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IN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SCI-FI FILM STARRING TOMMY LEE JONES AND WILL SMITH CONTAINS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49280" y="48704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NTAINING "BLACK" IN THE TITLE WAS 2018'S SECOND HIGHEST GROSSING FILM, AFTER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371600" y="441972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TURE  FROM  THE  BLACK  LAG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0240" y="914400"/>
            <a:ext cx="398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291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WAR FILM SET IN MOGADISHU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DAH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864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06 CRIME THRILLER STARRING JOSH HARTNETT, SCARLETT JOHANSSON, AARON ECKHART AND HILARY SWANK CONTAINS "BLACK" IN THE TIT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3840" y="4876920"/>
            <a:ext cx="8896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RY  OF  A  MAD  BLACK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YLER PERRY'S FIRST FILM, AND THE ONLY ONE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CONTAINING THE WORD "BLACK" IN THE TITLE THAT WAS NOMINATED FOR BEST PICTURE BEFORE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URSE  OF  THE  BLACK  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2040" y="762120"/>
            <a:ext cx="727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FIRST "PIRATES OF THE CARIBBEAN" FI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CONTAINING "BLACK" IN THE TITLE DOES ALAN CUMMING VOICE THE  EQUINE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GUYS  WEAR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095480" y="762120"/>
            <a:ext cx="695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UCK NORRIS FILM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SCI-FI FILM STARRING TOMMY LEE JONES AND WILL SMITH CONTAINS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NTAINING "BLACK" IN THE TITLE WAS 2018'S SECOND HIGHEST GROSSING FILM, AFTER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3543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291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WAR FILM SET IN MOGADISHU CONTAINS THE WORD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06 CRIME THRILLER STARRING JOSH HARTNETT, SCARLETT JOHANSSON, AARON ECKHART AND HILARY SWANK CONTAINS "BLACK" IN THE TIT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YLER PERRY'S FIRST FILM, AND THE ONLY ONE THAT CONTAINS THE WORD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FIRST "PIRATES OF THE CARIBBEAN" FI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3:56Z</dcterms:modified>
  <cp:revision>375</cp:revision>
  <dc:subject/>
  <dc:title>Slide 1</dc:title>
</cp:coreProperties>
</file>