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B95B-CEF6-4652-BF94-5EB22CBD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F57C-AF48-4E3A-BE59-E5B082AC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18E-E78C-4452-82F7-D4248EA3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3EEC-43D9-4B94-A784-546B86BD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A5C1-FFC4-435C-98F2-7C7F4695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B828-6A65-4C0D-BBEC-1AFBE91A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3C5E-A2AD-42BD-816C-CD6280BD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202-B7A2-4658-8A0E-0BFEFEC3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C44-C39F-4A4F-9475-414B166C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C5A-9E44-4320-B4A6-D0DAC0E9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745-4FB1-48AD-8FFB-8E3A5EBC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B300-5542-405C-AC9E-C618B07B5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B961-1D86-42D0-AB65-ED66512B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C139-9467-42D8-AAD0-451A74E4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9A0C-4086-42E0-AB1C-54DD5BF2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FD67-9256-4347-A625-5A3EBEE1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979-8E72-4C79-8A21-C3A3D246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B72-2C78-4B37-926D-FDB03BA1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3A25-E5FE-4568-BA6E-CCE33DBC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A9F2-045A-435C-983C-028BE8E9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2393-EA0B-4933-B24D-DDF2AEE5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A343-F2C5-494D-8BE2-57049F72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0F2B-CCC3-4FC4-9FE2-17E67ABD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2189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ESIRE TO EAT STRANGE, NON-NUTRITIVE THINGS IS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MICHURRI IS A GREEN SAUCE THAT ORIGIN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COUNTRY DID CHEDDAR CHEESE ORIGIN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RM "CAVIAR" TRADITIONALLY REFERS TO THE ROE OF WHICH F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SC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H, MADE FROM CRUSHED DURUM WHEAT, IS A STAPLE OF WESTERN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OTHER SAUCES ARE THERE IN CLASSICAL FRENCH CUIS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  PALE 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OUND ON A BEER BOTTLE, WHAT DOES THE ACRONYM "IP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OF MICHELIN STARS A RESTAURANT CAN RECE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THE FORTUNE COOKIE INVEN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COUNTRY DID CHEDDAR CHEESE ORIGIN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AS THE BLUE M&amp;M INTRODUCED? 1975, 1985, OR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ESIRE TO EAT STRANGE, NON-NUTRITIVE THINGS IS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MICHURRI IS A GREEN SAUCE THAT ORIGIN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RM "CAVIAR" TRADITIONALLY REFERS TO THE ROE OF WHICH FISH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H, MADE FROM CRUSHED DURUM WHEAT, IS A STAPLE OF WESTERN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OTHER SAUCES ARE THERE IN CLASSICAL FRENCH CUIS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OUND ON A BEER BOTTLE, WHAT DOES THE ACRONYM "IP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OF MICHELIN STARS A RESTAURANT CAN RECE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THE FORTUNE COOKIE INVEN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2396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AS THE BLUE M&amp;M INTRODUCED? 1975, 1985, OR 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1:22:21Z</dcterms:created>
  <dc:creator>Jennifer Budzinski</dc:creator>
  <dc:description/>
  <dc:language>en-US</dc:language>
  <cp:lastModifiedBy>Erich Friedman</cp:lastModifiedBy>
  <dcterms:modified xsi:type="dcterms:W3CDTF">2020-09-01T15:07:22Z</dcterms:modified>
  <cp:revision>277</cp:revision>
  <dc:subject/>
  <dc:title>Slide 1</dc:title>
</cp:coreProperties>
</file>