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F82B-A02F-4C77-BF6B-359321715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8BE6E-E277-444C-8265-ABC7C2CF2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F45A-AAC6-475C-BD89-E46071B6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2725-A89D-451A-A657-4CAA1895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C39-7A21-41A6-AADB-4B928960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968-BFBC-44E7-A473-511ED0889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A60E-6995-4757-86FF-E3143CB4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F6F9-7ED9-4578-9041-2E88DB29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8967-4298-4781-B71E-7EF1BC02F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CD54-556B-4453-A0C1-9D6B54900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03D6-BFF0-4CAA-BC3B-DD4BEAAA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1B78-C1D9-4405-9276-2B6AE6C27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C52A-A7E9-459E-92B8-A11761545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7195-9AF8-4118-9514-3BAFBBEE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F250-B2CC-4803-966C-7A00D4BF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EB7-78D4-4D18-BE44-271D11227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300B-6DC2-419A-B7AF-A8C0BB042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83B5-A0E0-420F-B1B8-6AB1BC7CB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0F80-9535-4E8C-B0FD-1935D3215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472E-98AE-4F8A-9496-FEB0DF4BF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80D9-F764-446F-AC83-1B470ACA7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9C4C-37DB-4251-B37C-DFF2E46D1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4915-083E-463D-8E59-675B0859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2189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ESIRE TO EAT STRANGE, NON-NUTRITIVE THINGS IS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MICHURRI IS A GREEN SAUCE THAT ORIGIN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COUNTRY DID CHEDDAR CHEESE ORIGIN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R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RM "CAVIAR" TRADITIONALLY REFERS TO THE ROE OF WHICH F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SC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H, MADE FROM CRUSHED DURUM WHEAT, IS A STAPLE OF WESTERN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OTHER SAUCES ARE THERE IN CLASSICAL FRENCH CUIS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  PALE 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OUND ON A BEER BOTTLE, WHAT DOES THE ACRONYM "IP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OF MICHELIN STARS A RESTAURANT CAN RECE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THE FORTUNE COOKIE INVEN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COUNTRY DID CHEDDAR CHEESE ORIGIN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AS THE BLUE M&amp;M INTRODUCED? 1975, 1985, OR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ESIRE TO EAT STRANGE, NON-NUTRITIVE THINGS IS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MICHURRI IS A GREEN SAUCE THAT ORIGIN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ERM "CAVIAR" TRADITIONALLY REFERS TO THE ROE OF WHICH FISH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H, MADE FROM CRUSHED DURUM WHEAT, IS A STAPLE OF WESTERN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OTHER SAUCES ARE THERE IN CLASSICAL FRENCH CUIS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FOUND ON A BEER BOTTLE, WHAT DOES THE ACRONYM "IP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OF MICHELIN STARS A RESTAURANT CAN RECE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THE FORTUNE COOKIE INVEN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23960"/>
            <a:ext cx="7619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AS THE BLUE M&amp;M INTRODUCED? 1975, 1985, OR 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1:22:21Z</dcterms:created>
  <dc:creator>Jennifer Budzinski</dc:creator>
  <dc:description/>
  <dc:language>en-US</dc:language>
  <cp:lastModifiedBy>Erich Friedman</cp:lastModifiedBy>
  <dcterms:modified xsi:type="dcterms:W3CDTF">2020-09-01T15:07:22Z</dcterms:modified>
  <cp:revision>277</cp:revision>
  <dc:subject/>
  <dc:title>Slide 1</dc:title>
</cp:coreProperties>
</file>