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8750-E561-4072-9230-398795B0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515-737A-4DD6-B887-D2702407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F85-A591-4330-B608-025310F5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9B4F-7B24-4034-9C38-21E92F31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808D-6AC6-4AA6-B110-9B32964A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966-A357-4A16-ADD2-64E3EB6B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AF7-5262-43AE-ADB6-BAD139670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DFFF-5CCF-4038-8E35-D5AE1A3C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4B6E-2E9E-446D-81AB-8E4E393A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FB0D-9446-4107-9627-7CFD586F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AB33-78E5-496A-82ED-1718EAB4D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7BBD-6182-40C8-B93B-7FF18B8AB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2316-E922-4EDC-82F6-723835B5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174-3A42-4DE2-841C-ADBA9966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DFA8-7CAD-43B7-B97A-12F3E376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EF3C-4689-48B4-A330-F299075B8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59D-815E-4448-A742-2107E838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4514-553D-4F39-AF7D-8C370B99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E236-EA83-4853-BF95-1717B607D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2DD3-7A15-4805-8EC5-17194539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0C5F-8414-4F5F-BE81-C4837DD7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B71-5149-446D-A619-71CB66742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A2D-B52E-4663-8B2D-72330290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BRANDS OF THESE SN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Bugles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7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ostitos.png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Pringles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doritos.jpg"/>
          <p:cNvPicPr/>
          <p:nvPr/>
        </p:nvPicPr>
        <p:blipFill>
          <a:blip r:embed="rId1"/>
          <a:stretch/>
        </p:blipFill>
        <p:spPr>
          <a:xfrm>
            <a:off x="1981080" y="1219320"/>
            <a:ext cx="5322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hex.png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cheetos.jpg"/>
          <p:cNvPicPr/>
          <p:nvPr/>
        </p:nvPicPr>
        <p:blipFill>
          <a:blip r:embed="rId1"/>
          <a:stretch/>
        </p:blipFill>
        <p:spPr>
          <a:xfrm>
            <a:off x="1523880" y="1219320"/>
            <a:ext cx="6222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95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un chip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M  J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lim jim.jpg"/>
          <p:cNvPicPr/>
          <p:nvPr/>
        </p:nvPicPr>
        <p:blipFill>
          <a:blip r:embed="rId1"/>
          <a:stretch/>
        </p:blipFill>
        <p:spPr>
          <a:xfrm>
            <a:off x="914400" y="1219320"/>
            <a:ext cx="72788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Z-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cheez-it.png"/>
          <p:cNvPicPr/>
          <p:nvPr/>
        </p:nvPicPr>
        <p:blipFill>
          <a:blip r:embed="rId1"/>
          <a:stretch/>
        </p:blipFill>
        <p:spPr>
          <a:xfrm>
            <a:off x="1676520" y="1219320"/>
            <a:ext cx="5852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Pringles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Frito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3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Bugles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ST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ostitos.png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98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oritos.jpg"/>
          <p:cNvPicPr/>
          <p:nvPr/>
        </p:nvPicPr>
        <p:blipFill>
          <a:blip r:embed="rId1"/>
          <a:stretch/>
        </p:blipFill>
        <p:spPr>
          <a:xfrm>
            <a:off x="1981080" y="1219320"/>
            <a:ext cx="5322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hex.png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heetos.jpg"/>
          <p:cNvPicPr/>
          <p:nvPr/>
        </p:nvPicPr>
        <p:blipFill>
          <a:blip r:embed="rId1"/>
          <a:stretch/>
        </p:blipFill>
        <p:spPr>
          <a:xfrm>
            <a:off x="1523880" y="1219320"/>
            <a:ext cx="6222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un chip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lim jim.jpg"/>
          <p:cNvPicPr/>
          <p:nvPr/>
        </p:nvPicPr>
        <p:blipFill>
          <a:blip r:embed="rId1"/>
          <a:stretch/>
        </p:blipFill>
        <p:spPr>
          <a:xfrm>
            <a:off x="914400" y="1219320"/>
            <a:ext cx="72788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heez-it.png"/>
          <p:cNvPicPr/>
          <p:nvPr/>
        </p:nvPicPr>
        <p:blipFill>
          <a:blip r:embed="rId1"/>
          <a:stretch/>
        </p:blipFill>
        <p:spPr>
          <a:xfrm>
            <a:off x="1676520" y="1219320"/>
            <a:ext cx="5852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Frito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3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6:22:42Z</dcterms:modified>
  <cp:revision>289</cp:revision>
  <dc:subject/>
  <dc:title>Slide 1</dc:title>
</cp:coreProperties>
</file>