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3747-491C-4DC7-BBEB-6F50DF8EC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8683-473A-4217-9C5B-F2649227E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0413-1B78-45DD-A021-BDFEE7CCC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0B3-AE08-4964-AB17-1EE3F638C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8E8F-AEEB-4211-A61E-DCE7098F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FF51-408E-45BA-81FE-2CD18DC1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1200-B4BC-48DB-8A5B-A963A8E0B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F251-8FB9-4FF8-8867-7E648CCAB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D356-85D8-463C-B25B-6CEB4CA78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1F5C-7722-4E97-9B55-24B492E13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407A-991C-4519-9ED3-5E84B8400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6EB1-9F0C-4C79-8176-35B88C58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84CD5-20C4-48C2-BEF6-8FE85D5E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3F6E-CEDC-4639-9672-2D746E1A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D3B6D-94FA-4EEE-9BD7-BDA7F36E3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41FE-C209-473D-B410-A8C2A044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3019-D8D7-49A5-B119-55BC9E850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A722-5BA0-4AF3-A922-C808EAA98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12BF-583A-466D-B43D-0F582D40C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55B0-3309-47D8-A265-235B612EE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AA7D-47C2-4EDE-AC8E-D5C36BC6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A0DB5-38A6-4D76-AE7E-8B4799F9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8EE9-DAA1-4423-BD8C-DBAE1EB71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BRANDS OF THESE SNA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Bugles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7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ostitos.png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Pringles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doritos.jpg"/>
          <p:cNvPicPr/>
          <p:nvPr/>
        </p:nvPicPr>
        <p:blipFill>
          <a:blip r:embed="rId1"/>
          <a:stretch/>
        </p:blipFill>
        <p:spPr>
          <a:xfrm>
            <a:off x="1981080" y="1219320"/>
            <a:ext cx="5322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hex.png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heetos.jpg"/>
          <p:cNvPicPr/>
          <p:nvPr/>
        </p:nvPicPr>
        <p:blipFill>
          <a:blip r:embed="rId1"/>
          <a:stretch/>
        </p:blipFill>
        <p:spPr>
          <a:xfrm>
            <a:off x="1523880" y="1219320"/>
            <a:ext cx="622296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95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CH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sun chip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M  J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slim jim.jpg"/>
          <p:cNvPicPr/>
          <p:nvPr/>
        </p:nvPicPr>
        <p:blipFill>
          <a:blip r:embed="rId1"/>
          <a:stretch/>
        </p:blipFill>
        <p:spPr>
          <a:xfrm>
            <a:off x="914400" y="1219320"/>
            <a:ext cx="72788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-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heez-it.png"/>
          <p:cNvPicPr/>
          <p:nvPr/>
        </p:nvPicPr>
        <p:blipFill>
          <a:blip r:embed="rId1"/>
          <a:stretch/>
        </p:blipFill>
        <p:spPr>
          <a:xfrm>
            <a:off x="1676520" y="1219320"/>
            <a:ext cx="58528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Pringles.jp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Frito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38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Bugles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50040" cy="375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ST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ostitos.png"/>
          <p:cNvPicPr/>
          <p:nvPr/>
        </p:nvPicPr>
        <p:blipFill>
          <a:blip r:embed="rId1"/>
          <a:stretch/>
        </p:blipFill>
        <p:spPr>
          <a:xfrm>
            <a:off x="2133720" y="12193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98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oritos.jpg"/>
          <p:cNvPicPr/>
          <p:nvPr/>
        </p:nvPicPr>
        <p:blipFill>
          <a:blip r:embed="rId1"/>
          <a:stretch/>
        </p:blipFill>
        <p:spPr>
          <a:xfrm>
            <a:off x="1981080" y="1219320"/>
            <a:ext cx="5322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hex.png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heetos.jpg"/>
          <p:cNvPicPr/>
          <p:nvPr/>
        </p:nvPicPr>
        <p:blipFill>
          <a:blip r:embed="rId1"/>
          <a:stretch/>
        </p:blipFill>
        <p:spPr>
          <a:xfrm>
            <a:off x="1523880" y="1219320"/>
            <a:ext cx="62229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un chip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slim jim.jpg"/>
          <p:cNvPicPr/>
          <p:nvPr/>
        </p:nvPicPr>
        <p:blipFill>
          <a:blip r:embed="rId1"/>
          <a:stretch/>
        </p:blipFill>
        <p:spPr>
          <a:xfrm>
            <a:off x="914400" y="1219320"/>
            <a:ext cx="72788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heez-it.png"/>
          <p:cNvPicPr/>
          <p:nvPr/>
        </p:nvPicPr>
        <p:blipFill>
          <a:blip r:embed="rId1"/>
          <a:stretch/>
        </p:blipFill>
        <p:spPr>
          <a:xfrm>
            <a:off x="1676520" y="1219320"/>
            <a:ext cx="58528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Fritos.jpg"/>
          <p:cNvPicPr/>
          <p:nvPr/>
        </p:nvPicPr>
        <p:blipFill>
          <a:blip r:embed="rId1"/>
          <a:stretch/>
        </p:blipFill>
        <p:spPr>
          <a:xfrm>
            <a:off x="2209680" y="1219320"/>
            <a:ext cx="48038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2:42Z</dcterms:modified>
  <cp:revision>289</cp:revision>
  <dc:subject/>
  <dc:title>Slide 1</dc:title>
</cp:coreProperties>
</file>