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F370-7E86-424C-A34F-88FE83AE8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F035-0F3A-4570-85E1-44D445911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E8F6-A0B3-418C-83E7-62F63113D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93A7-1CA1-4B92-A01A-ED1831A31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1CCF-2660-4A0C-9A49-655FDF2DB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D8EC-6FA7-4949-B5F8-C4069ED9B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1FA7-A4DE-4A53-883B-BDA3E934B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DB50-9B66-4C9C-B5A3-A9956F20B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B635-3625-49B8-8F25-850F2506C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AB44-88DC-41CD-8A48-2814EDAA9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EA49-BF49-49EB-AE73-6186F7EEA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7EF7-7C97-4BF0-86C6-D1A075FD2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2E5F-A7B6-4997-A089-EA8B80485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E0E50-EFFC-44AB-B0CF-1D11EF550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35BA-A227-40B3-94B2-A2B71DE90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BF7E-FA7A-4FCA-AA9B-92A8247D7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2DB80-3534-4003-B244-B28A9DD87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0A97-BCE1-4885-868D-1F7FFF0DF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DEB6-4734-42F6-ADF3-62AEE0489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0157-8FE6-4AB2-88FD-BBE0CF4E9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9247-23EE-4ADE-9D5A-3BEA395E4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20F4-E00F-41B5-B3F8-83E8BC269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0DAD-6566-46BD-A37B-DE17E798F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BRANDS OF CAND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mike and ike.jpg"/>
          <p:cNvPicPr/>
          <p:nvPr/>
        </p:nvPicPr>
        <p:blipFill>
          <a:blip r:embed="rId1"/>
          <a:stretch/>
        </p:blipFill>
        <p:spPr>
          <a:xfrm>
            <a:off x="1905120" y="1295280"/>
            <a:ext cx="52862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nerds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609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&amp;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M&amp;Ms.jpg"/>
          <p:cNvPicPr/>
          <p:nvPr/>
        </p:nvPicPr>
        <p:blipFill>
          <a:blip r:embed="rId1"/>
          <a:stretch/>
        </p:blipFill>
        <p:spPr>
          <a:xfrm>
            <a:off x="1752480" y="1295280"/>
            <a:ext cx="5637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9104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RE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sprees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673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BUR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tarburst.jpg"/>
          <p:cNvPicPr/>
          <p:nvPr/>
        </p:nvPicPr>
        <p:blipFill>
          <a:blip r:embed="rId1"/>
          <a:stretch/>
        </p:blipFill>
        <p:spPr>
          <a:xfrm>
            <a:off x="1600200" y="1295280"/>
            <a:ext cx="58863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runts.jpg"/>
          <p:cNvPicPr/>
          <p:nvPr/>
        </p:nvPicPr>
        <p:blipFill>
          <a:blip r:embed="rId1"/>
          <a:stretch/>
        </p:blipFill>
        <p:spPr>
          <a:xfrm>
            <a:off x="2133720" y="1295280"/>
            <a:ext cx="495288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C TA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Tic-Tacs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404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48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pez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IT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skittles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&amp;Ms.jpg"/>
          <p:cNvPicPr/>
          <p:nvPr/>
        </p:nvPicPr>
        <p:blipFill>
          <a:blip r:embed="rId1"/>
          <a:stretch/>
        </p:blipFill>
        <p:spPr>
          <a:xfrm>
            <a:off x="1752480" y="1295280"/>
            <a:ext cx="5637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Smarties.jpg"/>
          <p:cNvPicPr/>
          <p:nvPr/>
        </p:nvPicPr>
        <p:blipFill>
          <a:blip r:embed="rId1"/>
          <a:stretch/>
        </p:blipFill>
        <p:spPr>
          <a:xfrm>
            <a:off x="380880" y="1295280"/>
            <a:ext cx="84330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8564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KE  AND  I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mike and ike.jpg"/>
          <p:cNvPicPr/>
          <p:nvPr/>
        </p:nvPicPr>
        <p:blipFill>
          <a:blip r:embed="rId1"/>
          <a:stretch/>
        </p:blipFill>
        <p:spPr>
          <a:xfrm>
            <a:off x="1905120" y="1295280"/>
            <a:ext cx="52862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nerds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609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prees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67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tarburst.jpg"/>
          <p:cNvPicPr/>
          <p:nvPr/>
        </p:nvPicPr>
        <p:blipFill>
          <a:blip r:embed="rId1"/>
          <a:stretch/>
        </p:blipFill>
        <p:spPr>
          <a:xfrm>
            <a:off x="1600200" y="1295280"/>
            <a:ext cx="58863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runts.jpg"/>
          <p:cNvPicPr/>
          <p:nvPr/>
        </p:nvPicPr>
        <p:blipFill>
          <a:blip r:embed="rId1"/>
          <a:stretch/>
        </p:blipFill>
        <p:spPr>
          <a:xfrm>
            <a:off x="2133720" y="1295280"/>
            <a:ext cx="4952880" cy="331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Tic-Tacs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404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pez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skittles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Smarties.jpg"/>
          <p:cNvPicPr/>
          <p:nvPr/>
        </p:nvPicPr>
        <p:blipFill>
          <a:blip r:embed="rId1"/>
          <a:stretch/>
        </p:blipFill>
        <p:spPr>
          <a:xfrm>
            <a:off x="380880" y="1295280"/>
            <a:ext cx="84330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1T16:23:25Z</dcterms:modified>
  <cp:revision>289</cp:revision>
  <dc:subject/>
  <dc:title>Slide 1</dc:title>
</cp:coreProperties>
</file>