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EF5C-BCC8-4C4D-A426-AEDBD4181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ED60-A6F3-4878-9B42-22A749697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B058-953D-41B1-96F9-EB5E07CC7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4530-A94C-4CC2-A9A6-D561E65B6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F922-E78B-41B9-B7A8-BC4114A44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8FD9-4E4E-4571-83AF-08DCD19EB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FADE-6102-4586-8E8C-501393269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E8DC-21A7-4333-A864-3F6E493DE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928F-FEA9-4537-ACDE-0FFF29026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0332-B9AB-414D-84DC-6A8E89C5C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BCC3-7177-4FF3-9B3B-D24E7A3CE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3A63-7703-42EE-A1FF-E43EDE30C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1EF6-3DBD-42FE-802E-BDB5F38E6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B696-FCA8-4A3E-8ADB-4DA3E29B7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0D20-EC90-40BA-8FD8-FB2F6A6D4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0B48-7BF3-4246-83ED-6954C7806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A282-1BEB-456A-A30C-3C37E4B4D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D6EF-A40D-4274-B661-0E127A831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16DC-9C95-41DB-B3A0-8F7991743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A049-EA62-42E9-A4BA-706C5BB01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956F-642A-44B2-92D3-B41416CE8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0C4F-ECB8-4B5A-9091-5BFB97A75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B63A-6381-4083-8E66-96D69FF1A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BRANDS OF CAN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mike and ike.jpg"/>
          <p:cNvPicPr/>
          <p:nvPr/>
        </p:nvPicPr>
        <p:blipFill>
          <a:blip r:embed="rId1"/>
          <a:stretch/>
        </p:blipFill>
        <p:spPr>
          <a:xfrm>
            <a:off x="1905120" y="1295280"/>
            <a:ext cx="52862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nerd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609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&amp;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M&amp;Ms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37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910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prees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673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BUR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tarburst.jpg"/>
          <p:cNvPicPr/>
          <p:nvPr/>
        </p:nvPicPr>
        <p:blipFill>
          <a:blip r:embed="rId1"/>
          <a:stretch/>
        </p:blipFill>
        <p:spPr>
          <a:xfrm>
            <a:off x="1600200" y="1295280"/>
            <a:ext cx="58863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runts.jpg"/>
          <p:cNvPicPr/>
          <p:nvPr/>
        </p:nvPicPr>
        <p:blipFill>
          <a:blip r:embed="rId1"/>
          <a:stretch/>
        </p:blipFill>
        <p:spPr>
          <a:xfrm>
            <a:off x="2133720" y="1295280"/>
            <a:ext cx="495288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C T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Tic-Tac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404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48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pez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IT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skittles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&amp;Ms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37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Smarties.jpg"/>
          <p:cNvPicPr/>
          <p:nvPr/>
        </p:nvPicPr>
        <p:blipFill>
          <a:blip r:embed="rId1"/>
          <a:stretch/>
        </p:blipFill>
        <p:spPr>
          <a:xfrm>
            <a:off x="380880" y="1295280"/>
            <a:ext cx="84330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8564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AND  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mike and ike.jpg"/>
          <p:cNvPicPr/>
          <p:nvPr/>
        </p:nvPicPr>
        <p:blipFill>
          <a:blip r:embed="rId1"/>
          <a:stretch/>
        </p:blipFill>
        <p:spPr>
          <a:xfrm>
            <a:off x="1905120" y="1295280"/>
            <a:ext cx="52862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nerd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609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prees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67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tarburst.jpg"/>
          <p:cNvPicPr/>
          <p:nvPr/>
        </p:nvPicPr>
        <p:blipFill>
          <a:blip r:embed="rId1"/>
          <a:stretch/>
        </p:blipFill>
        <p:spPr>
          <a:xfrm>
            <a:off x="1600200" y="1295280"/>
            <a:ext cx="58863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runts.jpg"/>
          <p:cNvPicPr/>
          <p:nvPr/>
        </p:nvPicPr>
        <p:blipFill>
          <a:blip r:embed="rId1"/>
          <a:stretch/>
        </p:blipFill>
        <p:spPr>
          <a:xfrm>
            <a:off x="2133720" y="1295280"/>
            <a:ext cx="495288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Tic-Tac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404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pez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skittles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Smarties.jpg"/>
          <p:cNvPicPr/>
          <p:nvPr/>
        </p:nvPicPr>
        <p:blipFill>
          <a:blip r:embed="rId1"/>
          <a:stretch/>
        </p:blipFill>
        <p:spPr>
          <a:xfrm>
            <a:off x="380880" y="1295280"/>
            <a:ext cx="8433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1T16:23:25Z</dcterms:modified>
  <cp:revision>289</cp:revision>
  <dc:subject/>
  <dc:title>Slide 1</dc:title>
</cp:coreProperties>
</file>