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4388-5763-4611-BD50-600522297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F714-3DD2-49E6-9ED9-E531BBFD7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200B-A329-4876-B469-F86C4579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A22B-7CBA-4A7B-B2C2-0FA1A58C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8A65-AC90-4EB4-9AD1-47CA99201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9025-AD7B-4488-8E8C-D72A08694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D39-FA2C-449F-8D0F-DB085488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345-93B5-4188-897F-6FC386D9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6CDB-3EAE-44A0-8DCB-384C9304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1197-D4AC-4089-B535-69876896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DFFA-6A2A-421D-8022-E123C8022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756B-A47F-461F-AFEE-99542945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E5F6-7E3F-462C-A614-22BA4A3F6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F69-FDA7-41C8-A856-BEF75CC3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1C0D-128C-4658-8AC6-B3634976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3B7E-8231-45A4-BD8E-8F1892B0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8BCC-C3B2-4C6F-B3DA-E2401A121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DEA7-766B-4A82-B46D-09A48C2D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3385-C601-4A05-AB7B-6C1A743CA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5BE2-FAC1-4481-8A40-D133F779B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2E78-4380-4F43-BC53-552335B0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10FE-F806-42BC-9E77-9E44984E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E7BF-8973-4450-B49F-FB0735F98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ICE WAS ALSO THE NAME OF A CHARACTER TRAPPED ON GILLIGAN'S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295280" y="434340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SLEY, SAGE, ROSEMARY AND TH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S MAKE UP THE TITLE FOR SIMON &amp; GARFUNKE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AM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, THAT COMES IN PODS, IS KNOWN AS "THE QUEEN OF SPICES" IN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CAN FOLLOW "SPEAR" OR "PE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F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ING FROM A FLOWERING PLANT IN THE CROCUS FAMILY, WHAT IS THE WORLD'S MOST EXPENSIVE SPICE BY WE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PICE GIRLS WE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R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PROVIDES THE MAIN FLAVOR IN HUNGARIAN COO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860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SPICE IN RYE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S MAKE UP THE TITLE FOR SIMON &amp; GARFUNKE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APPEARS IN THE PASSWORD IN "THE THOUSAND AND ONE NIGHT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ICE WAS ALSO THE NAME OF A CHARACTER TRAPPED ON GILLIGAN'S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, THAT COMES IN PODS, IS KNOWN AS "THE QUEEN OF SPICES" IN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CAN FOLLOW "SPEAR" OR "PE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ING FROM A FLOWERING PLANT IN THE CROCUS FAMILY, WHAT IS THE WORLD'S MOST EXPENSIVE SPICE BY WE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PICE GIRLS WE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PROVIDES THE MAIN FLAVOR IN HUNGARIAN COO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SPICE IN RYE B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APPEARS IN THE PASSWORD IN "THE THOUSAND AND ONE NIGHT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2:22:39Z</dcterms:created>
  <dc:creator>Jennifer Budzinski</dc:creator>
  <dc:description/>
  <dc:language>en-US</dc:language>
  <cp:lastModifiedBy>Erich Friedman</cp:lastModifiedBy>
  <dcterms:modified xsi:type="dcterms:W3CDTF">2020-09-05T08:57:46Z</dcterms:modified>
  <cp:revision>328</cp:revision>
  <dc:subject/>
  <dc:title>Slide 1</dc:title>
</cp:coreProperties>
</file>