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6758-0112-49A5-B54C-78D59A018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7242-4B45-417E-8E93-4E286A83E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F807-C3D0-4548-810A-D657D8EB9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FE07-8E4B-4941-9EF6-6F3D0C736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231F-73C4-48D5-8C93-1203E0793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268B-5212-453F-AAB9-870FA257E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A90B-159A-41BB-8356-A601908E1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BF9E-F667-4E08-8627-21441C72A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10DD-C73D-4C43-B20C-49435834B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51B9-620D-46AB-917A-4D9939D78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CD5B-BA67-4670-A795-A8232C5B4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C4EC-C4B2-49C3-966F-19636B825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02C2-EAEC-4470-B124-BACA65DD3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F0A5-DF21-453F-95B7-EA7D889C4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D07A-3C77-4642-B18A-5FA47CCAD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F482-119D-4D0A-BFA9-0E254D5B0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1700-4989-49DF-85F0-61DE36CF4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C2F2-679B-4153-840F-A2C1A2170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81DC-29DC-4436-9FE5-994EB5B67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6BCD-19EB-4310-9D57-1E66E64E6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5CE0-7A27-475B-AAAE-521A3465B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6FAE-A53E-43C0-AB41-7251B97FA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E1A5-23CC-494C-A043-861A86730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I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PICE WAS ALSO THE NAME OF A CHARACTER TRAPPED ON GILLIGAN'S IS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CE'S NAME COMES FROM THE GREEK WORD FOR "DRAG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295280" y="4343400"/>
            <a:ext cx="6553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SLEY, SAGE, ROSEMARY AND THY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CES MAKE UP THE TITLE FOR SIMON &amp; GARFUNKEL'S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DAM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CE, THAT COMES IN PODS, IS KNOWN AS "THE QUEEN OF SPICES" IN IND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CE CAN FOLLOW "SPEAR" OR "PEPP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FF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ING FROM A FLOWERING PLANT IN THE CROCUS FAMILY, WHAT IS THE WORLD'S MOST EXPENSIVE SPICE BY WE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486080" y="762120"/>
            <a:ext cx="6172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PICE GIRLS WERE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PRI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28880" y="762120"/>
            <a:ext cx="7086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CE PROVIDES THE MAIN FLAVOR IN HUNGARIAN COOK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486080" y="762120"/>
            <a:ext cx="6172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IN SPICE IN RYE BR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CES MAKE UP THE TITLE FOR SIMON &amp; GARFUNKEL'S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S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CE'S NAME APPEARS IN THE PASSWORD IN "THE THOUSAND AND ONE NIGHTS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57480" y="762120"/>
            <a:ext cx="6629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PICE WAS ALSO THE NAME OF A CHARACTER TRAPPED ON GILLIGAN'S IS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RRA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90720" y="762120"/>
            <a:ext cx="71625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CE'S NAME COMES FROM THE GREEK WORD FOR "DRAG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CE, THAT COMES IN PODS, IS KNOWN AS "THE QUEEN OF SPICES" IN IND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CE CAN FOLLOW "SPEAR" OR "PEPP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ING FROM A FLOWERING PLANT IN THE CROCUS FAMILY, WHAT IS THE WORLD'S MOST EXPENSIVE SPICE BY WEIGH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409760" y="762120"/>
            <a:ext cx="6324480" cy="22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PICE GIRLS WERE T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CE PROVIDES THE MAIN FLAVOR IN HUNGARIAN COOK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485720" y="761760"/>
            <a:ext cx="6172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IN SPICE IN RYE BRE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CE'S NAME APPEARS IN THE PASSWORD IN "THE THOUSAND AND ONE NIGHTS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0T12:22:39Z</dcterms:created>
  <dc:creator>Jennifer Budzinski</dc:creator>
  <dc:description/>
  <dc:language>en-US</dc:language>
  <cp:lastModifiedBy>Erich Friedman</cp:lastModifiedBy>
  <dcterms:modified xsi:type="dcterms:W3CDTF">2020-09-05T08:57:46Z</dcterms:modified>
  <cp:revision>328</cp:revision>
  <dc:subject/>
  <dc:title>Slide 1</dc:title>
</cp:coreProperties>
</file>