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D170-C15C-451E-8339-CBD234428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262E-BCEA-493E-8B72-DE047A792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7871-58F2-4E80-B7E7-6B216407D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7744-72A3-48BD-B17E-31C524211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D92A-ABDD-4304-8F1C-245767160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7B57-A5E3-4862-9C74-14636B1AC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B0FA-A0FD-4990-89B1-AEB9B351A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4BBC-28A0-4F8F-8448-F2AF229E3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EFAA-9A2F-443A-B98A-EFBD0A9DF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847C-D120-43D9-9231-EBFFCBF52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1327-4D0B-428C-BDE6-BDE1149D9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1502-1557-41FF-9E04-E42CD8A7A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0959-5E45-4B26-87ED-CA18348F6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9ABD-0BA3-4C7E-9DB3-43B53C64B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C99E-75A0-4549-96A9-177217E68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CAC4-FD57-442B-ABAE-22E28E9CB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E7E0-3879-43A6-9813-BF8A3AC68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8085-61FE-40D6-B5FA-E627AE8AA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1F88-ACB9-4481-8677-EB24B3513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53CA-E33E-4114-BD82-3009831B8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D7FC-2A1B-4C27-8873-059B147D1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16B0-A4DC-4644-A1F8-5C3666B1F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34E8-A1F6-4F3B-9093-BDEE5EE8B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I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ICE WAS ALSO THE NAME OF A CHARACTER TRAPPED ON GILLIGAN'S ISL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52560" y="762120"/>
            <a:ext cx="72388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COMES FROM THE GREEK WORD FOR "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295280" y="4343400"/>
            <a:ext cx="6553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RSLEY, SAGE, ROSEMARY AND THY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S MAKE UP THE TITLE FOR SIMON &amp; GARFUNKEL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DAM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80880" y="762120"/>
            <a:ext cx="8382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, THAT COMES IN PODS, IS KNOWN AS "THE QUEEN OF SPICES" IN IN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CAN FOLLOW "SPEAR" OR "PEP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FF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ING FROM A FLOWERING PLANT IN THE CROCUS FAMILY, WHAT IS THE WORLD'S MOST EXPENSIVE SPICE BY WE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86080" y="762120"/>
            <a:ext cx="61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PICE GIRLS WERE THE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RI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028880" y="762120"/>
            <a:ext cx="7086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PROVIDES THE MAIN FLAVOR IN HUNGARIAN COO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A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86080" y="762120"/>
            <a:ext cx="6172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SPICE IN RYE B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S MAKE UP THE TITLE FOR SIMON &amp; GARFUNKEL'S 3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S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APPEARS IN THE PASSWORD IN "THE THOUSAND AND ONE NIGHTS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SPICE WAS ALSO THE NAME OF A CHARACTER TRAPPED ON GILLIGAN'S ISL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RRAG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COMES FROM THE GREEK WORD FOR "DRAG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, THAT COMES IN PODS, IS KNOWN AS "THE QUEEN OF SPICES" IN IND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CAN FOLLOW "SPEAR" OR "PEPP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ING FROM A FLOWERING PLANT IN THE CROCUS FAMILY, WHAT IS THE WORLD'S MOST EXPENSIVE SPICE BY WE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SPICE GIRLS WERE T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 PROVIDES THE MAIN FLAVOR IN HUNGARIAN COO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85720" y="76176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IN SPICE IN RYE BR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PICE'S NAME APPEARS IN THE PASSWORD IN "THE THOUSAND AND ONE NIGHTS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0T12:22:39Z</dcterms:created>
  <dc:creator>Jennifer Budzinski</dc:creator>
  <dc:description/>
  <dc:language>en-US</dc:language>
  <cp:lastModifiedBy>Erich Friedman</cp:lastModifiedBy>
  <dcterms:modified xsi:type="dcterms:W3CDTF">2020-09-05T08:57:46Z</dcterms:modified>
  <cp:revision>328</cp:revision>
  <dc:subject/>
  <dc:title>Slide 1</dc:title>
</cp:coreProperties>
</file>