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8A71-C4A4-42DD-8D3D-F9970E9EC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5A3E-C86B-40E9-80F4-667A283B1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885F-947F-42C4-B34D-BAA353056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B8F6B-CCBD-4C2F-9842-1071D2995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1951-0FFF-4DBD-8917-A7DCAB47F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7F0A-3572-4F46-8777-3E77EEA2C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FFC8-F3AC-4BDC-B44A-9B051BEB6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A5DE-1A25-4572-9D76-8DD4396F7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A633-8F46-4AC4-8D2A-1F148E392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903A-4874-41BC-BF1F-899A963BF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C2E1-D020-4217-A371-51C2A946E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E4E8-1A1C-44F4-BB45-4513134DC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674B-C477-4417-9F9D-8A493CFBB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5040-F6E4-4B4A-B66D-2424B7DAD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F63C-2488-4552-BCDA-D6D93BFC9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FFF7-473B-4D68-95EC-8B76253A6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CD2B-9591-4207-AB2F-753551917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8528-0F67-4AE8-8D28-52AA20CF7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502F-1708-4268-A6B2-0EB33F191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DAED-658A-4C78-AECC-00AB4292D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39E7-6FB4-40D4-A48A-C9D518E00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3A58-0534-4E9A-AB84-AAEC5E127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EE970-C1FF-42A0-89C8-52676AA56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VERAG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XED DRINK CONTAINS PEACH SCHNAPPS AND ORANGE JUI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FT DRINK WAS THE FIRST PRODUCT TO EVER APPEAR ON THE COVER OF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576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576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BEVERAGE IN THE WORLD THAT DOES NOT CONTAIN ALCOHOL, BESIDES WA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6656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R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FT DRINK HAS TRADEMARKED THE SLOGAN "OBEY YOUR THIR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3956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I  T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INK GETS ITS NAME FROM A TAHITIAN EXPRESSION MEANING "OUT OF THIS WOR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ATO  JU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D DRINK IS THE STATE DRINK OF OH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A  LE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MORE CAFFEINE, COFFEE BEANS OR TEA LEAV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ODY  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INK WAS NAMED FOR THE CHILD OF HENRY VIII AND CATHERINE OF ARAG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AT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GRINDING APPLES TO A PULP TO MAKE CIDER CALLED MASHING, SCRATTING, OR POMAC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BEVERAGE IN THE WORLD THAT DOES NOT CONTAIN ALCOHOL, BESIDES WA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OPULAR SNACK FOOD COMPANY OWNS THE KOOL-AID BR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ZZY  NA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XED DRINK CONTAINS PEACH SCHNAPPS AND ORANGE JUI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CA  C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FT DRINK WAS THE FIRST PRODUCT TO EVER APPEAR ON THE COVER OF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FT DRINK HAS TRADEMARKED THE SLOGAN "OBEY YOUR THIR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INK GETS ITS NAME FROM A TAHITIAN EXPRESSION MEANING "OUT OF THIS WOR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D DRINK IS THE STATE DRINK OF OH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MORE CAFFEINE, COFFEE BEANS OR TEA LEAV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INK WAS NAMED FOR THE CHILD OF HENRY VIII AND CATHERINE OF ARAG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GRINDING APPLES TO A PULP TO MAKE CIDER CALLED MASHING, SCRATTING, OR POMAC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OPULAR SNACK FOOD COMPANY OWNS THE KOOL-AID BR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6T17:33:03Z</dcterms:created>
  <dc:creator>Jennifer Budzinski</dc:creator>
  <dc:description/>
  <dc:language>en-US</dc:language>
  <cp:lastModifiedBy>Erich Friedman</cp:lastModifiedBy>
  <dcterms:modified xsi:type="dcterms:W3CDTF">2020-09-01T15:09:21Z</dcterms:modified>
  <cp:revision>283</cp:revision>
  <dc:subject/>
  <dc:title>Slide 1</dc:title>
</cp:coreProperties>
</file>