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968-EC54-4975-8462-888A0000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DF73-3747-4811-A12F-247FF250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C60-2D5D-48C0-A0B9-F910C541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0A4-CEA3-4BB6-8125-25FD1123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D20D-00C0-4675-A38D-6A0B85AA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E9D-123D-4BB6-BC66-4B1182C09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6335-ACA3-40D6-8E20-68B1D3EF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F199-282E-4557-9AC5-17E05145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240-CED1-4EB0-9801-44CA6BF82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D643-7882-4A5B-94DB-805F3BA3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F78B-9151-40E5-9616-F4C92C73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AF7-AE81-4C01-8019-D559A766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7A3B-0BF5-4BDE-B2C4-00AC4138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1DE6-4F39-47F6-A74B-28FC81238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E18-AF2B-4A87-A3AF-56A0C2F4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3C15-D62E-439C-982C-58F08DD3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832-EBEA-4CF0-8577-A19398D94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CCF-27A4-48C3-B2A3-D3EB58D4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335E-B651-4E2E-BA0B-798D16D2A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4173-73B0-4069-93D2-D4603BF4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C178-8ED8-40D4-B52B-3B23894F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3171-E297-451B-AFCA-FD8C6F34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50C-EA6E-4C53-8F0A-AA2B484A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VER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57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57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39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  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ATO 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 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ZZY  N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17:33:03Z</dcterms:created>
  <dc:creator>Jennifer Budzinski</dc:creator>
  <dc:description/>
  <dc:language>en-US</dc:language>
  <cp:lastModifiedBy>Erich Friedman</cp:lastModifiedBy>
  <dcterms:modified xsi:type="dcterms:W3CDTF">2020-09-01T15:09:21Z</dcterms:modified>
  <cp:revision>283</cp:revision>
  <dc:subject/>
  <dc:title>Slide 1</dc:title>
</cp:coreProperties>
</file>