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DF6E-8D82-4DFE-9CBA-7B454343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2C8-F4C4-40CC-8992-5AC96242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1AB-375B-4704-A515-F66C2224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326-42A4-4B8A-9249-DCC7BEF2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ED4-F846-4190-B7BE-6384FAAF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7508-29E0-4724-ADA5-D8BC94F2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294-E0F5-41AF-B3CF-D00E344F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4C5-07C0-493D-91F2-B5ECBD45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66C9-E92F-4F1B-950E-9FDE907F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36CD-C0F3-486A-9642-BA9F085F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8954-BDAF-40B8-AA96-58C26AF51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F9D-C21D-4ECD-AE91-D043C2A2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67D-7550-4626-ABCC-65B4AA90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913-F7E9-4E19-9E39-D6D3D7A8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5283-9F78-464C-9836-D816AD6F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A42-6271-434A-ACBE-7F933C5E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712-CD06-47AD-A55C-96087EC5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C1E-2C74-4DAC-99A4-46D05BFE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1E23-2EE6-4C0D-A8CC-9B0241B9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56A3-83EA-4C63-9883-A478C831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073-C685-4E15-8D5B-C8A1FB3E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F6E-69F8-4147-962F-4D68B91B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38A6-8A23-49CF-AC67-D35BDA478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VER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57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57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39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  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ATO 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 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ZZY  N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17:33:03Z</dcterms:created>
  <dc:creator>Jennifer Budzinski</dc:creator>
  <dc:description/>
  <dc:language>en-US</dc:language>
  <cp:lastModifiedBy>Erich Friedman</cp:lastModifiedBy>
  <dcterms:modified xsi:type="dcterms:W3CDTF">2020-09-01T15:09:21Z</dcterms:modified>
  <cp:revision>283</cp:revision>
  <dc:subject/>
  <dc:title>Slide 1</dc:title>
</cp:coreProperties>
</file>