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742-E714-4DE4-AC5B-07523A5EC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E591-1635-468C-B4B4-D1743B83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08A3-3436-4672-AEC5-A087AB48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4065-36DC-4DA7-99AC-6B290695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811-952F-4B29-8C96-12790CDFB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0AAE-CEDD-4676-AD5E-C69E16D3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E6B-B997-41D7-B605-29573217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5D1-E9BA-4761-A8F2-869FF54A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FE2F-9E96-4161-8A77-F4881A34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00E1-E467-4F3A-9BDD-704DB672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554-6646-4481-AC5A-C11904D5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73FA-E45E-45B7-894C-2C186F3C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524-3A47-46B3-9CE0-C193D950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E13-3117-4A8A-8B05-826067E76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6124-C0E0-40A3-B824-68EA2776B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EC1A-1201-4433-8DD4-1D9770E3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87B7-396B-41EF-AED3-EE08CF90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8194-7137-4F1A-BE10-8D597EA2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40D-E47E-45EE-A244-FDFD904C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7EE-181D-4B68-9A41-1D04DD0F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A2CD-39C3-4898-B7A2-8907B0E9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1E2-F2CB-49D7-9A0B-8B6A5D6E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3221-B7A8-42D2-8D2B-4164F393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SODA FROM THE C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78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67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4452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  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09680" cy="38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–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&amp;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creen Shot 2018-04-18 at 2.02.1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170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795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5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  Y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66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33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creen Shot 2018-04-18 at 2.02.11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2129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7:53:16Z</dcterms:created>
  <dc:creator>Jennifer Budzinski</dc:creator>
  <dc:description/>
  <dc:language>en-US</dc:language>
  <cp:lastModifiedBy>Erich Friedman</cp:lastModifiedBy>
  <dcterms:modified xsi:type="dcterms:W3CDTF">2020-09-01T15:10:41Z</dcterms:modified>
  <cp:revision>289</cp:revision>
  <dc:subject/>
  <dc:title>Slide 1</dc:title>
</cp:coreProperties>
</file>