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FF08-C036-498A-8816-C6CB2C5BA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8A38-959D-42F6-96A6-7BB5EFC8D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50D7-B93B-4FBB-B29A-88B49EF47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B52E-3C37-4C8C-AC56-AC5BA7CA6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3F09-F0E7-43BC-91AD-84BEB9C93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5083-D9E9-4BB1-B9C0-F1A7687B3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B244-232C-45E9-9ACC-06CCB621B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67D8-41A4-4BFA-A31B-81CABDE09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A503-23C6-45A0-B177-D6262EBBB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4440-F185-48B3-9A23-E79973A70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0ED2-FB61-45A1-9746-ACA21FC0F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1595-DA84-4C08-9F7C-AB656251A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3DEF-FB69-4DD4-8395-609CF9CF1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EF57-AFBE-45E5-9FF7-F09D8869F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CE3C-3987-4524-8E5C-26D425A3D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866A-BEBE-4555-B8B4-DB2C83212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1076-AA51-454C-996F-9B6CB0616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71BD-BDC7-40DC-9DD6-1DDD1474E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554D-1AE2-4A77-8826-C0882B130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4277-7AE6-4F9B-8EF8-3E26FA1E4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24FA-91EB-4E5D-90EE-1E5D2507A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F263-EB06-483A-B190-6836F8094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1570-1A95-4172-8DBF-81858D61E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SODA FROM THE C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Screen Shot 2018-04-18 at 2.04.53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1780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Screen Shot 2018-04-18 at 2.05.55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0001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1055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P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Screen Shot 2018-04-18 at 1.53.51 PM.png"/>
          <p:cNvPicPr/>
          <p:nvPr/>
        </p:nvPicPr>
        <p:blipFill>
          <a:blip r:embed="rId1"/>
          <a:stretch/>
        </p:blipFill>
        <p:spPr>
          <a:xfrm>
            <a:off x="3429000" y="1219320"/>
            <a:ext cx="224316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533520" y="506736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-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Screen Shot 2018-04-18 at 1.55.23 PM.png"/>
          <p:cNvPicPr/>
          <p:nvPr/>
        </p:nvPicPr>
        <p:blipFill>
          <a:blip r:embed="rId1"/>
          <a:stretch/>
        </p:blipFill>
        <p:spPr>
          <a:xfrm>
            <a:off x="3505320" y="1295280"/>
            <a:ext cx="2144520" cy="377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  PE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Screen Shot 2018-04-18 at 1.56.45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133360" cy="380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NTAIN  D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Screen Shot 2018-04-18 at 1.57.50 PM.png"/>
          <p:cNvPicPr/>
          <p:nvPr/>
        </p:nvPicPr>
        <p:blipFill>
          <a:blip r:embed="rId1"/>
          <a:stretch/>
        </p:blipFill>
        <p:spPr>
          <a:xfrm>
            <a:off x="3429000" y="1219320"/>
            <a:ext cx="2209680" cy="38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CA–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Screen Shot 2018-04-18 at 1.59.00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133360" cy="37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&amp;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Screen Shot 2018-04-18 at 2.00.56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02536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ERRA  M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Screen Shot 2018-04-18 at 2.02.11 PM.png"/>
          <p:cNvPicPr/>
          <p:nvPr/>
        </p:nvPicPr>
        <p:blipFill>
          <a:blip r:embed="rId1"/>
          <a:stretch/>
        </p:blipFill>
        <p:spPr>
          <a:xfrm>
            <a:off x="3429000" y="1219320"/>
            <a:ext cx="21700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Screen Shot 2018-04-18 at 1.53.51 PM.png"/>
          <p:cNvPicPr/>
          <p:nvPr/>
        </p:nvPicPr>
        <p:blipFill>
          <a:blip r:embed="rId1"/>
          <a:stretch/>
        </p:blipFill>
        <p:spPr>
          <a:xfrm>
            <a:off x="3429000" y="1219320"/>
            <a:ext cx="22431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Screen Shot 2018-04-18 at 2.03.32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133360" cy="375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7952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Screen Shot 2018-04-18 at 2.04.53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13516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LO  YE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Screen Shot 2018-04-18 at 2.05.55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00016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Screen Shot 2018-04-18 at 1.55.23 PM.png"/>
          <p:cNvPicPr/>
          <p:nvPr/>
        </p:nvPicPr>
        <p:blipFill>
          <a:blip r:embed="rId1"/>
          <a:stretch/>
        </p:blipFill>
        <p:spPr>
          <a:xfrm>
            <a:off x="3505320" y="1295280"/>
            <a:ext cx="216684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Screen Shot 2018-04-18 at 1.56.45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133360" cy="380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Screen Shot 2018-04-18 at 1.57.50 PM.png"/>
          <p:cNvPicPr/>
          <p:nvPr/>
        </p:nvPicPr>
        <p:blipFill>
          <a:blip r:embed="rId1"/>
          <a:stretch/>
        </p:blipFill>
        <p:spPr>
          <a:xfrm>
            <a:off x="3429000" y="1219320"/>
            <a:ext cx="223344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Screen Shot 2018-04-18 at 1.59.00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133360" cy="37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Screen Shot 2018-04-18 at 2.00.56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0253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Screen Shot 2018-04-18 at 2.02.11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2129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Screen Shot 2018-04-18 at 2.03.32 PM.png"/>
          <p:cNvPicPr/>
          <p:nvPr/>
        </p:nvPicPr>
        <p:blipFill>
          <a:blip r:embed="rId1"/>
          <a:stretch/>
        </p:blipFill>
        <p:spPr>
          <a:xfrm>
            <a:off x="3505320" y="1219320"/>
            <a:ext cx="2133360" cy="3759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8T17:53:16Z</dcterms:created>
  <dc:creator>Jennifer Budzinski</dc:creator>
  <dc:description/>
  <dc:language>en-US</dc:language>
  <cp:lastModifiedBy>Erich Friedman</cp:lastModifiedBy>
  <dcterms:modified xsi:type="dcterms:W3CDTF">2020-09-01T15:10:41Z</dcterms:modified>
  <cp:revision>289</cp:revision>
  <dc:subject/>
  <dc:title>Slide 1</dc:title>
</cp:coreProperties>
</file>