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C734-CB73-4B21-929C-1BCBD1DCA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433C-4922-4D14-B4FA-4498C970C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485D-2628-40DB-A034-76EF00F0A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4582-4807-4AD5-99E0-043150087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819E-2B0D-4D8C-8885-D277F870D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7B9B-985E-442E-84D7-8BB3EECAE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B805-200B-4DF3-9D99-7A22279BB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AA1D-510E-4DF9-8350-039037DD3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13FE-8B27-4B3A-A39B-2EA50EE08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DC1C-FA26-48D3-9A34-2EB0B8240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5E39-6D80-4A8D-9356-6B7A456DF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63FA-4E4B-46BA-983C-C8A807207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895B-6541-4D62-82DD-C755F159D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2D83A-AED9-4607-992C-71919EBAE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96DB-F807-4CE8-BFD9-A5EC1FEDF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B84D-0CD8-4780-BC45-B795ED5C4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28DF-4727-4C29-814A-D62814A70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BEA9-E0F2-4453-84ED-CEC0C6A8C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1B63-B970-4317-AC04-5E5A13C79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6001-3010-4931-82C1-70650143A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13BD-6C1E-481B-A70B-F28839A11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8AAC-F7EF-48FE-8F8C-7F4DBC678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6353-8B3C-4B12-8DF5-F7BB1B854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3344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EREALS HAVE THESE CARTOON SPOKESPERS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fb_logo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Trix_Rabbit.jpg"/>
          <p:cNvPicPr/>
          <p:nvPr/>
        </p:nvPicPr>
        <p:blipFill>
          <a:blip r:embed="rId1"/>
          <a:stretch/>
        </p:blipFill>
        <p:spPr>
          <a:xfrm>
            <a:off x="2819520" y="1219320"/>
            <a:ext cx="35906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  CHOC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count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5760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4676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E  KRISP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Screen Shot 2018-05-31 at 12.19.42 PM.png"/>
          <p:cNvPicPr/>
          <p:nvPr/>
        </p:nvPicPr>
        <p:blipFill>
          <a:blip r:embed="rId1"/>
          <a:stretch/>
        </p:blipFill>
        <p:spPr>
          <a:xfrm>
            <a:off x="2076480" y="1225440"/>
            <a:ext cx="4991040" cy="365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6584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OSTED  FL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6a00d8341c51c053ef00e54f39abff8833-800wi.jpg"/>
          <p:cNvPicPr/>
          <p:nvPr/>
        </p:nvPicPr>
        <p:blipFill>
          <a:blip r:embed="rId1"/>
          <a:stretch/>
        </p:blipFill>
        <p:spPr>
          <a:xfrm>
            <a:off x="2451240" y="1295280"/>
            <a:ext cx="424152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OOT  LO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char_toucansam.jpg"/>
          <p:cNvPicPr/>
          <p:nvPr/>
        </p:nvPicPr>
        <p:blipFill>
          <a:blip r:embed="rId1"/>
          <a:stretch/>
        </p:blipFill>
        <p:spPr>
          <a:xfrm>
            <a:off x="2895480" y="1219320"/>
            <a:ext cx="33051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EY  NUT  CHEE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honey-nut-cheerios-will-no-longer-have-a-bee-on-the-cereal-box.jpg"/>
          <p:cNvPicPr/>
          <p:nvPr/>
        </p:nvPicPr>
        <p:blipFill>
          <a:blip r:embed="rId1"/>
          <a:stretch/>
        </p:blipFill>
        <p:spPr>
          <a:xfrm>
            <a:off x="2635200" y="1295280"/>
            <a:ext cx="3873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6836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KY  CHA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1stpic-lucky-charms-leprechaun.png"/>
          <p:cNvPicPr/>
          <p:nvPr/>
        </p:nvPicPr>
        <p:blipFill>
          <a:blip r:embed="rId1"/>
          <a:stretch/>
        </p:blipFill>
        <p:spPr>
          <a:xfrm>
            <a:off x="2878200" y="1295280"/>
            <a:ext cx="33876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SIN  BR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C6-uMadXEAAzNkS.jpg"/>
          <p:cNvPicPr/>
          <p:nvPr/>
        </p:nvPicPr>
        <p:blipFill>
          <a:blip r:embed="rId1"/>
          <a:stretch/>
        </p:blipFill>
        <p:spPr>
          <a:xfrm>
            <a:off x="2797200" y="1219320"/>
            <a:ext cx="3549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count.jpg"/>
          <p:cNvPicPr/>
          <p:nvPr/>
        </p:nvPicPr>
        <p:blipFill>
          <a:blip r:embed="rId1"/>
          <a:stretch/>
        </p:blipFill>
        <p:spPr>
          <a:xfrm>
            <a:off x="2743200" y="1219320"/>
            <a:ext cx="378612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6036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  SUGAR  CRI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sugar bear.jpg"/>
          <p:cNvPicPr/>
          <p:nvPr/>
        </p:nvPicPr>
        <p:blipFill>
          <a:blip r:embed="rId1"/>
          <a:stretch/>
        </p:blipFill>
        <p:spPr>
          <a:xfrm>
            <a:off x="2857680" y="1260360"/>
            <a:ext cx="3429000" cy="369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'N  CR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fb_logo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Trix_Rabbit.jpg"/>
          <p:cNvPicPr/>
          <p:nvPr/>
        </p:nvPicPr>
        <p:blipFill>
          <a:blip r:embed="rId1"/>
          <a:stretch/>
        </p:blipFill>
        <p:spPr>
          <a:xfrm>
            <a:off x="2819520" y="1219320"/>
            <a:ext cx="35906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creen Shot 2018-05-31 at 12.19.42 PM.png"/>
          <p:cNvPicPr/>
          <p:nvPr/>
        </p:nvPicPr>
        <p:blipFill>
          <a:blip r:embed="rId1"/>
          <a:stretch/>
        </p:blipFill>
        <p:spPr>
          <a:xfrm>
            <a:off x="1981080" y="1219320"/>
            <a:ext cx="51040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6a00d8341c51c053ef00e54f39abff8833-800wi.jpg"/>
          <p:cNvPicPr/>
          <p:nvPr/>
        </p:nvPicPr>
        <p:blipFill>
          <a:blip r:embed="rId1"/>
          <a:stretch/>
        </p:blipFill>
        <p:spPr>
          <a:xfrm>
            <a:off x="2438280" y="1219320"/>
            <a:ext cx="43466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char_toucansam.jpg"/>
          <p:cNvPicPr/>
          <p:nvPr/>
        </p:nvPicPr>
        <p:blipFill>
          <a:blip r:embed="rId1"/>
          <a:stretch/>
        </p:blipFill>
        <p:spPr>
          <a:xfrm>
            <a:off x="2895480" y="1219320"/>
            <a:ext cx="33051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honey-nut-cheerios-will-no-longer-have-a-bee-on-the-cereal-box.jpg"/>
          <p:cNvPicPr/>
          <p:nvPr/>
        </p:nvPicPr>
        <p:blipFill>
          <a:blip r:embed="rId1"/>
          <a:stretch/>
        </p:blipFill>
        <p:spPr>
          <a:xfrm>
            <a:off x="2514600" y="1219320"/>
            <a:ext cx="41194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1stpic-lucky-charms-leprechaun.png"/>
          <p:cNvPicPr/>
          <p:nvPr/>
        </p:nvPicPr>
        <p:blipFill>
          <a:blip r:embed="rId1"/>
          <a:stretch/>
        </p:blipFill>
        <p:spPr>
          <a:xfrm>
            <a:off x="2743200" y="1219320"/>
            <a:ext cx="36813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C6-uMadXEAAzNkS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2412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sugar bear.jpg"/>
          <p:cNvPicPr/>
          <p:nvPr/>
        </p:nvPicPr>
        <p:blipFill>
          <a:blip r:embed="rId1"/>
          <a:stretch/>
        </p:blipFill>
        <p:spPr>
          <a:xfrm>
            <a:off x="2819520" y="1219320"/>
            <a:ext cx="35384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16:15:37Z</dcterms:created>
  <dc:creator>Jennifer Budzinski</dc:creator>
  <dc:description/>
  <dc:language>en-US</dc:language>
  <cp:lastModifiedBy>Erich Friedman</cp:lastModifiedBy>
  <dcterms:modified xsi:type="dcterms:W3CDTF">2020-09-01T15:12:06Z</dcterms:modified>
  <cp:revision>288</cp:revision>
  <dc:subject/>
  <dc:title>Slide 1</dc:title>
</cp:coreProperties>
</file>