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E3B-D8EB-4D5D-9079-5244D2EB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6C8-9950-4705-9575-DFF5BACE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F920-6901-475B-A9D0-A00CD12F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50E4-D51C-4897-BD9F-A5A849BB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B7E6-B029-4514-A6D1-FF87C3EC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7044-7F7F-41D7-866A-FDE81F91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5BCD-6150-41A9-83E2-5057A29F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CBF-3531-4D4E-845B-E4B372A95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7699-B173-4B2F-B4A5-AC9EBCB8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70C8-771C-4AE6-AD73-D25098333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C91-213E-49C1-BA95-0CDFCAD1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822C-F3E0-4BB4-AB96-E4489DAC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5D5-1D90-4AF0-BBE6-D0FC73F8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A13-AC4B-40A2-8E23-589D4B8E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15AA-2FB8-43DF-BBE3-0011CAFD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B93-CED0-47E4-9D5E-2E040D188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73C3-4C30-4D53-8B42-6E03ADF5A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68B7-BE0D-42BF-8D23-034DA27F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234D-3E3E-44EF-9845-ED034C3E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085A-67B7-49B7-B5C3-31B50CCA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E4C-B975-4227-8C85-B54AB1310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74D-7215-4ED7-8FC8-E9B6DF07C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67BD-1CBF-4558-9091-40AF8FAB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EREALS HAVE THESE CARTOON SPOKESPERS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fb_logo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rix_Rabbit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90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  CHO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ount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467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KRIS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5-31 at 12.19.42 PM.png"/>
          <p:cNvPicPr/>
          <p:nvPr/>
        </p:nvPicPr>
        <p:blipFill>
          <a:blip r:embed="rId1"/>
          <a:stretch/>
        </p:blipFill>
        <p:spPr>
          <a:xfrm>
            <a:off x="2076480" y="1225440"/>
            <a:ext cx="499104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658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STED  F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6a00d8341c51c053ef00e54f39abff8833-800wi.jpg"/>
          <p:cNvPicPr/>
          <p:nvPr/>
        </p:nvPicPr>
        <p:blipFill>
          <a:blip r:embed="rId1"/>
          <a:stretch/>
        </p:blipFill>
        <p:spPr>
          <a:xfrm>
            <a:off x="2451240" y="1295280"/>
            <a:ext cx="424152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OT 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har_toucansam.jpg"/>
          <p:cNvPicPr/>
          <p:nvPr/>
        </p:nvPicPr>
        <p:blipFill>
          <a:blip r:embed="rId1"/>
          <a:stretch/>
        </p:blipFill>
        <p:spPr>
          <a:xfrm>
            <a:off x="2895480" y="1219320"/>
            <a:ext cx="3305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  NUT  CHEE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honey-nut-cheerios-will-no-longer-have-a-bee-on-the-cereal-box.jpg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  CH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1stpic-lucky-charms-leprechaun.png"/>
          <p:cNvPicPr/>
          <p:nvPr/>
        </p:nvPicPr>
        <p:blipFill>
          <a:blip r:embed="rId1"/>
          <a:stretch/>
        </p:blipFill>
        <p:spPr>
          <a:xfrm>
            <a:off x="2878200" y="1295280"/>
            <a:ext cx="3387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SIN  B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6-uMadXEAAzNkS.jpg"/>
          <p:cNvPicPr/>
          <p:nvPr/>
        </p:nvPicPr>
        <p:blipFill>
          <a:blip r:embed="rId1"/>
          <a:stretch/>
        </p:blipFill>
        <p:spPr>
          <a:xfrm>
            <a:off x="2797200" y="1219320"/>
            <a:ext cx="3549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count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861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6036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SUGAR 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sugar bear.jpg"/>
          <p:cNvPicPr/>
          <p:nvPr/>
        </p:nvPicPr>
        <p:blipFill>
          <a:blip r:embed="rId1"/>
          <a:stretch/>
        </p:blipFill>
        <p:spPr>
          <a:xfrm>
            <a:off x="2857680" y="1260360"/>
            <a:ext cx="342900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'N  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fb_logo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rix_Rabbit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90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5-31 at 12.19.42 PM.png"/>
          <p:cNvPicPr/>
          <p:nvPr/>
        </p:nvPicPr>
        <p:blipFill>
          <a:blip r:embed="rId1"/>
          <a:stretch/>
        </p:blipFill>
        <p:spPr>
          <a:xfrm>
            <a:off x="1981080" y="1219320"/>
            <a:ext cx="51040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6a00d8341c51c053ef00e54f39abff8833-800wi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46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har_toucansam.jpg"/>
          <p:cNvPicPr/>
          <p:nvPr/>
        </p:nvPicPr>
        <p:blipFill>
          <a:blip r:embed="rId1"/>
          <a:stretch/>
        </p:blipFill>
        <p:spPr>
          <a:xfrm>
            <a:off x="2895480" y="1219320"/>
            <a:ext cx="3305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oney-nut-cheerios-will-no-longer-have-a-bee-on-the-cereal-box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194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1stpic-lucky-charms-leprechaun.png"/>
          <p:cNvPicPr/>
          <p:nvPr/>
        </p:nvPicPr>
        <p:blipFill>
          <a:blip r:embed="rId1"/>
          <a:stretch/>
        </p:blipFill>
        <p:spPr>
          <a:xfrm>
            <a:off x="2743200" y="1219320"/>
            <a:ext cx="3681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6-uMadXEAAzNkS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41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ugar bear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38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6:15:37Z</dcterms:created>
  <dc:creator>Jennifer Budzinski</dc:creator>
  <dc:description/>
  <dc:language>en-US</dc:language>
  <cp:lastModifiedBy>Erich Friedman</cp:lastModifiedBy>
  <dcterms:modified xsi:type="dcterms:W3CDTF">2020-09-01T15:12:06Z</dcterms:modified>
  <cp:revision>288</cp:revision>
  <dc:subject/>
  <dc:title>Slide 1</dc:title>
</cp:coreProperties>
</file>