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93E4-E0AA-41BA-8724-FA706CEB7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DE4A-8495-4604-B2BC-62EDEB74C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4F38-DA1F-4C7B-98F7-956639870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4D17-433A-402F-875E-5BA38DB05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69DC-D322-4687-9C3E-4966A6AE14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D92A-868B-47A7-AD67-723BBF817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37D5-EB01-4F9F-B62C-A057F7CCF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A102-417C-4283-BC85-E44D4FC14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604C-7C7D-4F91-A75C-4A6AEBF81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4A81-C05B-46C3-9CC1-41C1AADB0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A978-9FF7-4330-ABEA-51D7A65CB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83CB-EC82-4B8E-8F33-13F31B1D1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239-CEC5-4AD2-958E-2A77FAC93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6D60-C78D-4C34-BAA3-2DF0A80C3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7A24-06CD-4C24-A863-4F7C69749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4915-D0F3-4C2C-BDBC-4974ED1D7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C504-A23E-40AA-80EF-41D3FAA05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D6A4-999F-4B12-BE3F-648B7BE7E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282A-E3F9-41D1-B9D5-D3A2A38BF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C051-9B17-442D-B33A-BFEDF69F1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AB4A-EF92-436C-B3E3-76F6D7C2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AA44-B912-4B7F-BD56-F9EB9309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43CD2-69C3-4EEF-84FA-98830468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NDY B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8552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Zagnut-Split-1400x422.jpg"/>
          <p:cNvPicPr/>
          <p:nvPr/>
        </p:nvPicPr>
        <p:blipFill>
          <a:blip r:embed="rId1"/>
          <a:stretch/>
        </p:blipFill>
        <p:spPr>
          <a:xfrm>
            <a:off x="533520" y="1447920"/>
            <a:ext cx="808344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1200px-Candy-100Grand-Broken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50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Y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ilky-Way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96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T  K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kit-kat-today-170106-tease_9e2781626b9fc7d47e37fc32e8307915.today-inline-large.jpg"/>
          <p:cNvPicPr/>
          <p:nvPr/>
        </p:nvPicPr>
        <p:blipFill>
          <a:blip r:embed="rId1"/>
          <a:stretch/>
        </p:blipFill>
        <p:spPr>
          <a:xfrm>
            <a:off x="1533600" y="1371600"/>
            <a:ext cx="6076800" cy="34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Bounty-Split.jpg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0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8110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Y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Candy-PayDay-Broken.jpg"/>
          <p:cNvPicPr/>
          <p:nvPr/>
        </p:nvPicPr>
        <p:blipFill>
          <a:blip r:embed="rId1"/>
          <a:stretch/>
        </p:blipFill>
        <p:spPr>
          <a:xfrm>
            <a:off x="609480" y="1600200"/>
            <a:ext cx="79408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TTERF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1280px-Butterfinger-broken.jpg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1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aby-ruth-3.jpg"/>
          <p:cNvPicPr/>
          <p:nvPr/>
        </p:nvPicPr>
        <p:blipFill>
          <a:blip r:embed="rId1"/>
          <a:stretch/>
        </p:blipFill>
        <p:spPr>
          <a:xfrm>
            <a:off x="2286000" y="13716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 MUSKETE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ree-muskeeters.jpg"/>
          <p:cNvPicPr/>
          <p:nvPr/>
        </p:nvPicPr>
        <p:blipFill>
          <a:blip r:embed="rId1"/>
          <a:stretch/>
        </p:blipFill>
        <p:spPr>
          <a:xfrm>
            <a:off x="762120" y="1447920"/>
            <a:ext cx="7638840" cy="242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ilky-Way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96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1200px-Zero-Split.jpg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26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AG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Zagnut-Split-1400x422.jpg"/>
          <p:cNvPicPr/>
          <p:nvPr/>
        </p:nvPicPr>
        <p:blipFill>
          <a:blip r:embed="rId1"/>
          <a:stretch/>
        </p:blipFill>
        <p:spPr>
          <a:xfrm>
            <a:off x="533520" y="1447920"/>
            <a:ext cx="808344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99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  GR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1200px-Candy-100Grand-Broken.jpg"/>
          <p:cNvPicPr/>
          <p:nvPr/>
        </p:nvPicPr>
        <p:blipFill>
          <a:blip r:embed="rId1"/>
          <a:stretch/>
        </p:blipFill>
        <p:spPr>
          <a:xfrm>
            <a:off x="762120" y="1447920"/>
            <a:ext cx="76150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kit-kat-today-170106-tease_9e2781626b9fc7d47e37fc32e8307915.today-inline-large.jpg"/>
          <p:cNvPicPr/>
          <p:nvPr/>
        </p:nvPicPr>
        <p:blipFill>
          <a:blip r:embed="rId1"/>
          <a:stretch/>
        </p:blipFill>
        <p:spPr>
          <a:xfrm>
            <a:off x="1390680" y="1371600"/>
            <a:ext cx="63626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Bounty-Split.jpg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andy-PayDay-Broken.jpg"/>
          <p:cNvPicPr/>
          <p:nvPr/>
        </p:nvPicPr>
        <p:blipFill>
          <a:blip r:embed="rId1"/>
          <a:stretch/>
        </p:blipFill>
        <p:spPr>
          <a:xfrm>
            <a:off x="609480" y="1600200"/>
            <a:ext cx="794088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1280px-Butterfinger-broken.jpg"/>
          <p:cNvPicPr/>
          <p:nvPr/>
        </p:nvPicPr>
        <p:blipFill>
          <a:blip r:embed="rId1"/>
          <a:stretch/>
        </p:blipFill>
        <p:spPr>
          <a:xfrm>
            <a:off x="533520" y="1523880"/>
            <a:ext cx="800100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aby-ruth-3.jpg"/>
          <p:cNvPicPr/>
          <p:nvPr/>
        </p:nvPicPr>
        <p:blipFill>
          <a:blip r:embed="rId1"/>
          <a:stretch/>
        </p:blipFill>
        <p:spPr>
          <a:xfrm>
            <a:off x="2082960" y="1371600"/>
            <a:ext cx="4978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7760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ree-muskeeters.jpg"/>
          <p:cNvPicPr/>
          <p:nvPr/>
        </p:nvPicPr>
        <p:blipFill>
          <a:blip r:embed="rId1"/>
          <a:stretch/>
        </p:blipFill>
        <p:spPr>
          <a:xfrm>
            <a:off x="762120" y="1447920"/>
            <a:ext cx="7638840" cy="242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1200px-Zero-Split.jpg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262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7T02:25:59Z</dcterms:created>
  <dc:creator>Jennifer Budzinski</dc:creator>
  <dc:description/>
  <dc:language>en-US</dc:language>
  <cp:lastModifiedBy>Erich Friedman</cp:lastModifiedBy>
  <dcterms:modified xsi:type="dcterms:W3CDTF">2020-09-01T16:17:08Z</dcterms:modified>
  <cp:revision>289</cp:revision>
  <dc:subject/>
  <dc:title>Slide 1</dc:title>
</cp:coreProperties>
</file>