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EA80-B588-4477-8457-84B088C7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898-9DD7-4E13-8F8F-85921CC1C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BC0-2AD6-4387-82FB-84CB3564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4213-0A4B-4374-A8FA-22E0CE73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E31-303B-4A96-BA38-585C6565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C2C8-5892-411D-84B6-F8EF9AB1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AC39-F5CE-4623-8371-4E9EE45F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A21-EF0B-4846-91C0-90FDA3D0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E7D-FE1E-4014-BEE6-6CCBA289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D18-D739-4140-8571-18440D41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1BE-F83E-4E8D-A354-A99401B9C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E504-41B9-463B-A06C-D9C29557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425-D61B-404B-9B5B-904BB1854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3EB-229E-4321-8826-90CF062E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FD1-5878-44D7-A6E0-2C90E539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C35-57E5-4079-A0CC-E70EBA2F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A35-6164-4197-997E-A831BF522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7E1B-0650-43B6-9896-9A5D06C0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9A3-94EC-41DD-A850-84385AE4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475C-0013-48BD-90AD-09E7F07E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9A01-4F0E-4AA6-948E-AB802A31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3128-D2A7-4ED9-973F-C630D644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C98-ACE7-4D4A-ADAC-C8D39CCC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NDY B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Zagnut-Split-1400x422.jpg"/>
          <p:cNvPicPr/>
          <p:nvPr/>
        </p:nvPicPr>
        <p:blipFill>
          <a:blip r:embed="rId1"/>
          <a:stretch/>
        </p:blipFill>
        <p:spPr>
          <a:xfrm>
            <a:off x="533520" y="1447920"/>
            <a:ext cx="8083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200px-Candy-100Grand-Broken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5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ilky-Way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kit-kat-today-170106-tease_9e2781626b9fc7d47e37fc32e8307915.today-inline-large.jpg"/>
          <p:cNvPicPr/>
          <p:nvPr/>
        </p:nvPicPr>
        <p:blipFill>
          <a:blip r:embed="rId1"/>
          <a:stretch/>
        </p:blipFill>
        <p:spPr>
          <a:xfrm>
            <a:off x="1533600" y="1371600"/>
            <a:ext cx="607680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Bounty-Split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81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andy-PayDay-Broken.jpg"/>
          <p:cNvPicPr/>
          <p:nvPr/>
        </p:nvPicPr>
        <p:blipFill>
          <a:blip r:embed="rId1"/>
          <a:stretch/>
        </p:blipFill>
        <p:spPr>
          <a:xfrm>
            <a:off x="609480" y="1600200"/>
            <a:ext cx="79408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1280px-Butterfinger-broken.jpg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aby-ruth-3.jpg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ree-muskeeters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ilky-Way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200px-Zero-Split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G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Zagnut-Split-1400x422.jpg"/>
          <p:cNvPicPr/>
          <p:nvPr/>
        </p:nvPicPr>
        <p:blipFill>
          <a:blip r:embed="rId1"/>
          <a:stretch/>
        </p:blipFill>
        <p:spPr>
          <a:xfrm>
            <a:off x="533520" y="1447920"/>
            <a:ext cx="80834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200px-Candy-100Grand-Broken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5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kit-kat-today-170106-tease_9e2781626b9fc7d47e37fc32e8307915.today-inline-large.jpg"/>
          <p:cNvPicPr/>
          <p:nvPr/>
        </p:nvPicPr>
        <p:blipFill>
          <a:blip r:embed="rId1"/>
          <a:stretch/>
        </p:blipFill>
        <p:spPr>
          <a:xfrm>
            <a:off x="1390680" y="1371600"/>
            <a:ext cx="6362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Bounty-Split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andy-PayDay-Broken.jpg"/>
          <p:cNvPicPr/>
          <p:nvPr/>
        </p:nvPicPr>
        <p:blipFill>
          <a:blip r:embed="rId1"/>
          <a:stretch/>
        </p:blipFill>
        <p:spPr>
          <a:xfrm>
            <a:off x="609480" y="1600200"/>
            <a:ext cx="7940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280px-Butterfinger-broken.jpg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aby-ruth-3.jpg"/>
          <p:cNvPicPr/>
          <p:nvPr/>
        </p:nvPicPr>
        <p:blipFill>
          <a:blip r:embed="rId1"/>
          <a:stretch/>
        </p:blipFill>
        <p:spPr>
          <a:xfrm>
            <a:off x="2082960" y="1371600"/>
            <a:ext cx="4978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ree-muskeeters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200px-Zero-Split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02:25:59Z</dcterms:created>
  <dc:creator>Jennifer Budzinski</dc:creator>
  <dc:description/>
  <dc:language>en-US</dc:language>
  <cp:lastModifiedBy>Erich Friedman</cp:lastModifiedBy>
  <dcterms:modified xsi:type="dcterms:W3CDTF">2020-09-01T16:17:08Z</dcterms:modified>
  <cp:revision>289</cp:revision>
  <dc:subject/>
  <dc:title>Slide 1</dc:title>
</cp:coreProperties>
</file>