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2C3A-4FB6-48B6-8B53-53F5A25AB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721A-F700-441E-A49D-8C5D5D377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D1E0-067C-468B-938F-D906E727B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1B6C-D17E-41EF-B0F2-2D76EDE39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A5C7-39BB-4717-9324-0E66A5F22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CF79-3A20-4E1C-BFD5-B9052D490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E9FF-78EE-4BE3-B579-00DE9EACF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2CB8-FB30-4254-80B9-F2D5DE287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917D-08C3-49D2-A52D-4296E5746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7793-D714-4529-809F-352098D7C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1748-0132-4342-9660-8CB9D8910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E30B-BF12-4279-9D02-6B3E18DDC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FE4D-EFE7-44C3-A626-56A401C7A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A1FB-AEDF-40D8-8445-018271C53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32F9-7045-401B-9BA6-660183E38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7A99-A723-44A5-983F-58CF69EFB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BF54-48EF-4415-8C25-974CB06ED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0DD7-8778-454E-8544-4D6399A90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5D4D-53C8-40CA-904A-19864234C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AD5E-B598-4601-9598-9F5F7BD63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EC15-3CF2-4203-80D0-678ADB8F5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9D82-CC58-42AA-BACF-2A8A9E70D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037D-00B3-4C25-B743-514CEB332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33344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COOK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99446_630x355.jpg"/>
          <p:cNvPicPr/>
          <p:nvPr/>
        </p:nvPicPr>
        <p:blipFill>
          <a:blip r:embed="rId1"/>
          <a:stretch/>
        </p:blipFill>
        <p:spPr>
          <a:xfrm>
            <a:off x="1571760" y="1395360"/>
            <a:ext cx="6000480" cy="33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ea97a346-02d7-437a-98bd-36b03d041ac5_640x428.jpg"/>
          <p:cNvPicPr/>
          <p:nvPr/>
        </p:nvPicPr>
        <p:blipFill>
          <a:blip r:embed="rId1"/>
          <a:stretch/>
        </p:blipFill>
        <p:spPr>
          <a:xfrm>
            <a:off x="1889280" y="1371600"/>
            <a:ext cx="53654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1200px-Oreo-Two-Cookies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5004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TTER  B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nutterbutterbrowniescookiesplate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1324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photos.medleyphoto.8557293.png"/>
          <p:cNvPicPr/>
          <p:nvPr/>
        </p:nvPicPr>
        <p:blipFill>
          <a:blip r:embed="rId1"/>
          <a:stretch/>
        </p:blipFill>
        <p:spPr>
          <a:xfrm>
            <a:off x="1600200" y="1219320"/>
            <a:ext cx="591804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samoas-400x300-c.jpg"/>
          <p:cNvPicPr/>
          <p:nvPr/>
        </p:nvPicPr>
        <p:blipFill>
          <a:blip r:embed="rId1"/>
          <a:stretch/>
        </p:blipFill>
        <p:spPr>
          <a:xfrm>
            <a:off x="2209680" y="12193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21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TUNE  COOK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81TTG8pX+tS._SL1416_.jpg"/>
          <p:cNvPicPr/>
          <p:nvPr/>
        </p:nvPicPr>
        <p:blipFill>
          <a:blip r:embed="rId1"/>
          <a:stretch/>
        </p:blipFill>
        <p:spPr>
          <a:xfrm>
            <a:off x="2514600" y="1295280"/>
            <a:ext cx="4114800" cy="357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LLA  WA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bananapudnilladown.jpg"/>
          <p:cNvPicPr/>
          <p:nvPr/>
        </p:nvPicPr>
        <p:blipFill>
          <a:blip r:embed="rId1"/>
          <a:stretch/>
        </p:blipFill>
        <p:spPr>
          <a:xfrm>
            <a:off x="2174760" y="1219320"/>
            <a:ext cx="47944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G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1200px-Fig-Newtons-Stacked.jpg"/>
          <p:cNvPicPr/>
          <p:nvPr/>
        </p:nvPicPr>
        <p:blipFill>
          <a:blip r:embed="rId1"/>
          <a:stretch/>
        </p:blipFill>
        <p:spPr>
          <a:xfrm>
            <a:off x="2286000" y="1219320"/>
            <a:ext cx="4572000" cy="35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1200px-Oreo-Two-Cookies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5004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4952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AND  WHITE  COOK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00dab61f7fa3b7cd84910f225eab103e.jpg"/>
          <p:cNvPicPr/>
          <p:nvPr/>
        </p:nvPicPr>
        <p:blipFill>
          <a:blip r:embed="rId1"/>
          <a:stretch/>
        </p:blipFill>
        <p:spPr>
          <a:xfrm>
            <a:off x="2819520" y="12193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NGER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99446_630x355.jpg"/>
          <p:cNvPicPr/>
          <p:nvPr/>
        </p:nvPicPr>
        <p:blipFill>
          <a:blip r:embed="rId1"/>
          <a:stretch/>
        </p:blipFill>
        <p:spPr>
          <a:xfrm>
            <a:off x="1523880" y="1295280"/>
            <a:ext cx="6000840" cy="33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ICKERDOO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ea97a346-02d7-437a-98bd-36b03d041ac5_640x428.jpg"/>
          <p:cNvPicPr/>
          <p:nvPr/>
        </p:nvPicPr>
        <p:blipFill>
          <a:blip r:embed="rId1"/>
          <a:stretch/>
        </p:blipFill>
        <p:spPr>
          <a:xfrm>
            <a:off x="1905120" y="1219320"/>
            <a:ext cx="536580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nutterbutterbrowniescookiesplate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132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photos.medleyphoto.8557293.png"/>
          <p:cNvPicPr/>
          <p:nvPr/>
        </p:nvPicPr>
        <p:blipFill>
          <a:blip r:embed="rId1"/>
          <a:stretch/>
        </p:blipFill>
        <p:spPr>
          <a:xfrm>
            <a:off x="1600200" y="1219320"/>
            <a:ext cx="591804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amoas-400x300-c.jpg"/>
          <p:cNvPicPr/>
          <p:nvPr/>
        </p:nvPicPr>
        <p:blipFill>
          <a:blip r:embed="rId1"/>
          <a:stretch/>
        </p:blipFill>
        <p:spPr>
          <a:xfrm>
            <a:off x="2209680" y="12193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81TTG8pX+tS._SL1416_.jpg"/>
          <p:cNvPicPr/>
          <p:nvPr/>
        </p:nvPicPr>
        <p:blipFill>
          <a:blip r:embed="rId1"/>
          <a:stretch/>
        </p:blipFill>
        <p:spPr>
          <a:xfrm>
            <a:off x="2438280" y="1219320"/>
            <a:ext cx="4267440" cy="37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bananapudnilladown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004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1200px-Fig-Newtons-Stacked.jpg"/>
          <p:cNvPicPr/>
          <p:nvPr/>
        </p:nvPicPr>
        <p:blipFill>
          <a:blip r:embed="rId1"/>
          <a:stretch/>
        </p:blipFill>
        <p:spPr>
          <a:xfrm>
            <a:off x="2286000" y="1371600"/>
            <a:ext cx="4572000" cy="35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00dab61f7fa3b7cd84910f225eab103e.jpg"/>
          <p:cNvPicPr/>
          <p:nvPr/>
        </p:nvPicPr>
        <p:blipFill>
          <a:blip r:embed="rId1"/>
          <a:stretch/>
        </p:blipFill>
        <p:spPr>
          <a:xfrm>
            <a:off x="285768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9T13:40:49Z</dcterms:created>
  <dc:creator>Jennifer Budzinski</dc:creator>
  <dc:description/>
  <dc:language>en-US</dc:language>
  <cp:lastModifiedBy>Erich Friedman</cp:lastModifiedBy>
  <dcterms:modified xsi:type="dcterms:W3CDTF">2020-09-01T16:18:53Z</dcterms:modified>
  <cp:revision>290</cp:revision>
  <dc:subject/>
  <dc:title>Slide 1</dc:title>
</cp:coreProperties>
</file>