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A252-CF55-48CE-A6B0-E89AB1282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A517-B622-412B-A964-1ABBCEA7A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DE3-D588-496A-867A-7B1F1E81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3DAB-C2BF-4DA2-AE3E-B1A8E9A6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7B1B-4F4D-4EEC-9F89-03563042B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940E-956D-45BD-9FDC-1DE7EE86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A99C-53C3-4529-B68F-F78E95EFE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9129-2FBD-4E3F-BE46-06D2859B1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F2A6-05E2-4676-8D65-BA48971B6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9880-2226-4C14-9A28-924AC71A2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F688-E563-40A4-8AD2-6740BC195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7B4F-9A72-4ED5-A661-A88CDB59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50BC-96BA-424D-B81C-CE06792EE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20E0-C7AC-4931-AE03-C67BCB44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8498-BA72-4F87-8BFB-DFF7C5035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D5AB-E280-46AF-A298-9A761D2A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EE9A-0A72-4A24-B2D7-A12724728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8AF8-3A2C-4503-9FDF-2421D87F8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C37F-D6CB-4EDD-A7C5-68935566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7DB6-7749-46B9-BECF-716AD92D5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E278-8FA4-4032-8A6C-F4D16AC0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BAB2-0362-4231-A50A-823AD2557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EA11-DB55-4908-B736-243DF58B5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3344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OOK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99446_630x355.jpg"/>
          <p:cNvPicPr/>
          <p:nvPr/>
        </p:nvPicPr>
        <p:blipFill>
          <a:blip r:embed="rId1"/>
          <a:stretch/>
        </p:blipFill>
        <p:spPr>
          <a:xfrm>
            <a:off x="1571760" y="1395360"/>
            <a:ext cx="600048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ea97a346-02d7-437a-98bd-36b03d041ac5_640x428.jpg"/>
          <p:cNvPicPr/>
          <p:nvPr/>
        </p:nvPicPr>
        <p:blipFill>
          <a:blip r:embed="rId1"/>
          <a:stretch/>
        </p:blipFill>
        <p:spPr>
          <a:xfrm>
            <a:off x="1889280" y="1371600"/>
            <a:ext cx="5365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1200px-Oreo-Two-Cookies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TER  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nutterbutterbrowniescookiesplat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1324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photos.medleyphoto.8557293.png"/>
          <p:cNvPicPr/>
          <p:nvPr/>
        </p:nvPicPr>
        <p:blipFill>
          <a:blip r:embed="rId1"/>
          <a:stretch/>
        </p:blipFill>
        <p:spPr>
          <a:xfrm>
            <a:off x="1600200" y="1219320"/>
            <a:ext cx="59180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samoas-400x300-c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21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  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81TTG8pX+tS._SL1416_.jpg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LLA  WA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bananapudnilladown.jpg"/>
          <p:cNvPicPr/>
          <p:nvPr/>
        </p:nvPicPr>
        <p:blipFill>
          <a:blip r:embed="rId1"/>
          <a:stretch/>
        </p:blipFill>
        <p:spPr>
          <a:xfrm>
            <a:off x="2174760" y="1219320"/>
            <a:ext cx="47944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1200px-Fig-Newtons-Stacked.jpg"/>
          <p:cNvPicPr/>
          <p:nvPr/>
        </p:nvPicPr>
        <p:blipFill>
          <a:blip r:embed="rId1"/>
          <a:stretch/>
        </p:blipFill>
        <p:spPr>
          <a:xfrm>
            <a:off x="2286000" y="1219320"/>
            <a:ext cx="457200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1200px-Oreo-Two-Cookies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AND  WHITE  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00dab61f7fa3b7cd84910f225eab103e.jpg"/>
          <p:cNvPicPr/>
          <p:nvPr/>
        </p:nvPicPr>
        <p:blipFill>
          <a:blip r:embed="rId1"/>
          <a:stretch/>
        </p:blipFill>
        <p:spPr>
          <a:xfrm>
            <a:off x="281952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99446_630x355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00840" cy="33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ICKERDOO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a97a346-02d7-437a-98bd-36b03d041ac5_640x428.jpg"/>
          <p:cNvPicPr/>
          <p:nvPr/>
        </p:nvPicPr>
        <p:blipFill>
          <a:blip r:embed="rId1"/>
          <a:stretch/>
        </p:blipFill>
        <p:spPr>
          <a:xfrm>
            <a:off x="1905120" y="1219320"/>
            <a:ext cx="5365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nutterbutterbrowniescookiesplat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13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photos.medleyphoto.8557293.png"/>
          <p:cNvPicPr/>
          <p:nvPr/>
        </p:nvPicPr>
        <p:blipFill>
          <a:blip r:embed="rId1"/>
          <a:stretch/>
        </p:blipFill>
        <p:spPr>
          <a:xfrm>
            <a:off x="1600200" y="1219320"/>
            <a:ext cx="591804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amoas-400x300-c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81TTG8pX+tS._SL1416_.jpg"/>
          <p:cNvPicPr/>
          <p:nvPr/>
        </p:nvPicPr>
        <p:blipFill>
          <a:blip r:embed="rId1"/>
          <a:stretch/>
        </p:blipFill>
        <p:spPr>
          <a:xfrm>
            <a:off x="2438280" y="1219320"/>
            <a:ext cx="4267440" cy="37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ananapudnilladown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04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1200px-Fig-Newtons-Stacked.jpg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00dab61f7fa3b7cd84910f225eab103e.jpg"/>
          <p:cNvPicPr/>
          <p:nvPr/>
        </p:nvPicPr>
        <p:blipFill>
          <a:blip r:embed="rId1"/>
          <a:stretch/>
        </p:blipFill>
        <p:spPr>
          <a:xfrm>
            <a:off x="28576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3:40:49Z</dcterms:created>
  <dc:creator>Jennifer Budzinski</dc:creator>
  <dc:description/>
  <dc:language>en-US</dc:language>
  <cp:lastModifiedBy>Erich Friedman</cp:lastModifiedBy>
  <dcterms:modified xsi:type="dcterms:W3CDTF">2020-09-01T16:18:53Z</dcterms:modified>
  <cp:revision>290</cp:revision>
  <dc:subject/>
  <dc:title>Slide 1</dc:title>
</cp:coreProperties>
</file>