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0D72-465E-4882-8DC6-9550A731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B2F-F0CA-4C56-A586-B757FA47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2BD-10F7-4C6D-9D51-917DA3EB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8E1-C644-4112-A2E5-8FCD01D2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9030-5E3B-483F-B0E8-0CD5DAC7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666-8740-43DD-921F-1CDF6BC0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3CCF-65D8-419C-8E51-C6FB99EB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489C-6C90-4787-BF46-0F530B8F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E62-46C4-464B-A190-6348ED7E2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FBB-59CE-40D4-A7B9-CA2F4F0D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F0FA-0AB4-4F93-88E6-17263E79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E8F-26FF-441A-BEFC-96A79CDF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0A04-BA0E-4AF8-AC29-EFE2028F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426E-2D9A-4A6D-90F7-DC752B14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1763-9FE7-4EED-9F73-6D8B386A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EF7-5D48-4D69-9D18-4360A000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308-4CC7-45D7-91AE-DEEB01FF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D825-2045-4F16-8061-20B6EB5B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1244-FE13-4820-B996-0F477FF0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A172-F9E8-4636-AD90-23B18A29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7A9-616F-4FE5-B093-CEF3C7439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D8C-3E5A-4CB8-9A0A-697CF4B7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97F-201E-4C6B-B982-0919824C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RU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ulberry.jpg"/>
          <p:cNvPicPr/>
          <p:nvPr/>
        </p:nvPicPr>
        <p:blipFill>
          <a:blip r:embed="rId1"/>
          <a:stretch/>
        </p:blipFill>
        <p:spPr>
          <a:xfrm>
            <a:off x="2362320" y="1219320"/>
            <a:ext cx="44672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urian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388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kiwi.jpg"/>
          <p:cNvPicPr/>
          <p:nvPr/>
        </p:nvPicPr>
        <p:blipFill>
          <a:blip r:embed="rId1"/>
          <a:stretch/>
        </p:blipFill>
        <p:spPr>
          <a:xfrm>
            <a:off x="2057400" y="1219320"/>
            <a:ext cx="4978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MEGRA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pomegranate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MQU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kumquat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3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C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lychee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ION  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assion fruit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6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I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persimmon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51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longan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37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kiwi.jpg"/>
          <p:cNvPicPr/>
          <p:nvPr/>
        </p:nvPicPr>
        <p:blipFill>
          <a:blip r:embed="rId1"/>
          <a:stretch/>
        </p:blipFill>
        <p:spPr>
          <a:xfrm>
            <a:off x="2057400" y="1219320"/>
            <a:ext cx="4978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jackfruit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99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ulberry.jpg"/>
          <p:cNvPicPr/>
          <p:nvPr/>
        </p:nvPicPr>
        <p:blipFill>
          <a:blip r:embed="rId1"/>
          <a:stretch/>
        </p:blipFill>
        <p:spPr>
          <a:xfrm>
            <a:off x="2425680" y="1219320"/>
            <a:ext cx="42926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urian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3888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pomegranate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kumquat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32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lychee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assion fruit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62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persimmon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5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longan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18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ackfruit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99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0:41Z</dcterms:modified>
  <cp:revision>292</cp:revision>
  <dc:subject/>
  <dc:title>Slide 1</dc:title>
</cp:coreProperties>
</file>