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A076-1A2C-47A0-9736-2ADCD594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82D2-6AF9-4695-A65C-B5A7BA5EC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C63C-858C-429D-B0B3-98956036A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9A2E-A914-437B-9EFE-EBF3C8802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D832-0EDA-434B-9964-446EB91B6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B438-02AF-4968-BAC6-54D3C072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A18A-9752-444A-AAB1-C6AB7E8E8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AAC3-8020-4F79-AC34-F213458F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1117-7745-4642-992A-9D074585F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1862-2AFC-423F-9B35-E77A5538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86FA-F2E7-4440-B227-B1B9C6A12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2340-21BB-431B-84BC-6722B358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C5A3-A500-4898-A9E6-BB61D12A9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D515-6172-46EE-A668-4441835A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E1C-9898-4E58-82EA-44BB3033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E49-CF06-4D59-9E54-BF098D9E5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D4D9-2C6A-48AA-A168-AE58DC23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3BE0-EA98-480B-85CA-0B118D2FC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143-7100-41EC-A47D-324044D7A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BD9-EB82-4463-92FA-DD06BD522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F12-8320-46D5-9C5B-2D01965A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54D-6231-4A5D-9073-982A8D2F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46B8-11D4-4A59-BFDA-D80643FB2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RUI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ulberry.jpg"/>
          <p:cNvPicPr/>
          <p:nvPr/>
        </p:nvPicPr>
        <p:blipFill>
          <a:blip r:embed="rId1"/>
          <a:stretch/>
        </p:blipFill>
        <p:spPr>
          <a:xfrm>
            <a:off x="2362320" y="1219320"/>
            <a:ext cx="44672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urian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3888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kiwi.jpg"/>
          <p:cNvPicPr/>
          <p:nvPr/>
        </p:nvPicPr>
        <p:blipFill>
          <a:blip r:embed="rId1"/>
          <a:stretch/>
        </p:blipFill>
        <p:spPr>
          <a:xfrm>
            <a:off x="2057400" y="1219320"/>
            <a:ext cx="4978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MEGRA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pomegranate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MQU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kumquat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3252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CH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lychee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ION  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assion fruit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62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I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persimmon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51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longan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39040" cy="37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kiwi.jpg"/>
          <p:cNvPicPr/>
          <p:nvPr/>
        </p:nvPicPr>
        <p:blipFill>
          <a:blip r:embed="rId1"/>
          <a:stretch/>
        </p:blipFill>
        <p:spPr>
          <a:xfrm>
            <a:off x="2057400" y="1219320"/>
            <a:ext cx="4978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jackfruit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99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L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ulberry.jpg"/>
          <p:cNvPicPr/>
          <p:nvPr/>
        </p:nvPicPr>
        <p:blipFill>
          <a:blip r:embed="rId1"/>
          <a:stretch/>
        </p:blipFill>
        <p:spPr>
          <a:xfrm>
            <a:off x="2425680" y="1219320"/>
            <a:ext cx="42926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urian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3888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pomegranate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kumquat.jpg"/>
          <p:cNvPicPr/>
          <p:nvPr/>
        </p:nvPicPr>
        <p:blipFill>
          <a:blip r:embed="rId1"/>
          <a:stretch/>
        </p:blipFill>
        <p:spPr>
          <a:xfrm>
            <a:off x="1523880" y="1219320"/>
            <a:ext cx="60325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lychee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910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assion fruit.jpg"/>
          <p:cNvPicPr/>
          <p:nvPr/>
        </p:nvPicPr>
        <p:blipFill>
          <a:blip r:embed="rId1"/>
          <a:stretch/>
        </p:blipFill>
        <p:spPr>
          <a:xfrm>
            <a:off x="2438280" y="1219320"/>
            <a:ext cx="4362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persimmon.jpg"/>
          <p:cNvPicPr/>
          <p:nvPr/>
        </p:nvPicPr>
        <p:blipFill>
          <a:blip r:embed="rId1"/>
          <a:stretch/>
        </p:blipFill>
        <p:spPr>
          <a:xfrm>
            <a:off x="1219320" y="1219320"/>
            <a:ext cx="6815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longan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181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ackfruit.jpg"/>
          <p:cNvPicPr/>
          <p:nvPr/>
        </p:nvPicPr>
        <p:blipFill>
          <a:blip r:embed="rId1"/>
          <a:stretch/>
        </p:blipFill>
        <p:spPr>
          <a:xfrm>
            <a:off x="1752480" y="1219320"/>
            <a:ext cx="5699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0:41Z</dcterms:modified>
  <cp:revision>292</cp:revision>
  <dc:subject/>
  <dc:title>Slide 1</dc:title>
</cp:coreProperties>
</file>