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B9C5-6E07-4D12-98CC-D7E0378DE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F7F9-F12C-4F06-8E74-95B4E0C5E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3414-B94F-47B9-B194-349F83300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E331-BFAD-4F8F-8F54-E361103E9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F5C6-3D16-4DA3-B932-139D7F3D0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29CF-F93E-4EB4-BBC9-69ACFABF1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1BA8-7338-46BE-99EA-A4E38E0D6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3A8-9F19-4431-BC0D-5F08E368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A35D-865A-4D9B-8B78-B90326C00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C564-9A73-4EE4-B623-0F0682B53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04EA-A721-4835-A2C3-47AD94BD3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3BB6-6B69-429A-800B-CA1DD6346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491E-B3F5-48CD-854A-E2A9566C8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8A16-5C31-49F0-A98D-CC34A1F6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F59F-CA06-4A12-9A79-05BF69A81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63F-9E7A-4B65-9108-FA68792CA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75840-F3EE-4694-BAAE-686ED5C98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6C6B-9A6C-4729-A761-8B904211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C604-DEA7-4D04-B910-A1A48573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9AB2B-5B21-42A3-A454-FFF8E49C9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6FF5-E2F3-41AF-9A4F-ADDB70239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9CE9-E524-4D56-AA3D-F3492843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DEDB-58C1-44A4-B4A2-C857088C5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VEGETAB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51AoANEBkfL._SY355_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13.png"/>
          <p:cNvPicPr/>
          <p:nvPr/>
        </p:nvPicPr>
        <p:blipFill>
          <a:blip r:embed="rId1"/>
          <a:stretch/>
        </p:blipFill>
        <p:spPr>
          <a:xfrm>
            <a:off x="1752480" y="1295280"/>
            <a:ext cx="5685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C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Watercres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CC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radicchio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0081.jpg"/>
          <p:cNvPicPr/>
          <p:nvPr/>
        </p:nvPicPr>
        <p:blipFill>
          <a:blip r:embed="rId1"/>
          <a:stretch/>
        </p:blipFill>
        <p:spPr>
          <a:xfrm>
            <a:off x="1295280" y="1219320"/>
            <a:ext cx="65707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NDIVE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HUBAR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rhubarb.jpg"/>
          <p:cNvPicPr/>
          <p:nvPr/>
        </p:nvPicPr>
        <p:blipFill>
          <a:blip r:embed="rId1"/>
          <a:stretch/>
        </p:blipFill>
        <p:spPr>
          <a:xfrm>
            <a:off x="2274840" y="1295280"/>
            <a:ext cx="4594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K  CH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71KsGrv0uOL._SX355_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94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SN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parsnip-nutrition-facts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38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Watercres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26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ICHO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artichoke-nutrition-facts.jpg"/>
          <p:cNvPicPr/>
          <p:nvPr/>
        </p:nvPicPr>
        <p:blipFill>
          <a:blip r:embed="rId1"/>
          <a:stretch/>
        </p:blipFill>
        <p:spPr>
          <a:xfrm>
            <a:off x="2049480" y="1295280"/>
            <a:ext cx="5045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9536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AB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51AoANEBkfL._SY355_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13.png"/>
          <p:cNvPicPr/>
          <p:nvPr/>
        </p:nvPicPr>
        <p:blipFill>
          <a:blip r:embed="rId1"/>
          <a:stretch/>
        </p:blipFill>
        <p:spPr>
          <a:xfrm>
            <a:off x="1752480" y="1295280"/>
            <a:ext cx="5685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radicchio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05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0081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70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NDIVE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rhubar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71KsGrv0uOL._SX355_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94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parsnip-nutrition-facts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385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artichoke-nutrition-facts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96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4T20:42:27Z</dcterms:created>
  <dc:creator>Jennifer Budzinski</dc:creator>
  <dc:description/>
  <dc:language>en-US</dc:language>
  <cp:lastModifiedBy>Erich Friedman</cp:lastModifiedBy>
  <dcterms:modified xsi:type="dcterms:W3CDTF">2020-09-01T16:22:08Z</dcterms:modified>
  <cp:revision>291</cp:revision>
  <dc:subject/>
  <dc:title>Slide 1</dc:title>
</cp:coreProperties>
</file>