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DFD1-9185-4278-BDDE-ED7249990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6E70-5833-4B0B-A302-DB63B33B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44F4-4C60-4196-AC77-A5F914454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0B8F-E43F-4654-8451-074B0849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25FB-DEED-412C-8E39-D6D02EE8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35B5-CD5D-4CE1-A651-B1760FE7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28D7-01B5-4673-8D3C-B06D02551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D3E1-6A1B-4CBC-A038-D16EA33D9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9C52-910D-44D5-A96D-6DFCBEC1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7234-D9F5-42A6-ADD3-80B45DE2E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A2FA-318F-40FB-8C68-88903DC8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3037-61F3-4134-B61A-E8E1A7F3A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72C1-9455-45EF-8DB3-82D73AA1B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D94E-E861-4B02-A599-50434D1BC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2B81-4D6D-4594-A852-70FF4C543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51DA-43E0-4B99-9A5C-238440DC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8300-2515-429E-AA5E-D77CD3222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059F-8973-4CAB-BB80-EC0A18B9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273-1463-4666-8769-0ECDA460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3767-DAFE-40CF-BBA6-A26C5B00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AA4D-2432-4021-ACF9-E65B08052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2D3E-F9E6-46A1-83F3-66CDA2FA8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61C3-07E9-421F-84E6-E3388E4B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9536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VEGETAB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51AoANEBkfL._SY355_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113.png"/>
          <p:cNvPicPr/>
          <p:nvPr/>
        </p:nvPicPr>
        <p:blipFill>
          <a:blip r:embed="rId1"/>
          <a:stretch/>
        </p:blipFill>
        <p:spPr>
          <a:xfrm>
            <a:off x="1752480" y="1295280"/>
            <a:ext cx="568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C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Watercress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CC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radicchio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10081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707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ENDIVE.jpg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UBA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rhubarb.jpg"/>
          <p:cNvPicPr/>
          <p:nvPr/>
        </p:nvPicPr>
        <p:blipFill>
          <a:blip r:embed="rId1"/>
          <a:stretch/>
        </p:blipFill>
        <p:spPr>
          <a:xfrm>
            <a:off x="2274840" y="1295280"/>
            <a:ext cx="4594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K  CH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71KsGrv0uOL._SX355_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94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SN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parsnip-nutrition-facts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38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Watercress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26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ICH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artichoke-nutrition-facts.jpg"/>
          <p:cNvPicPr/>
          <p:nvPr/>
        </p:nvPicPr>
        <p:blipFill>
          <a:blip r:embed="rId1"/>
          <a:stretch/>
        </p:blipFill>
        <p:spPr>
          <a:xfrm>
            <a:off x="2049480" y="1295280"/>
            <a:ext cx="5045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9536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AB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51AoANEBkfL._SY355_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113.png"/>
          <p:cNvPicPr/>
          <p:nvPr/>
        </p:nvPicPr>
        <p:blipFill>
          <a:blip r:embed="rId1"/>
          <a:stretch/>
        </p:blipFill>
        <p:spPr>
          <a:xfrm>
            <a:off x="1752480" y="1295280"/>
            <a:ext cx="5685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radicchio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10081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70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ENDIVE.jpg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rhubarb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94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71KsGrv0uOL._SX355_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94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parsnip-nutrition-facts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38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artichoke-nutrition-facts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9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4T20:42:27Z</dcterms:created>
  <dc:creator>Jennifer Budzinski</dc:creator>
  <dc:description/>
  <dc:language>en-US</dc:language>
  <cp:lastModifiedBy>Erich Friedman</cp:lastModifiedBy>
  <dcterms:modified xsi:type="dcterms:W3CDTF">2020-09-01T16:22:08Z</dcterms:modified>
  <cp:revision>291</cp:revision>
  <dc:subject/>
  <dc:title>Slide 1</dc:title>
</cp:coreProperties>
</file>