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BF3C-EBD1-4176-9CDE-CAF12053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7E94-B338-4FC1-8B3B-08243E68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D072-ECFD-441C-BE8B-30E899BC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0B4-8081-400B-9637-D0F5E2D67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14BD-3445-4C28-B7B0-C7FB3C3A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A2A6-CF03-4072-BB36-5AC165DA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FC3-6193-4520-ADDA-1CB6108E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59FD-FA45-4005-9500-BCCDEA95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7AAB-FE17-4BC2-AC63-6B46219D0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BB55-3DA2-445D-B349-CEF15919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2E1-BBC2-49E1-9622-EA7B5087B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798B-6205-4F49-83FA-98ACE8618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22C2-B24C-4D5E-8201-BE95B9DD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15A-A0ED-420F-803D-2107A5159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44C5-69E0-4C62-A47F-C4536BA1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6DC7-A01A-4265-8507-871E5F63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FC65-A77B-4B0B-8175-323C7753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CF7-EE51-4BDA-B2D7-EDC82EBE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8EFA-8A90-40BA-A7BF-BE444AEBC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891C-ED42-4B79-A725-CE756980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CE2D-D9EE-4A30-B229-CD8490AD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387-0806-433B-8A7F-593FC195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9979-FB64-4294-8CAD-A2CA58E8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VEGETAB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51AoANEBkfL._SY355_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13.png"/>
          <p:cNvPicPr/>
          <p:nvPr/>
        </p:nvPicPr>
        <p:blipFill>
          <a:blip r:embed="rId1"/>
          <a:stretch/>
        </p:blipFill>
        <p:spPr>
          <a:xfrm>
            <a:off x="1752480" y="1295280"/>
            <a:ext cx="568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C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Watercres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C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radicchio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0081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70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NDIVE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UBA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rhubarb.jpg"/>
          <p:cNvPicPr/>
          <p:nvPr/>
        </p:nvPicPr>
        <p:blipFill>
          <a:blip r:embed="rId1"/>
          <a:stretch/>
        </p:blipFill>
        <p:spPr>
          <a:xfrm>
            <a:off x="2274840" y="1295280"/>
            <a:ext cx="4594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K  CH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71KsGrv0uOL._SX355_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94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SN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parsnip-nutrition-facts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38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Watercres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26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ICH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artichoke-nutrition-facts.jpg"/>
          <p:cNvPicPr/>
          <p:nvPr/>
        </p:nvPicPr>
        <p:blipFill>
          <a:blip r:embed="rId1"/>
          <a:stretch/>
        </p:blipFill>
        <p:spPr>
          <a:xfrm>
            <a:off x="2049480" y="1295280"/>
            <a:ext cx="5045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9536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AB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51AoANEBkfL._SY355_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13.png"/>
          <p:cNvPicPr/>
          <p:nvPr/>
        </p:nvPicPr>
        <p:blipFill>
          <a:blip r:embed="rId1"/>
          <a:stretch/>
        </p:blipFill>
        <p:spPr>
          <a:xfrm>
            <a:off x="1752480" y="1295280"/>
            <a:ext cx="5685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radicchio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0081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70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NDIVE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rhubar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71KsGrv0uOL._SX355_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94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parsnip-nutrition-facts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38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artichoke-nutrition-fact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9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20:42:27Z</dcterms:created>
  <dc:creator>Jennifer Budzinski</dc:creator>
  <dc:description/>
  <dc:language>en-US</dc:language>
  <cp:lastModifiedBy>Erich Friedman</cp:lastModifiedBy>
  <dcterms:modified xsi:type="dcterms:W3CDTF">2020-09-01T16:22:08Z</dcterms:modified>
  <cp:revision>291</cp:revision>
  <dc:subject/>
  <dc:title>Slide 1</dc:title>
</cp:coreProperties>
</file>