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9773-9CEF-4DFB-BD7D-D062C2D8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021D-3F20-4E91-84B5-4DAC5B79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E2B-1C10-4832-9C41-283EBA0E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2CD-15DD-42BB-AEBB-D31A7DA4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931C-C309-4911-BFF9-04F7B460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D22F-35F7-4F52-AA08-F75B50AB7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BCE8-ABF0-42AE-ABE7-8EB22FA3B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922-83EF-4AA5-8A86-D3E11459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598E-19DE-4E5B-AFA5-16131F88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759-E7C9-44BC-9977-F825B7D7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26E-4A20-4FDE-A932-CECABACE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757-6667-4FC0-B119-CACC5D33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678A-433C-4E0C-AADA-954D377A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7CFD-6F92-4B8E-80DC-63748EC4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3020-DE2B-42E3-A406-97FA1428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4544-74EF-4440-972E-08D10ABB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618-7D45-4F11-B3DB-97A184A7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FE22-FA9B-4FC6-8F0F-2878D5A6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72F-9C5A-4139-AB3F-B89C43BD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CDC-3FFC-41C6-91F6-1EE50413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553-CEAA-45CF-B50F-F966D856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526B-3F03-466A-9810-39DBE8AF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FEAD-FFD9-4C85-920C-C41A4183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GAMES FROM THE BO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Parcheesi:LUDO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andylan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43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98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GA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ACKGAMM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ORRY.png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HINESE CHECKER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lu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7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GO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66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LO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iplomacy.jpg"/>
          <p:cNvPicPr/>
          <p:nvPr/>
        </p:nvPicPr>
        <p:blipFill>
          <a:blip r:embed="rId1"/>
          <a:stretch/>
        </p:blipFill>
        <p:spPr>
          <a:xfrm>
            <a:off x="2200320" y="1295280"/>
            <a:ext cx="4743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TES  AND  LAD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hutes&amp;Ladders1.gif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ACKGAMM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AME  OF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ame_of_life.jpg"/>
          <p:cNvPicPr/>
          <p:nvPr/>
        </p:nvPicPr>
        <p:blipFill>
          <a:blip r:embed="rId1"/>
          <a:stretch/>
        </p:blipFill>
        <p:spPr>
          <a:xfrm>
            <a:off x="1895400" y="1295280"/>
            <a:ext cx="5353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CHEESI  or  LU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Parcheesi:LUDO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andylan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43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ORRY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HINESE CHECKER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lu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72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GO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66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Diplomac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052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hutes&amp;Ladders1.gif"/>
          <p:cNvPicPr/>
          <p:nvPr/>
        </p:nvPicPr>
        <p:blipFill>
          <a:blip r:embed="rId1"/>
          <a:stretch/>
        </p:blipFill>
        <p:spPr>
          <a:xfrm>
            <a:off x="2743200" y="1295280"/>
            <a:ext cx="3675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me_of_lif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00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3:15Z</dcterms:modified>
  <cp:revision>289</cp:revision>
  <dc:subject/>
  <dc:title>Slide 1</dc:title>
</cp:coreProperties>
</file>