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B860-8542-45C5-B264-9A07AF81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FE03-F472-4AE1-BF4B-15463BA74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0B7-97D1-4801-8C1E-4FA86ED8B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61E1-495D-4345-896D-077CA207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E703-1A1F-4618-AC2C-0C1AC1868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605-35FB-4A74-BAFB-CB471BEC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D87B-E1BE-469D-8CB3-356956195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4B25-12D7-4805-91B8-575B1EB5A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589A-51EA-445E-9301-55005D96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84EB-6977-4FF3-9264-E7C5EC40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6C4C-5DBD-43F6-8933-3AAA02152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3D98-D004-45EA-A669-B4DED6A2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274A-2369-46CA-A4CB-3C2D903D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7021-54CC-4CDF-862F-907DF56EE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1131-6B80-490F-8DA4-90332C56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429F-6721-433D-90FE-A175B41A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1133-3ACA-4EF0-BAA5-A9917DDE2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DCFD-8667-43CD-8AAA-D167DD1CA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A248-D27A-42CF-9B6E-596AC6D1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446F-0CE7-497E-A4A9-4AFD3648A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6E51-5991-43EF-B76D-03E63B1C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6991-0CD7-4678-8E76-1C1DBBA7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2A23-4254-44E6-B82B-911A72C4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GAMES FROM THE BO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Parcheesi:LUDO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andylan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434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9800" y="4959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GA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BACKGAMMON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ORRY.png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  CHE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HINESE CHECKER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clu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72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GO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66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LO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Diplomacy.jpg"/>
          <p:cNvPicPr/>
          <p:nvPr/>
        </p:nvPicPr>
        <p:blipFill>
          <a:blip r:embed="rId1"/>
          <a:stretch/>
        </p:blipFill>
        <p:spPr>
          <a:xfrm>
            <a:off x="2200320" y="1295280"/>
            <a:ext cx="4743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TES  AND  LAD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Chutes&amp;Ladders1.gif"/>
          <p:cNvPicPr/>
          <p:nvPr/>
        </p:nvPicPr>
        <p:blipFill>
          <a:blip r:embed="rId1"/>
          <a:stretch/>
        </p:blipFill>
        <p:spPr>
          <a:xfrm>
            <a:off x="2884320" y="1295280"/>
            <a:ext cx="33753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BACKGAMMON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AME  OF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Game_of_life.jpg"/>
          <p:cNvPicPr/>
          <p:nvPr/>
        </p:nvPicPr>
        <p:blipFill>
          <a:blip r:embed="rId1"/>
          <a:stretch/>
        </p:blipFill>
        <p:spPr>
          <a:xfrm>
            <a:off x="1895400" y="1295280"/>
            <a:ext cx="5353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CHEESI  or  LU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Parcheesi:LUDO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andylan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43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ORRY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CHINESE CHECKER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lu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72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GO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66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Diplomacy.jpg"/>
          <p:cNvPicPr/>
          <p:nvPr/>
        </p:nvPicPr>
        <p:blipFill>
          <a:blip r:embed="rId1"/>
          <a:stretch/>
        </p:blipFill>
        <p:spPr>
          <a:xfrm>
            <a:off x="1981080" y="1295280"/>
            <a:ext cx="5052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Chutes&amp;Ladders1.gif"/>
          <p:cNvPicPr/>
          <p:nvPr/>
        </p:nvPicPr>
        <p:blipFill>
          <a:blip r:embed="rId1"/>
          <a:stretch/>
        </p:blipFill>
        <p:spPr>
          <a:xfrm>
            <a:off x="2743200" y="1295280"/>
            <a:ext cx="3675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ame_of_life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00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3:15Z</dcterms:modified>
  <cp:revision>289</cp:revision>
  <dc:subject/>
  <dc:title>Slide 1</dc:title>
</cp:coreProperties>
</file>