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0FC1-F1FB-4809-A517-B2DCCD85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9E53-BD85-48DC-A9C5-97420700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32E1-0CBA-4DFA-AB20-753A383A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F237-0B3A-4CA9-98CC-7A156CAF2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2DAF-CA9A-4F16-82A3-F69F58AFC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FC20-52AF-4F39-BA9E-C72412CC6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A25E-EEE0-46D4-AD06-944C5B33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35DB-7A36-41BD-9570-DDFA54CA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9294-BE9E-45B8-8966-442ABF72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16B5-8E88-4C37-A2B2-6EFF9F0ED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D30C-9634-49AF-AE4E-CEB991A0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DF07-CAAE-4EFC-A0DE-DB9E1687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D343-6491-44D9-A6CF-B315653E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3D24-BB2B-4A79-90DB-CCEFAF86F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4C36-B608-435E-9D66-1DCF499CE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D099-72C3-4260-BD0F-7972DC694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C7A4-DEC9-4A27-89B1-2A5F76C8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F069-8FF7-453E-8EA1-926FA2A1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69B0-3E97-4870-A271-99D10115B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580A-1314-4FCF-A34D-EF60ADDB0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44DB-0A0D-40B4-A476-3932C0A6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1007-CD6B-4ADA-A701-C1834B46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EB43-B1B7-44C0-9990-BBAB796F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GAMES USE THESE CA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RISK.jpg"/>
          <p:cNvPicPr/>
          <p:nvPr/>
        </p:nvPicPr>
        <p:blipFill>
          <a:blip r:embed="rId1"/>
          <a:stretch/>
        </p:blipFill>
        <p:spPr>
          <a:xfrm>
            <a:off x="1219320" y="1295280"/>
            <a:ext cx="6688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MONOPOLY.jpg"/>
          <p:cNvPicPr/>
          <p:nvPr/>
        </p:nvPicPr>
        <p:blipFill>
          <a:blip r:embed="rId1"/>
          <a:stretch/>
        </p:blipFill>
        <p:spPr>
          <a:xfrm>
            <a:off x="609480" y="1295280"/>
            <a:ext cx="80107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46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uno-card.jpg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S  AGAINST  HUMA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75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S  TO  AP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PPLES TO APPLES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:  THE  G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MAGIC THE GATHERING.png"/>
          <p:cNvPicPr/>
          <p:nvPr/>
        </p:nvPicPr>
        <p:blipFill>
          <a:blip r:embed="rId1"/>
          <a:stretch/>
        </p:blipFill>
        <p:spPr>
          <a:xfrm>
            <a:off x="990720" y="1295280"/>
            <a:ext cx="7261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40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et.png"/>
          <p:cNvPicPr/>
          <p:nvPr/>
        </p:nvPicPr>
        <p:blipFill>
          <a:blip r:embed="rId1"/>
          <a:stretch/>
        </p:blipFill>
        <p:spPr>
          <a:xfrm>
            <a:off x="990720" y="1295280"/>
            <a:ext cx="721332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E  BO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ille-bournes.jpg"/>
          <p:cNvPicPr/>
          <p:nvPr/>
        </p:nvPicPr>
        <p:blipFill>
          <a:blip r:embed="rId1"/>
          <a:stretch/>
        </p:blipFill>
        <p:spPr>
          <a:xfrm>
            <a:off x="304920" y="1295280"/>
            <a:ext cx="85024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aboo.jpg"/>
          <p:cNvPicPr/>
          <p:nvPr/>
        </p:nvPicPr>
        <p:blipFill>
          <a:blip r:embed="rId1"/>
          <a:stretch/>
        </p:blipFill>
        <p:spPr>
          <a:xfrm>
            <a:off x="2781360" y="1219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uno-card.jpg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É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POKEMON.png"/>
          <p:cNvPicPr/>
          <p:nvPr/>
        </p:nvPicPr>
        <p:blipFill>
          <a:blip r:embed="rId1"/>
          <a:stretch/>
        </p:blipFill>
        <p:spPr>
          <a:xfrm>
            <a:off x="2006640" y="1295280"/>
            <a:ext cx="5130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4928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RISK.jpg"/>
          <p:cNvPicPr/>
          <p:nvPr/>
        </p:nvPicPr>
        <p:blipFill>
          <a:blip r:embed="rId1"/>
          <a:stretch/>
        </p:blipFill>
        <p:spPr>
          <a:xfrm>
            <a:off x="1219320" y="1295280"/>
            <a:ext cx="6688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MONOPOLY.jpg"/>
          <p:cNvPicPr/>
          <p:nvPr/>
        </p:nvPicPr>
        <p:blipFill>
          <a:blip r:embed="rId1"/>
          <a:stretch/>
        </p:blipFill>
        <p:spPr>
          <a:xfrm>
            <a:off x="609480" y="1295280"/>
            <a:ext cx="80107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75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APPLES TO APPLES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MAGIC THE GATHERING.png"/>
          <p:cNvPicPr/>
          <p:nvPr/>
        </p:nvPicPr>
        <p:blipFill>
          <a:blip r:embed="rId1"/>
          <a:stretch/>
        </p:blipFill>
        <p:spPr>
          <a:xfrm>
            <a:off x="990720" y="1295280"/>
            <a:ext cx="7261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et.png"/>
          <p:cNvPicPr/>
          <p:nvPr/>
        </p:nvPicPr>
        <p:blipFill>
          <a:blip r:embed="rId1"/>
          <a:stretch/>
        </p:blipFill>
        <p:spPr>
          <a:xfrm>
            <a:off x="990720" y="1295280"/>
            <a:ext cx="72133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ille-bournes.jpg"/>
          <p:cNvPicPr/>
          <p:nvPr/>
        </p:nvPicPr>
        <p:blipFill>
          <a:blip r:embed="rId1"/>
          <a:stretch/>
        </p:blipFill>
        <p:spPr>
          <a:xfrm>
            <a:off x="304920" y="1295280"/>
            <a:ext cx="85024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aboo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POKEMON.png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61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4:09Z</dcterms:modified>
  <cp:revision>291</cp:revision>
  <dc:subject/>
  <dc:title>Slide 1</dc:title>
</cp:coreProperties>
</file>