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21C-301C-4583-A06B-4063A3CE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9E4-8CB8-448C-9BBA-B9431E03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B2E-F120-4F6E-AD88-C8B444B8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28C9-8C69-482B-9B79-7D2F8B529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935-C320-4E68-B43E-14DF396E6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39B-A849-49EE-A322-587C634A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BAEA-B318-48CF-BF9F-B16E52367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F867-6A16-42F4-AD81-869F6377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560C-F5D1-481C-99C8-56551F2C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F521-AE84-482E-A700-A39BAC5C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187-ED33-4880-9B9D-3E594A22E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29D2-4E51-4545-BDE0-94165955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2558-6CED-4497-B38A-37FD40D1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01A5-5D2E-4888-A301-EC247892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46B3-EFFA-4FF4-93FE-B6701468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B0A9-5811-4B3F-B423-1CC85C73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5642-1322-4F1F-9DCE-6C49F1D51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4EC5-0E44-4B00-B2AD-306A97B1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A72D-4432-4060-A00A-9CAF1548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F229-0F0F-42D5-807F-D18ECEA3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80DA-5234-464F-B1A6-80ABA97D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AEA-F946-4E47-B935-C5F80591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389-E782-4833-90F1-E1C67560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22093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O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460520" y="1295280"/>
            <a:ext cx="6222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LITTLE  P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AK  AND  SP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4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AGOT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525680" y="1371600"/>
            <a:ext cx="6092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E  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343240" y="1295280"/>
            <a:ext cx="445752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670040" y="1333440"/>
            <a:ext cx="580392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CH  A 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514600" y="1281240"/>
            <a:ext cx="4114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  B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360600" y="1295280"/>
            <a:ext cx="2422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'EM  SOCK  'EM  ROB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460520" y="1295280"/>
            <a:ext cx="6222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POTATO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525680" y="1371600"/>
            <a:ext cx="6092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343240" y="1295280"/>
            <a:ext cx="445752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670040" y="1333440"/>
            <a:ext cx="58039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514600" y="1281240"/>
            <a:ext cx="41148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360600" y="1295280"/>
            <a:ext cx="2422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4:45Z</dcterms:modified>
  <cp:revision>292</cp:revision>
  <dc:subject/>
  <dc:title>Slide 1</dc:title>
</cp:coreProperties>
</file>