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9184-2962-4DA8-84CE-C585A65F7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BF17-9832-4D6E-B69F-17A1ED34E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9F26-4087-464D-A1CB-0F462A37C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3D05-B0C6-430B-863E-F870A8385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4F94-9B03-4C5D-B689-9904F099D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AB9D-B2D7-4BB5-9001-647A7B1D5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A2B2-C67F-48E5-8EAD-83D67EF0B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3BF8-E3A1-4123-8AA9-7FA59DC94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FFC7-D3DC-4A0C-ADF9-94D2B6DAB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E636-07AC-405A-B15F-1CF838E7A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C88E-294B-42A7-B725-C5D9E31E8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F513-CD86-46FE-9CB6-E6E7DDF6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B83C-76AB-4F44-A168-75870250A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CD1-C501-40F1-BBB6-8D196744D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0C4D-5E7B-48A9-845B-29F2200A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7280-994B-4A22-B499-7D350FE5C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65AD-0BE1-4A01-B63D-02902D4A8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DC04-B4CC-4808-817D-7A69E130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68BC-054F-4745-805E-C555B45A3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5FB5-1D84-4C99-9C9A-B405F5914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4CA2-2649-4D30-B688-CB72E6888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2FE1-BB15-48B8-9AC0-E45CA79AC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C13F-F662-4ACB-B032-8F45C6F3D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2209320"/>
            <a:ext cx="6858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TO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460520" y="1295280"/>
            <a:ext cx="6222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LITTLE  P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AK  AND  SP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34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MAGOT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525680" y="1371600"/>
            <a:ext cx="60926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495520" y="1295280"/>
            <a:ext cx="415296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E  B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343240" y="1295280"/>
            <a:ext cx="445752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TCH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670040" y="1333440"/>
            <a:ext cx="5803920" cy="32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CH  A  SK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514600" y="1281240"/>
            <a:ext cx="4114800" cy="34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BOW  B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3360600" y="1295280"/>
            <a:ext cx="2422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'EM  SOCK  'EM  ROB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460520" y="1295280"/>
            <a:ext cx="6222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POTATO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525680" y="1371600"/>
            <a:ext cx="6092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495520" y="1295280"/>
            <a:ext cx="415296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2343240" y="1295280"/>
            <a:ext cx="445752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670040" y="1333440"/>
            <a:ext cx="580392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514600" y="1281240"/>
            <a:ext cx="411480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360600" y="1295280"/>
            <a:ext cx="2422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4:45Z</dcterms:modified>
  <cp:revision>292</cp:revision>
  <dc:subject/>
  <dc:title>Slide 1</dc:title>
</cp:coreProperties>
</file>