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BD85-B4E9-4756-B6ED-135C93D6A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236B-1EDB-4588-A9D4-0C56C39EA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11E6-6A30-4A29-8F4E-6558C32B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0A34-41A5-4C6A-BF64-ED2D06EC4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7DB1-8561-499F-981D-50122F945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4F1C-9ADF-495E-8DF4-A5280D95B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A23D-F6EC-4723-9F75-0A3D3F0C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9B4F-0F26-4DDF-8F5B-B2FF9AAFE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1F35-A970-4FC0-A993-FF63A9ABC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2297-94BD-4E1D-A0E4-F045242A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ACEF-093D-4217-AB56-38F73A6F0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0D47-D37D-4C61-887A-ADD371AE7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9E3A-B199-41CC-8AF0-0B5B36BE7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E128-50B4-4E57-8270-CD35F900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B54B-8975-4CB6-9EAE-889BE7D92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F411-774C-45FA-8856-0F450FA0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28D1-3AA4-4AE9-BD71-12866B1F9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4698-7B3A-4163-830F-9AD756462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5717-6315-4401-8349-CA75545A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24EF-7976-4766-8F36-25EDBD934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A135-7CF3-44BB-B049-B21B8ED8A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A75D-0691-4A16-A4CF-B5927FA5F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85AD-DFC8-4168-836B-15D64CC7A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2209320"/>
            <a:ext cx="6858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TO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460520" y="1295280"/>
            <a:ext cx="6222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803680" y="1295280"/>
            <a:ext cx="353664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LITTLE  P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AK  AND  SP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34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MAGOT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525680" y="1371600"/>
            <a:ext cx="60926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495520" y="1295280"/>
            <a:ext cx="415296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E  B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343240" y="1295280"/>
            <a:ext cx="445752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TCH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670040" y="1333440"/>
            <a:ext cx="5803920" cy="32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CH  A  SK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514600" y="1281240"/>
            <a:ext cx="411480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BOW  B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3360600" y="1295280"/>
            <a:ext cx="2422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'EM  SOCK  'EM  ROB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460520" y="1295280"/>
            <a:ext cx="6222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POTATO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2803680" y="1295280"/>
            <a:ext cx="353664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525680" y="1371600"/>
            <a:ext cx="6092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495520" y="1295280"/>
            <a:ext cx="415296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343240" y="1295280"/>
            <a:ext cx="445752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670040" y="1333440"/>
            <a:ext cx="580392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514600" y="1281240"/>
            <a:ext cx="411480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360600" y="1295280"/>
            <a:ext cx="2422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4:45Z</dcterms:modified>
  <cp:revision>292</cp:revision>
  <dc:subject/>
  <dc:title>Slide 1</dc:title>
</cp:coreProperties>
</file>