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08C1-05DD-423C-8B02-FA116D22D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BF7E-6EDE-437B-AC97-2B2351032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884-B145-482D-94BA-808666F8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0AED-ACD5-45E1-951D-42F3DA33F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CA31-D6F9-4395-91DF-C9DF5976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071-59B7-44C1-9962-75AA445F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71F9-CA2D-4C28-ABC1-9EFB572AA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42F6-9BBE-453A-929D-0296000C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ECEB-E935-43C8-B1CA-C8F3CC27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A9D6-8A5E-46A2-B429-50CF65D2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DD93-15C4-4985-86D0-DD374856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548F-1D3C-421A-9DC4-F97D3DAE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798A-7402-4985-AE57-A9F25030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C324-0739-4246-ADEF-251F51D06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D460-5EE1-49DA-8A22-14FCD910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98F6-C444-45D7-8AFF-E00F66471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0A01-2904-4156-863B-E17A00D8F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964A-7254-4B8C-8B66-D536234FE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5104-1E52-4D32-85DC-1908FBA0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6676-6E8B-490A-B428-09023EBC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6232-8597-4B0A-9F5B-C6D7BEB3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DA95-57EA-497B-A081-4F3DB9F0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0724-998B-4193-B09F-C46E9D6D5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UPP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MIT  THE 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DY  D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FRIDAY  &amp;  SARA  SATU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LER  &amp;  WALDO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47880" y="1219320"/>
            <a:ext cx="3648240" cy="36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KLA  &amp;  OL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390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266760" y="4952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UMPH  THE  INSULT  COMIC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89200" y="1219320"/>
            <a:ext cx="37656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O  GI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MB  C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3147840" y="1219320"/>
            <a:ext cx="2848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ZO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35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76600" y="12193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16Z</dcterms:modified>
  <cp:revision>290</cp:revision>
  <dc:subject/>
  <dc:title>Slide 1</dc:title>
</cp:coreProperties>
</file>