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942-AA9C-4DFD-8298-B2B24114D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A35-F80A-44C3-8704-40BD80BD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F92A-01F0-4129-A654-FAD110A1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6374-D33D-42AB-9641-8459FA02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12E-2C26-4001-B172-28F9A64C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65C-FB14-45EC-B825-BE37C7FC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5A9D-D47E-4B43-9DEC-690C3B1C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600-9150-49B8-BC36-53108E01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50F-E7E8-4FE4-9BE1-EAF4905B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3922-0AC8-4B00-9025-D6A49703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17B-72C1-4418-9256-C7C9C5A4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5A4-F38C-4569-AFE2-F51224DB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9ED-D833-4998-A247-81948C0D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110-D3E1-45D2-A1B6-B306D7E7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2C8-EB8B-4B6A-946F-8C7A20CD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651-08E0-4A16-8099-A2DFCAED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2D8-F1F3-444F-9320-E89F33E1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104-9E2F-477E-AD27-424035DC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354A-5A87-4235-9172-C67CA83C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1147-3542-44EA-80FF-0865780A3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9BC-5606-4798-A554-FAF3E257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443-68C5-4CAA-ABBB-FC2A29B37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07B-6EDD-4CBC-B4A5-0855A6D9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U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DY  D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FRIDAY  &amp;  SARA 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LER  &amp;  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47880" y="1219320"/>
            <a:ext cx="3648240" cy="36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KLA  &amp;  O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66760" y="4952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UMPH  THE  INSULT  COMIC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  GI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MB  C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3147840" y="1219320"/>
            <a:ext cx="2848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ZO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76600" y="12193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16Z</dcterms:modified>
  <cp:revision>290</cp:revision>
  <dc:subject/>
  <dc:title>Slide 1</dc:title>
</cp:coreProperties>
</file>