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11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6C40-3035-4807-9D86-2D721E16B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50F8-7C9D-4C49-8DE4-DC46975AA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344D-CE36-49E9-9750-019F26C7C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624C-5CD6-4F14-A9AE-11C653079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E78F-22C4-4879-85D9-D77B75E65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4C0B-A526-4F7A-9BA5-FDC7C7BF6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6802-5D9F-4FAE-8295-3F23F952F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404D-FE4B-4926-9142-D914163EA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581D-50A4-40FA-B439-31115C334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4BD2-E6CA-451B-B88A-5CCDDC6B0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7C78-2FE3-4960-BD49-EA8D7F1DD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3D20-2306-40B1-8B83-99A1E8259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AA1F-8FA1-4D71-8179-EE79E8597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7E91-BC82-4D56-B6C3-D648F91E0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E4BF-FEA7-40FE-8FA4-5CE168238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ABC1-FC25-44AE-A495-07FC96D0E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C39C-487E-4043-9EE8-24FF4EF98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25FA-B374-44D7-A5A5-7E7BD8594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5BDC-361E-43B6-A93F-1F49C73F6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8DE1-2B11-4B9F-B170-C2156CCD0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4310-9647-4F46-B1CE-038D7F9B6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C92F-D88C-4CA5-B20F-29186735B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5A14-082E-4A47-85A4-C75F3A30B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19000" y="1447560"/>
            <a:ext cx="7506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OLLEGE FOOTBALL BOWL GAMES HAVE THESE LOGO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1620720" y="1295280"/>
            <a:ext cx="5902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1608120" y="1295280"/>
            <a:ext cx="59277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WAI'I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2093760" y="1295280"/>
            <a:ext cx="4956480" cy="356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2135160" y="1295280"/>
            <a:ext cx="4873680" cy="365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UTBACK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1725480" y="1295280"/>
            <a:ext cx="56930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MOUS  IDAHO  POTATO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1839960" y="1295280"/>
            <a:ext cx="54640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EZ–IT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2725560" y="1295280"/>
            <a:ext cx="3692880" cy="365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TRUS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2762280" y="1295280"/>
            <a:ext cx="3619440" cy="361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BERTY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5" descr=""/>
          <p:cNvPicPr/>
          <p:nvPr/>
        </p:nvPicPr>
        <p:blipFill>
          <a:blip r:embed="rId1"/>
          <a:stretch/>
        </p:blipFill>
        <p:spPr>
          <a:xfrm>
            <a:off x="3027240" y="1295280"/>
            <a:ext cx="3089520" cy="365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2093760" y="1295280"/>
            <a:ext cx="495648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RMINGHAM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9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MEXICO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1620720" y="1295280"/>
            <a:ext cx="59025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ORLEANS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1608120" y="1295280"/>
            <a:ext cx="59277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2135160" y="1295280"/>
            <a:ext cx="4873680" cy="36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4" descr=""/>
          <p:cNvPicPr/>
          <p:nvPr/>
        </p:nvPicPr>
        <p:blipFill>
          <a:blip r:embed="rId1"/>
          <a:stretch/>
        </p:blipFill>
        <p:spPr>
          <a:xfrm>
            <a:off x="1725480" y="1295280"/>
            <a:ext cx="56930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1839960" y="1295280"/>
            <a:ext cx="54640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2725560" y="1295280"/>
            <a:ext cx="3692880" cy="36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2762280" y="1295280"/>
            <a:ext cx="3619440" cy="361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4" descr=""/>
          <p:cNvPicPr/>
          <p:nvPr/>
        </p:nvPicPr>
        <p:blipFill>
          <a:blip r:embed="rId1"/>
          <a:stretch/>
        </p:blipFill>
        <p:spPr>
          <a:xfrm>
            <a:off x="3027240" y="1295280"/>
            <a:ext cx="3089520" cy="36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94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5T12:25:37Z</dcterms:modified>
  <cp:revision>292</cp:revision>
  <dc:subject/>
  <dc:title>Slide 1</dc:title>
</cp:coreProperties>
</file>