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B1E8-FD92-49AA-B3D2-29E8126EC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CDFE-759D-4FF0-AAF3-54A592562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E422-8C25-4572-87FE-7C13AA7A1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1F01-8C16-43F0-8BD9-CB45EDC90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C574-413A-4169-AA50-C7DF6CFBC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F019-FDE1-4701-8835-D388E4CAD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53B1-0CE1-40C9-B50C-32A689634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18F4-B23F-4F61-996B-805784543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6AC7-680D-41AA-93C7-45C7AACD8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3A16-B2A6-4614-A204-AD9F2E2FD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9A5F-A179-4FF3-BF83-0EFD330AC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A6A1-9566-4D95-8550-09EDFF35F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B700-1808-44DD-BF82-DB35A54AB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CA33-6A80-4C04-ABA9-471BF9571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B487-8037-4381-BEE4-6A13AA99C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53F8-E853-4C8E-993F-EBABD0434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75E6-B99E-4260-ADCC-49B4B24AA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F1D2-1919-4CE6-996F-E07B682D7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4A82-DF4B-4037-926D-26BB18370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B572-4A24-44EB-9614-6DCEED9DA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1A2D-CD64-424F-A7C8-47FA3E991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ED04-5E60-4037-B3C0-C2C020830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7438-D785-4B29-8511-0DFEFA81F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19000" y="1447560"/>
            <a:ext cx="7506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LLEGE FOOTBALL BOWL GAMES HAVE THESE LOGO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620720" y="1295280"/>
            <a:ext cx="5902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608120" y="1295280"/>
            <a:ext cx="59277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'I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093760" y="1295280"/>
            <a:ext cx="495648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135160" y="1295280"/>
            <a:ext cx="4873680" cy="36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BACK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725480" y="1295280"/>
            <a:ext cx="5693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OUS  IDAHO  POTATO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1839960" y="1295280"/>
            <a:ext cx="5464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Z–IT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725560" y="1295280"/>
            <a:ext cx="3692880" cy="36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RUS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762280" y="1295280"/>
            <a:ext cx="3619440" cy="36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"/>
          <p:cNvPicPr/>
          <p:nvPr/>
        </p:nvPicPr>
        <p:blipFill>
          <a:blip r:embed="rId1"/>
          <a:stretch/>
        </p:blipFill>
        <p:spPr>
          <a:xfrm>
            <a:off x="3027240" y="1295280"/>
            <a:ext cx="3089520" cy="36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093760" y="1295280"/>
            <a:ext cx="49564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MINGHAM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9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MEXICO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620720" y="1295280"/>
            <a:ext cx="5902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ORLEANS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608120" y="1295280"/>
            <a:ext cx="59277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135160" y="1295280"/>
            <a:ext cx="48736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1725480" y="1295280"/>
            <a:ext cx="5693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839960" y="1295280"/>
            <a:ext cx="54640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725560" y="1295280"/>
            <a:ext cx="36928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762280" y="1295280"/>
            <a:ext cx="361944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3027240" y="1295280"/>
            <a:ext cx="3089520" cy="36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9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2:25:37Z</dcterms:modified>
  <cp:revision>292</cp:revision>
  <dc:subject/>
  <dc:title>Slide 1</dc:title>
</cp:coreProperties>
</file>