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81A3-71DC-4182-8AE4-18AB9468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1526-4474-4C92-8240-852E7A15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BD20-BDE3-4042-AC5C-763358A46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A0E6-8CD1-42D6-8675-5A385A55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CBAA-F225-4DC2-BD66-6CB520A2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5F30-2CEE-4EB0-AB58-F1CACDC69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CE33-F67E-4610-8DDE-A41368A4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A02B-9BE3-4C07-8CA7-8F0B8A03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F00D-B6C1-470E-AF36-14A7B0B0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EB71-A746-4F98-8C9A-2F7C46CA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BFA-3063-4504-871E-718BD911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9C1B-A2B0-4985-976A-F0F1D791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A3DC-556B-4F36-A1D2-CC37B9768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6A93-3213-4609-B848-F1F6669D5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C349-935A-445A-9DF1-4CE579B3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49A4-1B5E-4104-9A61-6782C686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9F90-41A4-4EA7-A96E-0BA9195BD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ADF2-FB6A-48A1-AE8C-EE952953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31FB-5DD1-4916-AF18-F6EE021EE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D491-51A9-4020-8749-FFF258C69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1999-E2E0-46E5-8604-C90093CAD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245B-71EE-49AF-944B-0F9BECE98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9D1F-8DB6-4A0E-AB36-EA321FA9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1447560"/>
            <a:ext cx="750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FOOTBALL BOWL GAME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BACK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IDAHO  POTAT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–IT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U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MEXIC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5:37Z</dcterms:modified>
  <cp:revision>292</cp:revision>
  <dc:subject/>
  <dc:title>Slide 1</dc:title>
</cp:coreProperties>
</file>