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E4A5-6190-4E2D-A138-72DB932F1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BF0E-C6C5-4234-B593-7F749E6A3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E48B-2A45-4968-9CAD-E5D48CB3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68C8-24C6-40BD-9B59-3C5EA41AD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FFDE-8816-4647-AD9D-BFAEEEDE8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FD19-4941-4149-8BF9-4E863C67D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8575-01C7-435C-9F2B-70731F6E1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C399-EFE0-48C4-B8DE-87D6112E9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8324-2FFC-4B97-B787-EB296FB06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7752-4E23-47A9-B517-29C88D07F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E584-477E-4A2D-91FA-5A1CEDA7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2B6E-4405-414B-95CA-863AAAAD1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FA28-DC32-4586-B074-A64BBFC14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9F3D-8813-416B-8041-D66662B5B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D9CB-FED0-49DE-90E2-E3731435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EEF5-DB13-493F-BCE0-77830A07C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D63B-2216-499A-9568-817F07FE6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0C3F-83EC-49F5-A32A-7214241F0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6930-F797-4506-86AA-2C275337A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FCA4-F0BA-4E96-A352-BDCD0D914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8269-D3EB-41D9-AC6E-2BE0BB66F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473B-F0AB-4808-9ED2-741EA4BB6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E422-FB96-4524-A44B-92CA8AC83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6761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1980'S VIDEO GA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690640" y="1295280"/>
            <a:ext cx="3762720" cy="36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KEY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917800" y="1371600"/>
            <a:ext cx="33084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LE  COM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10000" y="1295280"/>
            <a:ext cx="392400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F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350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06720" y="1295280"/>
            <a:ext cx="313056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419200" y="1295280"/>
            <a:ext cx="4305600" cy="353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UNT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060640" y="1295280"/>
            <a:ext cx="5022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793960" y="1295280"/>
            <a:ext cx="3556080" cy="35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917800" y="1371600"/>
            <a:ext cx="3308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TERO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203560" y="1295280"/>
            <a:ext cx="4736880" cy="35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385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NG  FU 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690640" y="1295280"/>
            <a:ext cx="3762720" cy="36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GER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610000" y="1295280"/>
            <a:ext cx="392400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35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06720" y="1295280"/>
            <a:ext cx="313056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19200" y="1295280"/>
            <a:ext cx="4305600" cy="35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60640" y="1295280"/>
            <a:ext cx="5022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93960" y="1295280"/>
            <a:ext cx="355608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203560" y="1295280"/>
            <a:ext cx="4736880" cy="35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3-07T14:43:31Z</dcterms:modified>
  <cp:revision>288</cp:revision>
  <dc:subject/>
  <dc:title>Slide 1</dc:title>
</cp:coreProperties>
</file>