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31BC-9118-4937-A50C-20929D181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D40B-3C84-4C0E-A548-365AC128B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5E3F-10ED-41A7-8440-29543694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06E3-7022-44D7-8D48-C0320DE5B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7BDB-79E6-42E5-AA8D-6DEF86849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4245C-1D9C-42D3-907F-4FE6316D4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A6D5-0F8C-47C9-824E-6F3BD717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1FA8-E72A-4E9B-91D6-7C50B482A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DD67-1E0C-483C-A9D0-F562CF610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23F5-B1DD-4E36-AF30-68684F8B2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F528-029A-4A50-97EC-98E957916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B126-9E5A-4A3E-AD3A-E1BD95682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13734-C10E-4829-AD9C-9E4D4A1F9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16FB-81DD-4CC5-8C24-047B0A49B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D985-5446-4A79-8914-863B93697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09CD-5B49-4C73-A183-656436BEF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7BBD-9F02-4D3E-884E-3EC85E65E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76D3-A04A-4F24-A5A7-E9E5645E0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2229-77BB-4E4B-A228-1918DB9BD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D266-0821-425A-9841-D4BF1CE3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F8E3-A5D4-42B2-A246-29E4A3BD2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927D-64C7-41AE-9A73-02FD8F204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3E28-E2A3-4D25-B460-21320E5EF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676160"/>
            <a:ext cx="647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1980'S VIDEO GA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690640" y="1295280"/>
            <a:ext cx="3762720" cy="36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KEY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917800" y="1371600"/>
            <a:ext cx="330840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SSILE  COMM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4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FE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0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419200" y="1295280"/>
            <a:ext cx="4305600" cy="353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UNT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917800" y="1371600"/>
            <a:ext cx="3308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TERO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03560" y="1295280"/>
            <a:ext cx="4736880" cy="355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385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NG  FU  MA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690640" y="1295280"/>
            <a:ext cx="3762720" cy="364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GER  TI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78136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610000" y="1295280"/>
            <a:ext cx="3924000" cy="35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006720" y="1295280"/>
            <a:ext cx="313056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419200" y="1295280"/>
            <a:ext cx="4305600" cy="35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060640" y="1295280"/>
            <a:ext cx="502272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793960" y="1295280"/>
            <a:ext cx="3556080" cy="35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2203560" y="1295280"/>
            <a:ext cx="4736880" cy="35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3-07T14:43:31Z</dcterms:modified>
  <cp:revision>288</cp:revision>
  <dc:subject/>
  <dc:title>Slide 1</dc:title>
</cp:coreProperties>
</file>