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00B1-E65E-4171-AD5A-2ECC2B3C7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7D9B-A8BC-4479-8D01-753826396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4EEA-F2A1-4D28-874C-631946CFA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9ED1-A834-40DB-8766-5215BBC58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E36C-8E46-44F1-9419-2DF926A40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41BF-20E3-44BD-8A6C-D7BBD8B8A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60E4-9590-4FBD-B2E1-8FB76DAF9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C5EE-B8E8-4AB3-B050-BC6EA3031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0C6F-F895-4963-A9DD-2C23AEB68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06BB-9CAD-4F54-84EA-F3DB54CB5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D83F-BB00-40A1-BDA0-E71EF0515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FAD0-E0AF-402F-9657-C4AB368A5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09F9-ADC8-47E5-B737-BA537642C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F936-8266-4AA7-849F-E69F57CFD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AD47-CAB8-4C5A-A20E-60E568C65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85CC-FA5F-4B18-8B9B-25DC1EF7E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CDDA-434C-4CF2-B68E-EE5BC46B5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0A39-16A6-4A56-94B5-7120878F5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800B-E51D-423C-9E40-533B74800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D6BF-7BB5-46D4-A2B3-AD26A08D8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38D5-9512-44A4-9162-5B906DEA2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6310-3623-4CCC-B3E7-6DE25F74B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97B1-3228-42A2-9797-FFF49B546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TBALL VS. HOCK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36800" y="761760"/>
            <a:ext cx="7070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VERAGE SALARY IS HIGHER, NFL OR NH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LEAST VALUABLE NFL TEAM IS STILL WORTH MORE THAN THE MOST VALUABLE NHL TE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7800" y="4876920"/>
            <a:ext cx="5105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C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87400" y="762120"/>
            <a:ext cx="736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OFFSIDES CALLED MORE IN FOOTBALL OR HOC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VI)K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42880" y="762120"/>
            <a:ext cx="8058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HL TEAM'S NAME CAN BE OBTAINED BY REMOVING THE FIRST 2 LETTERS OF AN NFL TEAM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C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16040" y="762120"/>
            <a:ext cx="7711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HIGHER RATE OF CONCUSSIONS, FOOTBALL OR HOC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428840" y="4343400"/>
            <a:ext cx="6286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LOUIS,  COLUMBUS, LAS  VEGAS  &amp;  RALE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09520" y="762120"/>
            <a:ext cx="8724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U.S. CITIES HAVE A NHL TEAM BUT NO NF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H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96960" y="762120"/>
            <a:ext cx="7750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ELLS MORE TICKETS OVER AN ENTIRE SEASON, THE NFL OR NH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C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TARTED FIRST, PRO FOOTBALL OR PRO HOC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THERS  &amp;  J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66840" y="762120"/>
            <a:ext cx="6610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TEAM NAMES ARE COMMON TO BOTH THE NFL AND NH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2800" y="762120"/>
            <a:ext cx="771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OFFSIDES CALLED MORE IN FOOTBALL OR HOC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7800" y="762120"/>
            <a:ext cx="79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AREA, IS A FOOTBALL FIELD ABOUT 2, 3, OR 4 TIMES AS BIG AS A HOCKEY RIN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H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47600" y="762120"/>
            <a:ext cx="7048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VERAGE SALARY IS HIGHER, NFL OR NH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LEAST VALUABLE NFL TEAM IS STILL WORTH MORE THAN THE MOST VALUABLE NHL TE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6040" y="761760"/>
            <a:ext cx="77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HL TEAM'S NAME CAN BE OBTAINED BY REMOVING THE FIRST 2 LETTERS OF AN NFL TEAM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71400" y="762120"/>
            <a:ext cx="7801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HIGHER RATE OF CONCUSSIONS, FOOTBALL OR HOC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U.S. CITIES HAVE A NHL TEAM BUT NO NF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ELLS MORE TICKETS OVER AN ENTIRE SEASON, THE NFL OR NH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TARTED FIRST, PRO FOOTBALL OR PRO HOC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TEAM NAMES ARE COMMON TO BOTH THE NFL AND NH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8200" y="762120"/>
            <a:ext cx="806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AREA, IS A FOOTBALL FIELD ABOUT 2, 3, OR 4 TIMES AS BIG AS A HOCKEY RI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4-29T18:15:39Z</dcterms:modified>
  <cp:revision>414</cp:revision>
  <dc:subject/>
  <dc:title>Slide 1</dc:title>
</cp:coreProperties>
</file>