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58ED-AFBE-44AE-814E-15CED8ABA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C810-E004-4AF7-8BF9-D025B9635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F1B0-F0DF-421E-A1DE-08A1196E2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E8FD-32B0-4809-97F8-CEF712184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A322-F081-4317-9EA3-615C142F8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C9BE-A42E-4173-814E-15C8F5572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9D4E-ACF1-4D57-B0BD-385384086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DC8E-AFBD-4C4C-9B5F-F6B5531E6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CCFD-AC60-4D6D-ABB8-35349992C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6574-4CE6-4B2D-A682-2087D2829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9FF2-E062-4ACF-B05B-F8E8280ED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7EBF-1A58-4EB7-8F32-F1A7E3B71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816A-9C3D-463D-94F5-CBC98B9EC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685D-B070-447C-A192-E7A997A75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AA1F-9B32-4245-9511-6BC2DE3A8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B526-6955-4976-B0ED-BCACA91F0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0F33-F03A-40E9-A7FB-1B38ACEA9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4E52-1FB9-43D2-88F7-5D25CC795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4E11-DC3D-4F5F-A027-146A79B01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5912-A507-487C-ABA6-CB349856C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5223-C780-4D78-A96D-E60A52967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8C0B-A434-490F-B97E-62E51A0BE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2E42-FE58-4773-A297-8611F958E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TBALL VS. HOCK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36800" y="761760"/>
            <a:ext cx="7070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VERAGE SALARY IS HIGHER, NFL OR NH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LEAST VALUABLE NFL TEAM IS STILL WORTH MORE THAN THE MOST VALUABLE NHL TE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7800" y="4876920"/>
            <a:ext cx="510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C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87400" y="762120"/>
            <a:ext cx="7367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OFFSIDES CALLED MORE IN FOOTBALL OR HOC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VI)K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42880" y="762120"/>
            <a:ext cx="8058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HL TEAM'S NAME CAN BE OBTAINED BY REMOVING THE FIRST 2 LETTERS OF AN NFL TEAM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C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16040" y="762120"/>
            <a:ext cx="7711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HIGHER RATE OF CONCUSSIONS, FOOTBALL OR HOC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428840" y="4343400"/>
            <a:ext cx="6286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LOUIS,  COLUMBUS, LAS  VEGAS  &amp;  RALE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09520" y="762120"/>
            <a:ext cx="8724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U.S. CITIES HAVE A NHL TEAM BUT NO NF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H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96960" y="762120"/>
            <a:ext cx="7750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ELLS MORE TICKETS OVER AN ENTIRE SEASON, THE NFL OR NH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C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TARTED FIRST, PRO FOOTBALL OR PRO HOC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THERS  &amp;  J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66840" y="762120"/>
            <a:ext cx="6610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TEAM NAMES ARE COMMON TO BOTH THE NFL AND NH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2800" y="762120"/>
            <a:ext cx="771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OFFSIDES CALLED MORE IN FOOTBALL OR HOC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7800" y="762120"/>
            <a:ext cx="79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AREA, IS A FOOTBALL FIELD ABOUT 2, 3, OR 4 TIMES AS BIG AS A HOCKEY RIN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H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47600" y="762120"/>
            <a:ext cx="7048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VERAGE SALARY IS HIGHER, NFL OR NH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LEAST VALUABLE NFL TEAM IS STILL WORTH MORE THAN THE MOST VALUABLE NHL TE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6040" y="761760"/>
            <a:ext cx="77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HL TEAM'S NAME CAN BE OBTAINED BY REMOVING THE FIRST 2 LETTERS OF AN NFL TEAM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71400" y="762120"/>
            <a:ext cx="7801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HIGHER RATE OF CONCUSSIONS, FOOTBALL OR HOC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U.S. CITIES HAVE A NHL TEAM BUT NO NFL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ELLS MORE TICKETS OVER AN ENTIRE SEASON, THE NFL OR NH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TARTED FIRST, PRO FOOTBALL OR PRO HOC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TEAM NAMES ARE COMMON TO BOTH THE NFL AND NH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8200" y="762120"/>
            <a:ext cx="806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AREA, IS A FOOTBALL FIELD ABOUT 2, 3, OR 4 TIMES AS BIG AS A HOCKEY RIN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4-29T18:15:39Z</dcterms:modified>
  <cp:revision>414</cp:revision>
  <dc:subject/>
  <dc:title>Slide 1</dc:title>
</cp:coreProperties>
</file>