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809E-F7E7-4D12-94D1-99EF11EB8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D6B3-DF94-4A0E-B83F-81C900507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39B5-ECCF-43BF-AD61-30D199606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A946-AF34-408D-9371-7CC073135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3EAD-013E-4874-A30C-ADDD17C21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D7A1-6FA8-4C30-B2DD-16F8FF82B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2FE1-E7F8-4A32-B8B5-42F92BD99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F433-A26E-46EF-BE0E-66F716A17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8110-D590-44B2-B27F-3982FC105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D67C-C267-477D-8651-EAD9655B0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FA8F-B3B5-499D-BA77-5478DF954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D8C8-40A2-4EC2-9B87-AD5C17427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949D-6CA0-41D2-895F-0A4A7B9C3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BDB4-B44D-43A5-8FCD-C695C9705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1579-0361-4BF0-8527-190FCFE9D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19F8-1948-4882-B965-06C7D7392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0B16-3C4E-4CAC-80E0-F4010BA61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D9BD-695C-49FA-B592-966D01DC7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BBE5-1843-49F5-A586-305E88296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55F3-AE08-458E-9D3D-08666DE17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44AB-5E54-4C23-9FE3-F72D77348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F5BC-CEA1-4EA1-97B5-EC24F89C2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EE56-0729-405F-B608-9587AC63E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32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EBALL VS. BASKETBA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24040" y="761760"/>
            <a:ext cx="749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E THERE MORE, FEWER, OR EXACTLY AS MANY MLB TEAMS AS NBA TEA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LY TWO CITIES HAVE MLB AND NBA TEAMS THAT BEGIN WITH THE SAME LETTER.  WHAT ARE THE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2019240" y="4876920"/>
            <a:ext cx="5105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L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07920" y="762120"/>
            <a:ext cx="7328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THE HIGHER AVERAGE PLAYER SALARY,  THE MLB OR NB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KET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42880" y="762120"/>
            <a:ext cx="8058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 MORE AMERICANS PLAY BASEBALL OR BASKETB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028880" y="4343400"/>
            <a:ext cx="7086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NEW  YORK)  METS  &amp;  (BROOKLYN)  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16040" y="762120"/>
            <a:ext cx="7711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AND NBA TEAM NAMES ARE JUST ONE LETTER APA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428840" y="4876920"/>
            <a:ext cx="6286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E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90640" y="777960"/>
            <a:ext cx="7362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TARTED FIRST, PROFESSIONAL BASEBALL OR BASKETB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R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96960" y="762120"/>
            <a:ext cx="7750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THE DIAMETER OF A BASKETBALL SMALLER OR LARGER THAN 3 TIMES THE DIAMETER OF A BASEB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  BASEBALL  G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VERAGE, WHICH IS SHORTER TO WATCH, 2 BASEBALL GAMES OR 3 BASKETBALL G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266840" y="762120"/>
            <a:ext cx="6610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LB SELLS MORE TICKETS THAN THE NBA, NFL, AND NHL COMBI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06400" y="762120"/>
            <a:ext cx="7531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THE HIGHER AVERAGE PLAYER SALARY, THE MLB OR NB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E  CON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41360" y="762120"/>
            <a:ext cx="8261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957 WORLD SERIES WITH THE MILWAUKEE BRAVES AND THE 1959-1961 NBA CHAMPIONSHIPS WITH THE CELT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XACTLY  AS  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66880" y="762120"/>
            <a:ext cx="7410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E THERE MORE, FEWER, OR EXACTLY AS MANY MLB TEAMS AS NBA TEA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-171360" y="4419720"/>
            <a:ext cx="94867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ILWAUKEE (BREWERS &amp; BUCKS) &amp;  MINNEAPOLIS (TWINS &amp; TIMBERWOLV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LY TWO CITIES HAVE MLB AND NBA TEAMS THAT BEGIN WITH THE SAME LETTER.  WHAT ARE THE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16040" y="761760"/>
            <a:ext cx="77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 MORE AMERICANS PLAY BASEBALL OR BASKETB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71400" y="762120"/>
            <a:ext cx="7801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AND NBA TEAM NAMES ARE JUST ONE LETTER APA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TARTED FIRST, PROFESSIONAL BASEBALL OR BASKETB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THE DIAMETER OF A BASKETBALL SMALLER OR LARGER THAN 3 TIMES THE DIAMETER OF A BASEB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VERAGE, WHICH IS SHORTER TO WATCH, 2 BASEBALL GAMES OR 3 BASKETBALL GA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LB SELLS MORE TICKETS THAN THE NBA, NFL, AND NHL COMBIN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957 WORLD SERIES WITH THE MILWAUKEE BRAVES AND THE 1959-1961 NBA CHAMPIONSHIPS WITH THE CELT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2-07-15T14:51:10Z</dcterms:modified>
  <cp:revision>418</cp:revision>
  <dc:subject/>
  <dc:title>Slide 1</dc:title>
</cp:coreProperties>
</file>