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516D-D3D8-4C3A-BA31-F3EB1738C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58A7-8A71-407C-88EF-A5A7C2BFD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22C5-1FA8-4FF1-9096-97B3C0F61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A213-E9A6-402C-B673-D3D7F66EB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DA50-B817-423C-9121-314991AB8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81CA-F87F-4CD6-AF85-25D801041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1B0A-B49C-46AC-9A4D-FB1F25FF0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9E68-0502-4D96-91FA-4D75CBFB1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F2C0-D15E-4DC7-B719-6CB0B97FE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B320-7D3D-43EA-BFBF-9F6197BE9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1E1F-59B2-4380-B93B-B8AAC83E3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7D69-8E93-42A6-8226-569FEDF96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A850-D62E-4E7F-996A-466FA2DE7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9A97-200C-4BBE-B2D4-C55E728D9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07ED-083A-4D02-8789-A507EE971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609C-89C6-4CD5-B874-056CC294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9F20-F286-456C-B777-101755F81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4148-EA95-42BA-91F2-31675FB7D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AAB4-2093-4EFC-9675-0598F3E99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E53B-026D-4729-BA84-5CC2D2CAC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F15F-46EA-4512-ADA0-34CC2CCA0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6336-7042-44E2-885E-5884DF391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8D33-E511-40FD-9A6D-CE1E8A656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EBALL VS. BASKETB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24040" y="761760"/>
            <a:ext cx="749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THERE MORE, FEWER, OR EXACTLY AS MANY MLB TEAMS AS NBA TE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TWO CITIES HAVE MLB AND NBA TEAMS THAT BEGIN WITH THE SAME LETTER.  WHAT ARE TH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L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7920" y="762120"/>
            <a:ext cx="7328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THE HIGHER AVERAGE PLAYER SALARY,  THE MLB OR NB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42880" y="762120"/>
            <a:ext cx="805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MORE AMERICANS PLAY BASEBALL OR BASKE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028880" y="4343400"/>
            <a:ext cx="7086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EW  YORK)  METS  &amp;  (BROOKLYN)  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16040" y="762120"/>
            <a:ext cx="7711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AND NBA TEAM NAMES ARE JUST ONE LETTER AP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428840" y="4876920"/>
            <a:ext cx="6286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90640" y="777960"/>
            <a:ext cx="736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TARTED FIRST, PROFESSIONAL BASEBALL OR BASKE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96960" y="762120"/>
            <a:ext cx="775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DIAMETER OF A BASKETBALL SMALLER OR LARGER THAN 3 TIMES THE DIAMETER OF A BASE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  BASEBALL 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WHICH IS SHORTER TO WATCH, 2 BASEBALL GAMES OR 3 BASKETBALL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66840" y="762120"/>
            <a:ext cx="6610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LB SELLS MORE TICKETS THAN THE NBA, NFL, AND NHL COMBI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06400" y="762120"/>
            <a:ext cx="7531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THE HIGHER AVERAGE PLAYER SALARY, THE MLB OR NB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CON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41360" y="762120"/>
            <a:ext cx="8261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57 WORLD SERIES WITH THE MILWAUKEE BRAVES AND THE 1959-1961 NBA CHAMPIONSHIPS WITH THE CELT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ACTLY  AS 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66880" y="762120"/>
            <a:ext cx="7410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THERE MORE, FEWER, OR EXACTLY AS MANY MLB TEAMS AS NBA TE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-171360" y="4419720"/>
            <a:ext cx="9486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LWAUKEE (BREWERS &amp; BUCKS) &amp;  MINNEAPOLIS (TWINS &amp; TIMBERWOL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TWO CITIES HAVE MLB AND NBA TEAMS THAT BEGIN WITH THE SAME LETTER.  WHAT ARE TH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6040" y="761760"/>
            <a:ext cx="77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MORE AMERICANS PLAY BASEBALL OR BASKE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71400" y="762120"/>
            <a:ext cx="7801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AND NBA TEAM NAMES ARE JUST ONE LETTER AP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TARTED FIRST, PROFESSIONAL BASEBALL OR BASKE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DIAMETER OF A BASKETBALL SMALLER OR LARGER THAN 3 TIMES THE DIAMETER OF A BASE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WHICH IS SHORTER TO WATCH, 2 BASEBALL GAMES OR 3 BASKETBALL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LB SELLS MORE TICKETS THAN THE NBA, NFL, AND NHL COMBI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57 WORLD SERIES WITH THE MILWAUKEE BRAVES AND THE 1959-1961 NBA CHAMPIONSHIPS WITH THE CELT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7-15T14:51:10Z</dcterms:modified>
  <cp:revision>418</cp:revision>
  <dc:subject/>
  <dc:title>Slide 1</dc:title>
</cp:coreProperties>
</file>