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DA433-958F-4335-8277-BDE16F9F69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346C1-5F9F-42E9-8273-5ECA6D5BCC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1F72D-3285-405A-B5B3-9EE61AE3D1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D54B5-AF67-4B30-8023-A9795567A4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D7898-A7FD-486C-B3BE-9D44FBA0CE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7183A-3B9D-4E62-B937-FDEC655FA1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296B3-F276-44B2-969F-959697266C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D91EC-33F3-44A7-A277-9882C4E37E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A881F-BDFA-40F3-96EF-D823843254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A9399-969F-4757-B403-BBAA21D218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7490B-469F-4EA9-B3B6-BEF8019B81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01D1D-B9E1-465C-9EDE-33C9E3000D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2E6FA-0D59-4640-BA58-E1B81E844B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8338F-D342-400D-A207-54D29B771D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51A39-D002-4B85-8A55-682C4FA18D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F621F-5827-44ED-B6A2-2A3BE3D7CD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3DE2B-D969-4694-9D0A-82BDF4E001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9269D-9F4C-49FE-9D15-5FDBE7D31C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77B1F-8D7E-440A-819C-9C048B17C7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F60C9-00EE-4131-A18C-4854FFF0AD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24DB4-DE4C-4694-9489-A65586A46F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10BE3-D48F-4E56-96D7-E816771087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62B62-F607-4385-9B6A-1A45806EB0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799920" y="152388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19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ICH COUNTRY UNDER BRITISH RULE DECLARED INDEPENDENCE IN 1900, LEADING BRITAIN TO GRANT INDEPENDENCE THE FOLLOWING YEAR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990720" y="762120"/>
            <a:ext cx="71625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DISCOVERED THE LAW OF BLACKBODY RADIATION IN 1900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457200" y="487692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OS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343080" y="762120"/>
            <a:ext cx="8458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AMOUS OPERA OF GIACOMO PUCCINI PREMIERED ON JANUARY 14, 1900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AVIS  CU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457200" y="762120"/>
            <a:ext cx="82296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ENNIS COMPETITION BETWEEN COUNTRIES RATHER THAN INDIVIDUALS, BEGAN IN 1900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457200" y="76212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AS 1900 A LEAP YEA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457200" y="4876920"/>
            <a:ext cx="82296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AWAI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457200" y="76212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ECAME A U.S. TERRITORY IN 1900, GUAM, THE PHILIPPINES, OR HAWAII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5252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AR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457200" y="762120"/>
            <a:ext cx="82296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ERE WAS THE WORLD'S FAIR HELD IN 1900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576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457200" y="762120"/>
            <a:ext cx="82296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OLYMPICS WERE HELD IN 1900.  HOW MANY TIMES WERE THEY HELD IN THE PREVIOUS 100 YEA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45720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YELLOW  FEV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1900, WALTER REED FOUND THE FIRST ILLNESS THAT WAS BORNE BY MOSQUITOES.  WHAT WAS THAT ILLNES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342720" y="762120"/>
            <a:ext cx="84582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AMOUS OPERA OF GIACOMO PUCCINI PREMIERED ON JANUARY 14, 1900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IRESTO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1289160" y="762120"/>
            <a:ext cx="656568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TIRE AND RUBBER COMPANY WAS FOUNDED IN 1900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USTRAL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457200" y="762120"/>
            <a:ext cx="8229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ICH COUNTRY UNDER BRITISH RULE DECLARED INDEPENDENCE IN 1900, LEADING BRITAIN TO GRANT INDEPENDENCE THE FOLLOWING YEAR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X  PLAN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990720" y="762120"/>
            <a:ext cx="71625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DISCOVERED THE LAW OF BLACKBODY RADIATION IN 1900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ENNIS COMPETITION BETWEEN COUNTRIES RATHER THAN INDIVIDUALS, BEGAN IN 1900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457200" y="76212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AS 1900 A LEAP YEA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ECAME A U.S. TERRITORY IN 1900, GUAM, THE PHILIPPINES, OR HAWAII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457200" y="72396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ERE WAS THE WORLD'S FAIR HELD IN 1900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OLYMPICS WERE HELD IN 1900.  HOW MANY TIMES WERE THEY HELD IN THE PREVIOUS 100 YEAR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1900, WALTER REED FOUND THE FIRST ILLNESS THAT WAS BORNE BY MOSQUITOES.  WHAT WAS THAT ILLNES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1257120" y="762120"/>
            <a:ext cx="66294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TIRE AND RUBBER COMPANY WAS FOUNDED IN 1900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1-19T20:43:19Z</dcterms:created>
  <dc:creator>Jennifer Budzinski</dc:creator>
  <dc:description/>
  <dc:language>en-US</dc:language>
  <cp:lastModifiedBy>Erich Friedman</cp:lastModifiedBy>
  <dcterms:modified xsi:type="dcterms:W3CDTF">2020-09-01T12:04:35Z</dcterms:modified>
  <cp:revision>278</cp:revision>
  <dc:subject/>
  <dc:title>Slide 1</dc:title>
</cp:coreProperties>
</file>