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E9B7-75AC-4027-89B4-0FFCD9177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79AE-FE57-4389-9606-00448A8E1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00C8-F1D3-402A-88F9-9483C8E91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47C9-ACDD-4572-AB0F-D178F3EDD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DD8F-24EB-41C0-85EC-5FD8490F3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E8BC-AAE7-48CC-9636-066C3901B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F462-7452-40CF-AA70-38BA32CC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DB9B-AC41-427D-90A5-70B2879EC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67AB-4833-4B65-AF70-87DFF8B38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7E01-67F1-40F0-A6E2-7A55EA1C1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E87C-0079-43B9-988E-96D90F749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DCBD-4829-4E4C-93A8-6586EB0E7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04E4-33D5-4079-9B18-5BFEA9CFD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1327-D91D-4C94-B216-8ECCADBBD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B444-FF5B-4DBE-A193-B0FA2D596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2614-2EEA-41A8-B3A9-CAC6A3C5E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3BE4-F233-4903-80C5-96CA0CE98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F003-676C-4311-9239-3149BC2F3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3609-5972-49D5-A8DE-97E2BB9D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969A-8D15-4B94-9E37-8CFE832F0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B16E-A85E-4122-8451-B7E5C9283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829C-F0ED-423D-8CA6-B4FE0DE9A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BCAF-07F5-4E32-A06D-928BA7600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COUNTRY UNDER BRITISH RULE DECLARED INDEPENDENCE IN 1900, LEADING BRITAIN TO GRANT INDEPENDENCE THE FOLLOWING Y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LAW OF BLACKBODY RADIATION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S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OPERA OF GIACOMO PUCCINI PREMIERED ON JANUARY 14,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S 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COMPETITION BETWEEN COUNTRIES RATHER THAN INDIVIDUALS, BEGAN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1900 A LEAP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CAME A U.S. TERRITORY IN 1900, GUAM, THE PHILIPPINES, OR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2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THE WORLD'S FAIR HELD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576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YMPICS WERE HELD IN 1900.  HOW MANY TIMES WERE THEY HELD IN THE PREVIOUS 1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  F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0, WALTER REED FOUND THE FIRST ILLNESS THAT WAS BORNE BY MOSQUITOES.  WHAT WAS THAT ILL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OPERA OF GIACOMO PUCCINI PREMIERED ON JANUARY 14,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89160" y="762120"/>
            <a:ext cx="6565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IRE AND RUBBER COMPANY WAS FOUNDED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COUNTRY UNDER BRITISH RULE DECLARED INDEPENDENCE IN 1900, LEADING BRITAIN TO GRANT INDEPENDENCE THE FOLLOWING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  PLAN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LAW OF BLACKBODY RADIATION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COMPETITION BETWEEN COUNTRIES RATHER THAN INDIVIDUALS, BEGAN IN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1900 A LEAP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CAME A U.S. TERRITORY IN 1900, GUAM, THE PHILIPPINES, OR HAWA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THE WORLD'S FAIR HELD IN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YMPICS WERE HELD IN 1900.  HOW MANY TIMES WERE THEY HELD IN THE PREVIOUS 1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0, WALTER REED FOUND THE FIRST ILLNESS THAT WAS BORNE BY MOSQUITOES.  WHAT WAS THAT ILLN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IRE AND RUBBER COMPANY WAS FOUNDED IN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20:43:19Z</dcterms:created>
  <dc:creator>Jennifer Budzinski</dc:creator>
  <dc:description/>
  <dc:language>en-US</dc:language>
  <cp:lastModifiedBy>Erich Friedman</cp:lastModifiedBy>
  <dcterms:modified xsi:type="dcterms:W3CDTF">2020-09-01T12:04:35Z</dcterms:modified>
  <cp:revision>278</cp:revision>
  <dc:subject/>
  <dc:title>Slide 1</dc:title>
</cp:coreProperties>
</file>