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5583-707B-48FE-AC60-720E1EB86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2B13-4E1E-4F39-9B76-708178B53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0433-F0B9-45F6-8028-A727473CB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539E-510C-4998-A7F1-FAC3BA5A3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A7C7-87B1-48CC-8C6F-47BB05E1B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EEB5-92C9-46E4-91F0-568A57677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DD06-216B-4B9C-BC0D-276FD349B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F50E-AEE1-428F-B539-F668476B5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9E2D-D802-4DE3-A5E1-6B111195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7B19-6996-4C55-A574-80642E8BD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200A-24C4-426D-8A1B-37F11C92E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DCFC-1D6C-4B89-913B-27ED6E8A9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5A55-54ED-4E32-BD0D-19FEC9604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580F-69B7-4DA9-AC2E-BF900DC15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969D-3BA4-4EFD-B7D3-5815C295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AE48-683C-4A0F-9ED6-52FE8EE4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D5B2-8401-478D-8FF5-76C9B9811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AFFF-14A6-48D5-8804-A16329F64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58D9-58C1-4572-83B5-BAA68BFB4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20A7-6C5F-4612-AC5A-53101B5D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7F47-4548-4FBB-988F-9FAE24E7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4561-781B-4CCB-895E-7B440C332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0D82-D415-4447-8C95-8328FBB64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COUNTRY UNDER BRITISH RULE DECLARED INDEPENDENCE IN 1900, LEADING BRITAIN TO GRANT INDEPENDENCE THE FOLLOWING YE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LAW OF BLACKBODY RADIATIO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S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OPERA OF GIACOMO PUCCINI PREMIERED ON JANUARY 14,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S  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COMPETITION BETWEEN COUNTRIES RATHER THAN INDIVIDUALS, BEGA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1900 A LEAP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CAME A U.S. TERRITORY IN 1900, GUAM, THE PHILIPPINES, OR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2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WORLD'S FAIR HELD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57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YMPICS WERE HELD IN 1900.  HOW MANY TIMES WERE THEY HELD IN THE PREVIOUS 1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  F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0, WALTER REED FOUND THE FIRST ILLNESS THAT WAS BORNE BY MOSQUITOES.  WHAT WAS THAT ILL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OPERA OF GIACOMO PUCCINI PREMIERED ON JANUARY 14,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89160" y="762120"/>
            <a:ext cx="656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IRE AND RUBBER COMPANY WAS FOUNDED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COUNTRY UNDER BRITISH RULE DECLARED INDEPENDENCE IN 1900, LEADING BRITAIN TO GRANT INDEPENDENCE THE FOLLOWING YE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  PLAN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LAW OF BLACKBODY RADIATION IN 19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COMPETITION BETWEEN COUNTRIES RATHER THAN INDIVIDUALS, BEGAN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1900 A LEAP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CAME A U.S. TERRITORY IN 1900, GUAM, THE PHILIPPINES, OR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WORLD'S FAIR HELD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YMPICS WERE HELD IN 1900.  HOW MANY TIMES WERE THEY HELD IN THE PREVIOUS 1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0, WALTER REED FOUND THE FIRST ILLNESS THAT WAS BORNE BY MOSQUITOES.  WHAT WAS THAT ILL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IRE AND RUBBER COMPANY WAS FOUNDED IN 19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20:43:19Z</dcterms:created>
  <dc:creator>Jennifer Budzinski</dc:creator>
  <dc:description/>
  <dc:language>en-US</dc:language>
  <cp:lastModifiedBy>Erich Friedman</cp:lastModifiedBy>
  <dcterms:modified xsi:type="dcterms:W3CDTF">2020-09-01T12:04:35Z</dcterms:modified>
  <cp:revision>278</cp:revision>
  <dc:subject/>
  <dc:title>Slide 1</dc:title>
</cp:coreProperties>
</file>