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D404-0C12-411C-9550-7858AB89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6AA-FED1-437F-9E48-88FBD266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6DF-F822-4585-932A-FC1098E4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2D7-8D98-46F2-A2BB-4381A99B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F5D-B9F4-4D4A-8679-A21B8A94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329-FA86-4035-99C0-0ECD7E10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EC9-095A-4393-B9DD-333E74FB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61B-EAFB-4AA4-954A-25A4BDCA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7EA9-EEB0-433A-A6B2-3B7812AC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630-7F01-42B5-9FAB-C6004803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FAA9-BF03-4929-BB81-5DF32F71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A67-E6F5-40AA-B1E7-E42F70BD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890-2B3E-4666-87B9-DDD0FF68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C63-0D1C-41B2-ABCF-DD58BBB3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A90-319C-49D0-891A-0D409B058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EA86-503A-4572-936B-87E5FC63B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C962-06FC-4E75-A781-0B391093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16D-16F1-4D18-91E7-E15821AF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4CB4-F954-4F7A-9D04-FC0D6B32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BD5-8856-4C2C-A417-D7D193CE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E3F-EB3F-4BB7-BDED-10A80B52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4AE-21CA-4C28-8110-BEA3368B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79A-78D3-4B52-AFD4-FC723C40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BORN ON JANUARY 3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HA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SPAS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ESSA  RED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CH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DULLA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NE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6:33:33Z</dcterms:created>
  <dc:creator>Jennifer Budzinski</dc:creator>
  <dc:description/>
  <dc:language>en-US</dc:language>
  <cp:lastModifiedBy>Erich Friedman</cp:lastModifiedBy>
  <dcterms:modified xsi:type="dcterms:W3CDTF">2020-09-01T12:25:40Z</dcterms:modified>
  <cp:revision>413</cp:revision>
  <dc:subject/>
  <dc:title>Slide 1</dc:title>
</cp:coreProperties>
</file>