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F3BE-4E4C-433D-BE03-9A538A059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2758-3C9B-40AD-9E2F-23DE98CCC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46FD-AB41-44A5-A2F2-DAE39354A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2F17-2F51-4A48-80BD-C6231E1AD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EF14-5A94-42CD-B73C-5F2BA946A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F1E9-7A34-42A8-AFC2-E5007ED00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512F-9395-4FF9-8A43-2B806ECE3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0672-CDF4-445B-946C-A4B52B923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B2A4-5A52-44C8-8072-6094C9EEE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1AA3-EFAE-4DF2-8C50-46E25C3A5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DB50-9580-44C3-9DB8-F4E4C0A19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04CD-4013-40D5-8FE5-BDF76C42E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69C1-1BA1-4B7F-8510-BE049DC67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EEBB-0E52-4D33-8852-ED60BCADF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BCB1-307B-494F-B352-15D8327A6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0E30-F29C-4AAD-B7B4-4BDAC5147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DC57-0585-49CA-86C5-12370BD7F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6EE2-90EB-439D-9F16-A5CC2FD00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9B81-59B2-47F8-BA49-0424DB568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83A9-0B75-46E8-A12D-B523ABE53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D89E-DBB7-4149-A82C-B74F0F72A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5594-2881-439E-9D3D-49CEB36BE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5095-C7A1-4B2C-9465-1BD8642F3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0666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BORN ON JANUARY 30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43040" y="762120"/>
            <a:ext cx="7657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AINED 100 POUNDS TO PLAY BATMAN IN THE 2005, 2008, AND 2012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1991 AND 1999 U.S. OPEN GOLF TOURNEYS, AND WAS FAMOUS FOR HIS DISTINCTIVE CLOTH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LIN  D.  ROOSEV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U.S. PRESIDENT TO SERVE MORE THAN 2 TER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CK  MAR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DAN ROWAN'S COMEDY PART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NE  HACK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28560" y="762120"/>
            <a:ext cx="7886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THE FRENCH CONNECTION" AND BEST SUPPORTING ACTOR FOR "UNFORGIV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952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RIS  SPASS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33480" y="762120"/>
            <a:ext cx="72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PLAYER DID BOBBY FISCHER BEAT TO BECOME WORLD CHESS CHAMPION IN 197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NESSA  REDGR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61800" y="762120"/>
            <a:ext cx="8420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RESS FOR "THE BOSTONIANS", "ISADORA", AND "MARY, QUEEN OF SCO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CK  CHE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28880" y="762120"/>
            <a:ext cx="70866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VICE PRESIDENT PORTRAYED IN THE 2018 FILM "VI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  COLL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HAD THE MOST TOP-40 HITS IN THE 1980'S, INCLUDING "SUSSUDI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U.S. PRESIDENT TO SERVE MORE THAN 2 TER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DULLAH 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THE KING OF JORDAN FOR OVER 2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IAN  B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AINED 100 POUNDS TO PLAY BATMAN IN THE 2005, 2008, AND 2012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YNE  STEW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1991 AND 1999 U.S. OPEN GOLF TOURNEYS, AND WAS FAMOUS FOR HIS DISTINCTIVE CLOTH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DAN ROWAN'S COMEDY PARTN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THE FRENCH CONNECTION" AND BEST SUPPORTING ACTOR FOR "UNFORGIV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PLAYER DID BOBBY FISCHER BEAT TO BECOME WORLD CHESS CHAMPION IN 197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85840" y="762120"/>
            <a:ext cx="8572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RESS FOR "THE BOSTONIANS", "ISADORA", AND "MARY, QUEEN OF SCO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71640" y="761760"/>
            <a:ext cx="720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VICE PRESIDENT PORTRAYED IN THE 2018 FILM "VI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HAD THE MOST TOP-40 HITS IN THE 1980'S, INCLUDING "SUSSUDI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THE KING OF JORDAN FOR OVER 20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2T16:33:33Z</dcterms:created>
  <dc:creator>Jennifer Budzinski</dc:creator>
  <dc:description/>
  <dc:language>en-US</dc:language>
  <cp:lastModifiedBy>Erich Friedman</cp:lastModifiedBy>
  <dcterms:modified xsi:type="dcterms:W3CDTF">2020-09-01T12:25:40Z</dcterms:modified>
  <cp:revision>413</cp:revision>
  <dc:subject/>
  <dc:title>Slide 1</dc:title>
</cp:coreProperties>
</file>