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76D4E-6501-4E6C-9306-00721A423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2131-8909-490D-8803-14634CBBE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FFAA8-DF3D-4570-9A92-FE9C037A5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FE0F-24D3-4D03-A8C6-26ED126E9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89C9-D94B-4820-B238-4A1149F4F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5C08-CE57-43EE-9CD9-5449AAC5B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9C1F-C90D-4D1E-BA40-8F99D1580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E7CD-895D-4527-B3B3-5019E111A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ABA0-38AC-4A9D-9F77-64E7C5370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10E3-C61D-4365-A345-1D338BFCA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35C-7AC1-4CC4-8F33-B0AC01D2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F334-54E9-4683-B401-624ACDDBA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A1E-A4FA-46AB-9828-2354CF8F9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C154-68D3-4607-A63D-853777CC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FB9A-4486-43EB-A4F9-3E2B076A1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3696-9523-47C9-A328-57C47E314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8F6E-35CF-4C6A-A3B7-147CB81DA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419D-78BF-4450-8D30-32D46F966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B5B4-E1F9-4EEF-B88F-1A4BE3AD2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2AB0-9432-4DD0-87BE-A8C7099B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2760-DF59-4553-A50F-2B82704AC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9E53-21BA-4D5F-8F9E-BF7680C0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F54BF-3204-4A95-8747-11EA00251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BORN ON JANUARY 30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HA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SPAS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ESSA  REDGR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61800" y="762120"/>
            <a:ext cx="8420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CHE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TO SERVE MORE THAN 2 TE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DULLA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INED 100 POUNDS TO PLAY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NE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91 AND 1999 U.S. OPEN GOLF TOURNEYS, AND WAS FAMOUS FOR HIS DISTINCTIVE CLO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N ROWAN'S COMEDY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PLAYER DID BOBBY FISCHER BEAT TO BECOME WORLD CHESS CHAMPION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THE BOSTONIANS", "ISADORA", AND "MARY, QUEEN OF SCO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VICE PRESIDENT PORTRAYED IN THE 2018 FILM "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HAD THE MOST TOP-40 HITS IN THE 1980'S, INCLUDING "SUSSUD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KING OF JORDAN FOR OVER 2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6:33:33Z</dcterms:created>
  <dc:creator>Jennifer Budzinski</dc:creator>
  <dc:description/>
  <dc:language>en-US</dc:language>
  <cp:lastModifiedBy>Erich Friedman</cp:lastModifiedBy>
  <dcterms:modified xsi:type="dcterms:W3CDTF">2020-09-01T12:25:40Z</dcterms:modified>
  <cp:revision>413</cp:revision>
  <dc:subject/>
  <dc:title>Slide 1</dc:title>
</cp:coreProperties>
</file>