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B94-EEDE-48A7-8C52-0ADEE9B4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537B-B3EE-46D8-B508-76836EBB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F19F-C534-4636-965C-2B1A3325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86E-6913-4EEF-8C63-084D7F6A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10A-05D3-4AD3-A933-9D417592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8BE-8F4B-4B84-BC85-F3D2DE92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4E56-4A8E-4D89-8EA5-407D6D28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60C2-6EE3-4090-8B17-2D38900E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FA3-613C-4018-A525-C381446A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302-CC7C-4022-934F-ACD4F7A3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584-A3E5-4913-A872-A9D50E1C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971-3699-4B42-91B1-4256953C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4CD-351F-4F51-A961-003AA620F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53FD-4280-4E71-9090-DCC393C4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5D8-9020-4A02-9B58-508F74B72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5A4D-F183-41B9-ABDC-C39D72F1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6B9D-DF6A-4B27-9794-355C3188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77E9-67DD-4014-BEAF-B6CDDF2F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F2F7-2D95-4995-8C72-D54DC656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ABA-BD66-441F-82D4-4565FE49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A92-A386-4D83-9E62-6C91579C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5D8F-864B-4D9C-A4F3-DDB11ECC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5DE-E390-4488-8786-5E435A34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8680" y="762120"/>
            <a:ext cx="722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8800" y="762120"/>
            <a:ext cx="72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90560" y="76212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X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19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57280" y="762120"/>
            <a:ext cx="802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0-09-01T12:26:16Z</dcterms:modified>
  <cp:revision>417</cp:revision>
  <dc:subject/>
  <dc:title>Slide 1</dc:title>
</cp:coreProperties>
</file>