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4FADC-7F7A-4BD8-83E7-650F4F54C5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57A9A-0529-4FE3-AEC5-21B6DD350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4A3AC-50C7-4CC2-9883-2AFCEA8A6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0A5B-ADE1-4972-AD57-A801BB6D7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990C5-B09E-4CAF-B249-14837E362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4BFB2-477F-4245-90D8-6338143A2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8FCBF-F438-47EB-B3CF-602CBCBD0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92599-D931-46CE-9F08-CE61B04B1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3F5C7-9631-4BFB-9E6E-FB5A8015B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DAD55-BCE0-4D58-A588-D51C76A96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6EE39-014D-418D-B16A-9F85D711B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A2F69-27BC-4101-926B-29162188F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7DE3-5B0E-41B3-B3F4-3FC4720A4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86357-C497-4B91-87EC-E87003B61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8218E-6330-4674-8B10-9B0B503E0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CC1D3-7D10-4EC4-9FAD-9E1698652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A1649-F502-4883-9500-F2AA76A7D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A7B1A-5B3E-401A-AC1D-0AB822D7C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E8AB4-61BA-4B3C-85B9-A23DE989F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799AB-FB1A-492F-B13C-0AE4A0A19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509D8-B025-4D55-9487-79B9A94AC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21A6B-612D-41C5-B0C3-B524C9705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D8704-9DA0-4641-87EC-EDCF66E11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84160" y="761760"/>
            <a:ext cx="7375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AST KING OF FRANCE BEFORE THE FRENCH REVOLU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219320" y="762120"/>
            <a:ext cx="67053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YEAR DID HUMANS FIRST SET FOOT ON THE MO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2019240" y="4876920"/>
            <a:ext cx="5105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01880" y="762120"/>
            <a:ext cx="7138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CITY TO HAVE A POPULATION OF 1 MILLION PEOP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N  FRANCIS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23720" y="762120"/>
            <a:ext cx="8296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RING THE "SUMMER OF LOVE" IN 1967, IN WHAT U.S. CITY DID HIPPIES CONVERG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 /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15880" y="762120"/>
            <a:ext cx="81122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U.S. CONSTITUTION, WHAT FRACTION DID SLAVES COUNT TOWARDS A STATE'S OFFICIAL POPUL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GAR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90560" y="762120"/>
            <a:ext cx="7562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PRESIDENT WAS SHOT BY CHARLES J. GUITEAU ON JULY 2, 188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THERINE  OF  ARAG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58680" y="762120"/>
            <a:ext cx="72266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WIFE OF KING HENRY VII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UTNI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71680" y="762120"/>
            <a:ext cx="8001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VIET SATELLITE WAS THE FIRST TO BE LAUNCHED INTO SPACE IN 195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IRGI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28560" y="762120"/>
            <a:ext cx="7886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 13 COLONIES IN 1776 HAD BY FAR THE LARGEST POPUL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28800" y="762120"/>
            <a:ext cx="7286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CITY TO HAVE A POPULATION OF 1 MILLION PEOP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.  PE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90560" y="762120"/>
            <a:ext cx="75628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CATHOLIC POP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UIS  XV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33480" y="762120"/>
            <a:ext cx="7277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AST KING OF FRANCE BEFORE THE FRENCH REVOLU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6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257480" y="762120"/>
            <a:ext cx="6629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YEAR DID HUMANS FIRST SET FOOT ON THE MO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71600" y="761760"/>
            <a:ext cx="81993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RING THE "SUMMER OF LOVE" IN 1967, IN WHAT U.S. CITY DID HIPPIES CONVERGE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57280" y="762120"/>
            <a:ext cx="80294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U.S. CONSTITUTION, WHAT FRACTION DID SLAVES COUNT TOWARDS A STATE'S OFFICIAL POPUL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90400" y="762120"/>
            <a:ext cx="796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PRESIDENT WAS SHOT BY CHARLES J. GUITEAU ON JULY 2, 188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WIFE OF KING HENRY VII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VIET SATELLITE WAS THE FIRST TO BE LAUNCHED INTO SPACE IN 195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 13 COLONIES IN 1776 HAD BY FAR THE LARGEST POPUL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95160" y="762120"/>
            <a:ext cx="77536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CATHOLIC POP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1T18:24:11Z</dcterms:created>
  <dc:creator>Jennifer Budzinski</dc:creator>
  <dc:description/>
  <dc:language>en-US</dc:language>
  <cp:lastModifiedBy>Erich Friedman</cp:lastModifiedBy>
  <dcterms:modified xsi:type="dcterms:W3CDTF">2020-09-01T12:26:16Z</dcterms:modified>
  <cp:revision>417</cp:revision>
  <dc:subject/>
  <dc:title>Slide 1</dc:title>
</cp:coreProperties>
</file>