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6B52-8BF2-498F-95AC-796048774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2913-09FF-4F79-9A32-644E11EB2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F85B-63B2-43DB-A5F3-A68ACC86C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E1F7-36ED-4585-B162-0DFB1F485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780B-9F57-4E84-BD16-9EA9B5E03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7C7A-9EED-4E74-A0FF-DF7A44A2D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6E7D-20C7-44FD-97E6-61F1C5A7E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B6C92-D28E-4FC3-B9CC-7DB0335CC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3AD1-83A9-48F8-90CE-31EFF57DA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0063-B4C0-48D0-A8A4-4E17A81E3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7971-D9EE-40FF-9E15-3C8F06547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5F9A-97BF-4123-8901-712CE424C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D1F7-9648-4800-9D7F-EE41D40BD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F880-C511-4E5B-8337-E6F9C49F1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6FC9-3DD7-422B-B39D-880B77C38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CB60-FDBB-4B61-843C-3DCF00C6C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5CB1-B949-471C-8A00-4F1DB30F8F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B99F-5E62-477A-9DAF-E1E3C4F47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DEF3-ED00-40BD-A6E9-8F0F1645D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CE09-3C8A-4D23-A0AC-C5F8A5DC2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9A21-1640-4076-B9A5-8A6E7C8A7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2693-7739-4FC2-B7F2-803A5131F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771C-F946-4B12-A95C-95D66C9B5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84160" y="761760"/>
            <a:ext cx="737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KING OF FRANCE BEFORE THE FRENCH REV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19320" y="762120"/>
            <a:ext cx="6705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HUMANS FIRST SET FOOT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01880" y="762120"/>
            <a:ext cx="71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CITY TO HAVE A POPULATION OF 1 MILLION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23720" y="762120"/>
            <a:ext cx="8296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"SUMMER OF LOVE" IN 1967, IN WHAT U.S. CITY DID HIPPIES CONVERG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 /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15880" y="762120"/>
            <a:ext cx="811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 CONSTITUTION, WHAT FRACTION DID SLAVES COUNT TOWARDS A STATE'S OFFICIAL POP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GAR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90560" y="762120"/>
            <a:ext cx="7562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WAS SHOT BY CHARLES J. GUITEAU ON JULY 2, 18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HERINE  OF  A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8680" y="762120"/>
            <a:ext cx="7226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IFE OF KING HENRY VI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UTNI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VIET SATELLITE WAS THE FIRST TO BE LAUNCHED INTO SPACE IN 195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8560" y="762120"/>
            <a:ext cx="7886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13 COLONIES IN 1776 HAD BY FAR THE LARGEST POP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28800" y="762120"/>
            <a:ext cx="7286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CITY TO HAVE A POPULATION OF 1 MILLION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P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90560" y="762120"/>
            <a:ext cx="756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CATHOLIC P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  XV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33480" y="762120"/>
            <a:ext cx="7277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KING OF FRANCE BEFORE THE FRENCH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57480" y="762120"/>
            <a:ext cx="6629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YEAR DID HUMANS FIRST SET FOOT ON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71600" y="761760"/>
            <a:ext cx="8199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"SUMMER OF LOVE" IN 1967, IN WHAT U.S. CITY DID HIPPIES CONVERG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57280" y="762120"/>
            <a:ext cx="80294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U.S. CONSTITUTION, WHAT FRACTION DID SLAVES COUNT TOWARDS A STATE'S OFFICIAL POPUL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 WAS SHOT BY CHARLES J. GUITEAU ON JULY 2, 188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IFE OF KING HENRY VI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VIET SATELLITE WAS THE FIRST TO BE LAUNCHED INTO SPACE IN 195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13 COLONIES IN 1776 HAD BY FAR THE LARGEST POPUL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CATHOLIC P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0-09-01T12:26:16Z</dcterms:modified>
  <cp:revision>417</cp:revision>
  <dc:subject/>
  <dc:title>Slide 1</dc:title>
</cp:coreProperties>
</file>