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32D4-7D06-4E74-90C0-14568135C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C0F7-D7FD-48BA-90DF-A6DB09A10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B1DF-E5D7-4227-9048-1BD038F4C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6541-0C57-4580-B1E1-F1FB9E5DC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C878-232A-4DE0-9FE8-DD94BEE0A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B1CF-F417-490F-BE62-C2E4EB5ED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5FDB-EA6B-4E10-ADE9-4794FB1B3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113A-F9FC-41E5-B344-6B4ABF772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55D7-91ED-4D5E-BD8F-3C31AEE69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57DA-200A-47B4-BF45-AE77029FD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9590-195F-4AFD-A417-918457EE6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4E78-C627-4694-97AA-2A685CE25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AAD3-9E43-4AC2-802D-52E088357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306A-BB49-42A8-BC4F-673998971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3CFD-AAC8-40F8-9C3F-B4785242A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C1B6-E110-4E46-B6FC-292F70CBA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C082-3279-48F3-B942-B5F02658C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91C4-BE04-49B7-8B32-E1E86FA85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A15D-7DB1-4CF6-BE8A-F10E08255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0706-9091-4B4D-92B5-C7EEBC7F2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2988-A24D-49AD-8824-704240FA5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34CF-2D2C-4E74-90DE-97EA4723C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684A-16B0-4E59-8104-D50B42FA1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CH CAME FIR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409760" y="7617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NIKE OR ADID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TCHUP OR MUST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G MCMUFFIN (1972 &lt; 198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858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CHICKEN MCNUGGET, OR THE EGG MCMUFF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DY  BAR  (1853 &gt; 184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POTATO CHIPS OR THE CANDY B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NLEY CUP (1903 &gt; 189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333440" y="76212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WORLD SERIES, OR STANLEY C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BMARINE  (1776 &lt; 178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SUBMARINE, OR TRICYC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828800" y="4343400"/>
            <a:ext cx="5486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E  INCOME  TAX  (IN  HA, WI,  AND  M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 IN THE U.S.?  STATE INCOME TAX, OR FEDERAL INCOME TA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228600" y="48769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WING  GUM  (1914 &gt; 189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WRIGLEY FIELD IN CHICAGO, OR WRIGLEY'S CHEWING G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ZZA  HUT  (1958 &lt; 196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IZZA HUT OR DOMINO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CHICKEN MCNUGGET, OR THE EGG MCMUFF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XFORD (1096 &lt; 120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NIVERSITY WAS ESTABLISHED FIRST?  OXFORD OR CAMBRI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IDAS (1964 &gt; 194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IKE OR ADID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STARD (1812 &gt; 13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CENTUR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68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TCHUP OR MUST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POTATO CHIPS OR THE CANDY B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314360" y="762120"/>
            <a:ext cx="6515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WORLD SERIES, OR STANLEY C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, THE AIRPLANE, SUBMARINE, OR TRICYC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 IN THE U.S.?  STATE INCOME TAX, OR FEDERAL INCOME TA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WRIGLEY FIELD IN CHICAGO, OR WRIGLEY'S CHEWING G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  PIZZA HUT OR DOMINO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NIVERSITY WAS ESTABLISHED FIRST?  OXFORD OR CAMBRID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3T22:00:16Z</dcterms:created>
  <dc:creator>Jennifer Budzinski</dc:creator>
  <dc:description/>
  <dc:language>en-US</dc:language>
  <cp:lastModifiedBy>Erich Friedman</cp:lastModifiedBy>
  <dcterms:modified xsi:type="dcterms:W3CDTF">2020-09-04T12:36:25Z</dcterms:modified>
  <cp:revision>298</cp:revision>
  <dc:subject/>
  <dc:title>Slide 1</dc:title>
</cp:coreProperties>
</file>