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F168-7BB0-44F1-9EEF-41BE9D874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67D6-7DAA-4D20-8529-10CC36CBA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CDD03-6CD1-4270-A07B-A7216B780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C74F-CBC4-4B64-B1E2-6725595DA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5B57-5C7A-4707-97CC-74080F060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EE41-B5BC-4B37-BFD9-A5001E2A4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9B77-EC92-4FA0-8717-4DD9D1121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184B-0C37-4874-9AB0-1642F9670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C5AD-1994-4F30-B055-9AF876581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5A90-14BD-4D06-8198-1E712106B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20F1-2FAA-4285-ADF7-C6D8A0AA2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C25B-EA18-42AC-B2BE-31D670196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5778-E7B3-4E6E-8603-9C65736B0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21BB-E527-4F28-9DA2-B2E7246F9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120C-8067-492A-94A2-2361AC704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735B-82A3-4AA4-9F54-8DC7F395A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701C-9024-4F8F-AD46-0C14CBD07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75DD-FCF5-4A36-8B0F-7C15B266D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5EC8-4B58-43DD-936E-28A6E0BB2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0221-3A07-4CFE-990F-4E7B0572A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5295-DED7-4156-9588-1D5CBA5FA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E3F1-C499-4F58-B4B0-1717B23DA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8FE4-7906-4230-82AC-9E568C36E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NIKE OR ADID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TCHUP OR MUST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 MCMUFFIN (1972 &lt; 198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HICKEN MCNUGGET, OR THE EGG MCMUFF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Y  BAR  (1853 &gt; 184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POTATO CHIPS OR THE CANDY B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LEY CUP (1903 &gt; 189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ORLD SERIES, OR STANLEY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MARINE  (1776 &lt; 178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SUBMARINE, OR TRI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828800" y="4343400"/>
            <a:ext cx="5486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INCOME  TAX  (IN  HA, WI,  AND  M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 IN THE U.S.?  STATE INCOME TAX, OR FEDERAL INCOME TA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WING  GUM  (1914 &gt; 189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WRIGLEY FIELD IN CHICAGO, OR WRIGLEY'S CHEWING G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ZZA  HUT  (1958 &lt; 19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ZZA HUT OR DOMINO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HICKEN MCNUGGET, OR THE EGG MCMUFF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FORD (1096 &lt; 120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NIVERSITY WAS ESTABLISHED FIRST?  OXFORD OR CAMB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IDAS (1964 &gt; 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KE OR ADI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ARD (1812 &gt; 1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ENTU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68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TCHUP OR MUST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POTATO CHIPS OR THE CANDY B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14360" y="762120"/>
            <a:ext cx="651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ORLD SERIES, OR STANLEY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, THE AIRPLANE, SUBMARINE, OR TRICY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 IN THE U.S.?  STATE INCOME TAX, OR FEDERAL INCOME TA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WRIGLEY FIELD IN CHICAGO, OR WRIGLEY'S CHEWING G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  PIZZA HUT OR DOMINO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NIVERSITY WAS ESTABLISHED FIRST?  OXFORD OR CAMB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22:00:16Z</dcterms:created>
  <dc:creator>Jennifer Budzinski</dc:creator>
  <dc:description/>
  <dc:language>en-US</dc:language>
  <cp:lastModifiedBy>Erich Friedman</cp:lastModifiedBy>
  <dcterms:modified xsi:type="dcterms:W3CDTF">2020-09-04T12:36:25Z</dcterms:modified>
  <cp:revision>298</cp:revision>
  <dc:subject/>
  <dc:title>Slide 1</dc:title>
</cp:coreProperties>
</file>