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C00-77AC-414E-8E71-2BE455AA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49FB-8E11-457A-9137-12DD2298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72F-3BB8-4A87-B72B-149D4CBB2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393-A05A-411A-B65B-18C5F709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0EDC-417B-43A2-8BE1-BD09FB83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9EB8-288A-4C98-BC98-2756B3FE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99DF-D778-4C39-802B-2D00BABB8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658-6B76-440B-924F-00AD4CC9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1B21-230B-4C58-AE54-ECA2CA67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317-0359-4509-9D46-ED07B1E3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345-1A44-44C0-AB0C-295D7424D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A87-A9A7-4866-9D3B-6FBD3F5E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7A4-B00F-4415-B088-A1477762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A6A5-6B02-486B-A294-A4D6D4C9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BDE-5AD0-4574-9988-63A3CF94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59FF-2C4C-4D49-B7A1-BE040B9B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216-DD12-41A9-ABC3-B9CC4FA9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9B2C-3637-4A0C-B846-0CF27F70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6107-0320-4FF6-B4B6-ABFEEEB6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D02-6314-431C-833A-C6A86575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6170-A300-4177-8EA3-FAF284A5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1FF8-B1E4-4B40-9B14-53BA2E60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6345-E03B-4F38-866F-ABB537DD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NIKE OR AD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TCHUP OR MUST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 MCMUFFIN (1972 &lt; 198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HICKEN MCNUGGET, OR THE EGG MCMUFF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BAR  (1853 &gt; 184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POTATO CHIPS OR THE CANDY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CUP (1903 &gt; 189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ORLD SERIES, OR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MARINE  (1776 &lt; 17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SUBMARINE, OR TRI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3434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INCOME  TAX  (IN  HA, WI,  AND  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 IN THE U.S.?  STATE INCOME TAX, OR FEDERAL INCOME T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WING  GUM  (1914 &gt; 189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WRIGLEY FIELD IN CHICAGO, OR WRIGLEY'S CHEWING G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ZZA  HUT  (1958 &lt;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ZZA HUT OR DOMIN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HICKEN MCNUGGET, OR THE EGG MCMUFF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FORD (1096 &lt; 120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NIVERSITY WAS ESTABLISHED FIRST?  OXFORD OR CAM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DAS (1964 &gt; 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KE OR A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 (1812 &gt; 1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ENTU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68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TCHUP OR MUST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POTATO CHIPS OR THE CANDY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14360" y="762120"/>
            <a:ext cx="651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ORLD SERIES, OR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, THE AIRPLANE, SUBMARINE, OR TRI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 IN THE U.S.?  STATE INCOME TAX, OR FEDERAL INCOME TA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WRIGLEY FIELD IN CHICAGO, OR WRIGLEY'S CHEWING G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  PIZZA HUT OR DOMIN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NIVERSITY WAS ESTABLISHED FIRST?  OXFORD OR CAM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22:00:16Z</dcterms:created>
  <dc:creator>Jennifer Budzinski</dc:creator>
  <dc:description/>
  <dc:language>en-US</dc:language>
  <cp:lastModifiedBy>Erich Friedman</cp:lastModifiedBy>
  <dcterms:modified xsi:type="dcterms:W3CDTF">2020-09-04T12:36:25Z</dcterms:modified>
  <cp:revision>298</cp:revision>
  <dc:subject/>
  <dc:title>Slide 1</dc:title>
</cp:coreProperties>
</file>