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82A0-94B3-4814-A3F3-357CF36A0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7870-4906-451E-BC03-D943A9A5B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266D-4062-4734-A92C-90B6301F0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93F4-0F12-4B94-BEF7-D2E1228B7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18AD-E97E-4D24-99C9-D8BB9460A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40D2-C38D-403F-8B40-63DF46149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7BCA-20D1-4463-8F9F-1679F3CC8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FB8A-B11E-4079-A1C3-446EBA4ED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1262-F385-428A-B80D-EE5383858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C0D9-6637-448D-8DBE-BA5A1D807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3890-8417-457C-9DA7-6CFCF39A5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2835-F602-4738-8E15-AC09709AE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F5B0-89DF-46EA-8D2A-BE20DAF92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7D60-05B5-4AE3-810F-8D4E11E66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EB37-C306-4E30-80CC-E3C219DE3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B7DB-76E5-429E-981B-87BCCF026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F8B8-928B-4C69-8EDF-CA4F1C05E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10E9-41A7-4120-9083-6CDFC80CF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6F1A-2324-4769-836E-2C0496966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21EB-824D-44E3-9BCA-F9E0AEAB6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EA0A-E67E-4CBD-A14C-203A3410C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548A-B5F5-4C4C-9135-428F3F077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9D5B-D4D9-438B-91B2-3A5D37B79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THE GUINNESS BOOK OF WORLD RECORDS, OR GUINNESS BE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BALL POINT PEN, OR THE PENCIL WITH ATTACHED ERAS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TTE  (1860's &lt; 1930'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LATTE OR CAPPUCCI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V'S  (1920's &lt; 1940'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95280" y="762120"/>
            <a:ext cx="6553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V'S OR MICROWA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P  (1939 &lt; 198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828800" y="76212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HP OR D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STREET BOYS  (1995 &gt; 199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NSYNC OR THE BACKSTREET B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CAT'S  (1928 &lt; 1948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MCAT'S OR THE LSAT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IE  (1968 &gt; 195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HOTWHEELS OR BARB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ADA  (1913 &lt; 192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09760" y="76212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PRADA OR GUC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LATTE OR CAPPUCCIN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U.N.  (1945 &lt; 19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U.N. OR NA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R  (1955 &gt; 176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UINNESS BOOK OF WORLD RECORDS, OR GUINNESS BE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CIL / ERASER  (1888 &gt; 185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BALL POINT PEN, OR THE PENCIL WITH ATTACHED ERAS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V'S OR MICROWA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866960" y="76212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HP OR D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NSYNC OR THE BACKSTREET BO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MCAT'S OR THE LSAT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HOTWHEELS OR BARB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PRADA OR GUCC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U.N. OR NA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8T01:54:20Z</dcterms:created>
  <dc:creator>Jennifer Budzinski</dc:creator>
  <dc:description/>
  <dc:language>en-US</dc:language>
  <cp:lastModifiedBy>Erich Friedman</cp:lastModifiedBy>
  <dcterms:modified xsi:type="dcterms:W3CDTF">2020-09-04T12:53:33Z</dcterms:modified>
  <cp:revision>298</cp:revision>
  <dc:subject/>
  <dc:title>Slide 1</dc:title>
</cp:coreProperties>
</file>