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C051-3C1D-40A9-8D66-033DCF610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1431-802E-4A16-8743-E77DD8757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378F-41BE-4F2E-80F0-3E021D3C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8468-9B8D-446D-8705-E3390FBB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F39-6475-4BDE-A4E3-2B39ED9B6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618-AE5A-46D6-B95C-F925E8928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0C47-83F2-43DC-A214-6C232EE7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E7C9-5911-460C-9D4D-6AB317B0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0978-EDB4-4B98-8999-EB5FCB3E1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0EEA-4E1C-48DF-8740-F956DB803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DDF4-C328-4060-9F39-5690B6786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F430-2815-42B3-BA64-B7D8B70BB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E3A8-72F6-4D97-90AB-769C89E1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ABC2-0B81-4E18-8C4B-9613CE48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6F4C-88B9-4B75-A2E2-1EB49B69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DA3-EEFF-4542-812D-6954EBFD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77DF-AFE8-426A-AD5F-9F5EC215D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1EA3-1D72-4450-A785-D52B8DF0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228F-4609-49EA-8DC6-90490C952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984C-AC6B-4364-A2F4-2F4439D1B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57F8-8668-4D26-A393-1A7658C28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D12C-96C3-49C4-888A-A2131826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CE0C-0260-4535-A1A3-CB3786B5B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THE GUINNESS BOOK OF WORLD RECORDS, OR GUINNESS B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BALL POINT PEN, OR THE PENCIL WITH ATTACHED ERA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TTE  (1860's &lt; 1930'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ATTE OR CAPPUCC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V'S  (1920's &lt; 1940'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V'S OR MICROWA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P  (1939 &lt; 198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828800" y="7621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P OR D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STREET BOYS  (1995 &gt; 199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NSYNC OR THE BACKSTREET B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AT'S  (1928 &lt; 1948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CAT'S OR THE LSAT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IE  (1968 &gt; 195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OTWHEELS OR BARB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ADA  (1913 &lt; 192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PRADA OR GUC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ATTE OR CAPPUCCI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U.N.  (1945 &lt; 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U.N. OR N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R  (1955 &gt; 176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UINNESS BOOK OF WORLD RECORDS, OR GUINNESS B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CIL / ERASER  (1888 &gt; 185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BALL POINT PEN, OR THE PENCIL WITH ATTACHED ERA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V'S OR MICROWA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866960" y="76212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P OR D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NSYNC OR THE BACKSTREET B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CAT'S OR THE LSAT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OTWHEELS OR BARB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PRADA OR GUCC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U.N. OR N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01:54:20Z</dcterms:created>
  <dc:creator>Jennifer Budzinski</dc:creator>
  <dc:description/>
  <dc:language>en-US</dc:language>
  <cp:lastModifiedBy>Erich Friedman</cp:lastModifiedBy>
  <dcterms:modified xsi:type="dcterms:W3CDTF">2020-09-04T12:53:33Z</dcterms:modified>
  <cp:revision>298</cp:revision>
  <dc:subject/>
  <dc:title>Slide 1</dc:title>
</cp:coreProperties>
</file>