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82C-3CF0-4869-B5D4-453384373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F5E1-1D59-450D-B8ED-4D924BFD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9D89-D0B4-415E-8307-C79AB8B93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FF7C-F485-474A-B264-F7DB66F1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02DE-2C14-4199-8637-5DE2AFC9E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80B9-6101-490F-BB3A-C685BCD1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75A4-BA16-4ECB-9427-2865E0D9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53F5-6A98-4031-A875-0E490A38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F89E-E474-419A-B921-36173EFBD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5936-400C-47C3-874D-9B4D8E2F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58EF-BDC5-4ED7-A942-245D85F52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66D6-5096-4D83-BEE3-29EC4B5F8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247F-8590-44C0-AC64-3A7EE8EAB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F20C-3296-49CE-850D-96DA671FC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836D-1FD5-419F-AB02-2D938CCC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BA1-B594-48C8-814C-24CDF4D6D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1B67-5708-4AC8-A62A-FE5739EAC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EF9F-9CE2-4BD7-9369-0D4B21235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846-B548-47D9-AC4A-97C727C5D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C7FB-8E6D-4C0D-88D4-53621222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F3E8-77CF-4154-BA12-6C4D88FB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64B7-774A-4598-8339-2FFA96329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2672-B1B0-41F3-8304-D83EEA4E0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THE GUINNESS BOOK OF WORLD RECORDS, OR GUINNESS B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BALL POINT PEN, OR THE PENCIL WITH ATTACHED E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TE  (1860's &lt; 1930'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04840" y="762120"/>
            <a:ext cx="6934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ATTE OR CAPPUCC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V'S  (1920's &lt; 1940'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V'S OR MICROW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P  (1939 &lt; 198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828800" y="76212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P OR D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STREET BOYS  (1995 &gt; 199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NSYNC OR THE BACKSTREET 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AT'S  (1928 &lt; 1948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CAT'S OR THE LSAT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IE  (1968 &gt; 195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OTWHEELS OR BARB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ADA  (1913 &lt; 192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PRADA OR GUCC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ATTE OR CAPPUCCI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U.N.  (1945 &lt; 194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U.N. OR NA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R  (1955 &gt; 176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UINNESS BOOK OF WORLD RECORDS, OR GUINNESS B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IL / ERASER  (1888 &gt; 185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BALL POINT PEN, OR THE PENCIL WITH ATTACHED ERA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V'S OR MICROW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866960" y="76212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P OR D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NSYNC OR THE BACKSTREET 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MCAT'S OR THE LSAT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HOTWHEELS OR BARB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PRADA OR GUCC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THE U.N. OR NA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8T01:54:20Z</dcterms:created>
  <dc:creator>Jennifer Budzinski</dc:creator>
  <dc:description/>
  <dc:language>en-US</dc:language>
  <cp:lastModifiedBy>Erich Friedman</cp:lastModifiedBy>
  <dcterms:modified xsi:type="dcterms:W3CDTF">2020-09-04T12:53:33Z</dcterms:modified>
  <cp:revision>298</cp:revision>
  <dc:subject/>
  <dc:title>Slide 1</dc:title>
</cp:coreProperties>
</file>