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1B5-5E3A-4D98-B547-CF62D144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85F-F4DE-4790-8B16-0BA88B10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C3EF-EB71-49AB-BDB6-3F3E2EC3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33F-B399-4496-B2CB-72C96D67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1C68-B76F-4A09-A2A5-DF6F82990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B332-7E99-4A4D-87A6-5B885DAB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DAF8-FD19-4054-B52F-B09EDA9E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9B6-CC9C-4FEE-BC7F-391076D0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ABF-9DEE-4562-A1A1-78E84706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CBB-75D4-4C08-889E-1D13F230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BBC-C160-4B81-99A7-05042C56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16D-A151-4D5B-AD81-E129DBFC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7F6-AA55-424C-9249-2F7B9CE0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0C3-276E-4EE5-B5AF-A9A15726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D0E-B704-46E7-A576-3EA229DF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1B7-1303-4F62-A4A9-62040A58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F71A-C7B4-40F0-B164-A011A8DE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115F-F793-4BBC-933F-6D136506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EEE-BFE8-478C-9EE9-079D0523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AA57-BFEA-4060-83D7-2F3A3BAC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8F5-6858-41F5-B234-B45A2082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C954-4A01-482E-8478-C319619F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783-B09D-4E74-9641-98A912CD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YOUNGER U. S. PRESI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R.jpg"/>
          <p:cNvPicPr/>
          <p:nvPr/>
        </p:nvPicPr>
        <p:blipFill>
          <a:blip r:embed="rId1"/>
          <a:stretch/>
        </p:blipFill>
        <p:spPr>
          <a:xfrm>
            <a:off x="2413080" y="1371600"/>
            <a:ext cx="431784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ISENHOWER.jpg"/>
          <p:cNvPicPr/>
          <p:nvPr/>
        </p:nvPicPr>
        <p:blipFill>
          <a:blip r:embed="rId1"/>
          <a:stretch/>
        </p:blipFill>
        <p:spPr>
          <a:xfrm>
            <a:off x="3273480" y="137160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7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5917152c4e6685838109e1e1b1c0d98.jpg"/>
          <p:cNvPicPr/>
          <p:nvPr/>
        </p:nvPicPr>
        <p:blipFill>
          <a:blip r:embed="rId1"/>
          <a:stretch/>
        </p:blipFill>
        <p:spPr>
          <a:xfrm>
            <a:off x="3335400" y="1371600"/>
            <a:ext cx="247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3380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dff96cddfb5a728859c73dbf56171f2.jpg"/>
          <p:cNvPicPr/>
          <p:nvPr/>
        </p:nvPicPr>
        <p:blipFill>
          <a:blip r:embed="rId1"/>
          <a:stretch/>
        </p:blipFill>
        <p:spPr>
          <a:xfrm>
            <a:off x="3166920" y="1371600"/>
            <a:ext cx="2810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IXON.jpg"/>
          <p:cNvPicPr/>
          <p:nvPr/>
        </p:nvPicPr>
        <p:blipFill>
          <a:blip r:embed="rId1"/>
          <a:stretch/>
        </p:blipFill>
        <p:spPr>
          <a:xfrm>
            <a:off x="2552760" y="1371600"/>
            <a:ext cx="403848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W.jpg"/>
          <p:cNvPicPr/>
          <p:nvPr/>
        </p:nvPicPr>
        <p:blipFill>
          <a:blip r:embed="rId1"/>
          <a:stretch/>
        </p:blipFill>
        <p:spPr>
          <a:xfrm>
            <a:off x="3429000" y="1295280"/>
            <a:ext cx="2286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428920" y="1295280"/>
            <a:ext cx="428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408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ENN.jpg"/>
          <p:cNvPicPr/>
          <p:nvPr/>
        </p:nvPicPr>
        <p:blipFill>
          <a:blip r:embed="rId1"/>
          <a:stretch/>
        </p:blipFill>
        <p:spPr>
          <a:xfrm>
            <a:off x="3238560" y="1371600"/>
            <a:ext cx="266688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R.jpg"/>
          <p:cNvPicPr/>
          <p:nvPr/>
        </p:nvPicPr>
        <p:blipFill>
          <a:blip r:embed="rId1"/>
          <a:stretch/>
        </p:blipFill>
        <p:spPr>
          <a:xfrm>
            <a:off x="2476440" y="1349280"/>
            <a:ext cx="419112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ISENHOWER.jpg"/>
          <p:cNvPicPr/>
          <p:nvPr/>
        </p:nvPicPr>
        <p:blipFill>
          <a:blip r:embed="rId1"/>
          <a:stretch/>
        </p:blipFill>
        <p:spPr>
          <a:xfrm>
            <a:off x="3273480" y="133992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5917152c4e6685838109e1e1b1c0d98.jpg"/>
          <p:cNvPicPr/>
          <p:nvPr/>
        </p:nvPicPr>
        <p:blipFill>
          <a:blip r:embed="rId1"/>
          <a:stretch/>
        </p:blipFill>
        <p:spPr>
          <a:xfrm>
            <a:off x="3225960" y="1370160"/>
            <a:ext cx="2690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dff96cddfb5a728859c73dbf56171f2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IXON.jpg"/>
          <p:cNvPicPr/>
          <p:nvPr/>
        </p:nvPicPr>
        <p:blipFill>
          <a:blip r:embed="rId1"/>
          <a:stretch/>
        </p:blipFill>
        <p:spPr>
          <a:xfrm>
            <a:off x="2322360" y="1371600"/>
            <a:ext cx="449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W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340000" y="1295280"/>
            <a:ext cx="4464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ENN.jpg"/>
          <p:cNvPicPr/>
          <p:nvPr/>
        </p:nvPicPr>
        <p:blipFill>
          <a:blip r:embed="rId1"/>
          <a:stretch/>
        </p:blipFill>
        <p:spPr>
          <a:xfrm>
            <a:off x="3173400" y="137160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3:54:07Z</dcterms:created>
  <dc:creator>Jennifer Budzinski</dc:creator>
  <dc:description/>
  <dc:language>en-US</dc:language>
  <cp:lastModifiedBy>Erich Friedman</cp:lastModifiedBy>
  <dcterms:modified xsi:type="dcterms:W3CDTF">2020-09-04T13:39:28Z</dcterms:modified>
  <cp:revision>287</cp:revision>
  <dc:subject/>
  <dc:title>Slide 1</dc:title>
</cp:coreProperties>
</file>