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05FC-8C3A-4A09-8D83-7F2400E73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5E9C-ECEC-4C4A-A0B2-7F6A131E3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A1E1-65E4-4899-8B8B-2EB95E39E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DC97-F16B-4537-9B2A-B282F8187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8E60-61C8-4D71-9E76-6923082DD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E411-14A6-4C33-B260-D1C4006BA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8D14-1A28-4A63-B937-943A45F76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5466-A032-476E-A7E2-FFEAEC219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D8CE-AC2B-46A8-BD46-DD299E585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5FBB-C9E4-4C41-9790-A554BA038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8ECC-ED31-40A6-A369-3EF506380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290E-669A-4B2B-9574-9DA5777FE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A950-37F1-4230-BB7F-7F7FE8394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21BC-FE34-4E0C-A2D6-9A7D32DDD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D1FF-38E1-4636-81D8-2C000B320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F49E-56F5-4EE3-9929-83605AC89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4DE2-3B86-4517-A698-E738C46D3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3BB1-DA13-488F-9334-91B8F84CF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2520-10C7-4BD9-9BB1-52ABA3528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0047-B00E-4E85-8EC0-85063C001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28BB-8D4A-4660-9887-3867D8E71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0C8A-111E-4473-8345-D17F18A66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9BC1-3418-46BE-BF2A-BE8232E43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3344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YOUNGER U. S. PRESID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RR.jpg"/>
          <p:cNvPicPr/>
          <p:nvPr/>
        </p:nvPicPr>
        <p:blipFill>
          <a:blip r:embed="rId1"/>
          <a:stretch/>
        </p:blipFill>
        <p:spPr>
          <a:xfrm>
            <a:off x="2413080" y="1371600"/>
            <a:ext cx="431784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EISENHOWER.jpg"/>
          <p:cNvPicPr/>
          <p:nvPr/>
        </p:nvPicPr>
        <p:blipFill>
          <a:blip r:embed="rId1"/>
          <a:stretch/>
        </p:blipFill>
        <p:spPr>
          <a:xfrm>
            <a:off x="3273480" y="1371600"/>
            <a:ext cx="25970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032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7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RAHAM  LINCOL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31a0409661e57311515c4a09266b3006.jpg"/>
          <p:cNvPicPr/>
          <p:nvPr/>
        </p:nvPicPr>
        <p:blipFill>
          <a:blip r:embed="rId1"/>
          <a:stretch/>
        </p:blipFill>
        <p:spPr>
          <a:xfrm>
            <a:off x="2954160" y="1295280"/>
            <a:ext cx="323568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ACK  O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a5917152c4e6685838109e1e1b1c0d98.jpg"/>
          <p:cNvPicPr/>
          <p:nvPr/>
        </p:nvPicPr>
        <p:blipFill>
          <a:blip r:embed="rId1"/>
          <a:stretch/>
        </p:blipFill>
        <p:spPr>
          <a:xfrm>
            <a:off x="3335400" y="1371600"/>
            <a:ext cx="24732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3380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8dff96cddfb5a728859c73dbf56171f2.jpg"/>
          <p:cNvPicPr/>
          <p:nvPr/>
        </p:nvPicPr>
        <p:blipFill>
          <a:blip r:embed="rId1"/>
          <a:stretch/>
        </p:blipFill>
        <p:spPr>
          <a:xfrm>
            <a:off x="3166920" y="1371600"/>
            <a:ext cx="28101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LIN  D.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ef00b91e7ab499814c9d824b7f4e481b.jpg"/>
          <p:cNvPicPr/>
          <p:nvPr/>
        </p:nvPicPr>
        <p:blipFill>
          <a:blip r:embed="rId1"/>
          <a:stretch/>
        </p:blipFill>
        <p:spPr>
          <a:xfrm>
            <a:off x="3111480" y="1371600"/>
            <a:ext cx="29196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NIX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NIXON.jpg"/>
          <p:cNvPicPr/>
          <p:nvPr/>
        </p:nvPicPr>
        <p:blipFill>
          <a:blip r:embed="rId1"/>
          <a:stretch/>
        </p:blipFill>
        <p:spPr>
          <a:xfrm>
            <a:off x="2552760" y="1371600"/>
            <a:ext cx="4038480" cy="34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.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W.jpg"/>
          <p:cNvPicPr/>
          <p:nvPr/>
        </p:nvPicPr>
        <p:blipFill>
          <a:blip r:embed="rId1"/>
          <a:stretch/>
        </p:blipFill>
        <p:spPr>
          <a:xfrm>
            <a:off x="3429000" y="1295280"/>
            <a:ext cx="22860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738f04265d996c5b7ef235a1c2cbcd6c.jpg"/>
          <p:cNvPicPr/>
          <p:nvPr/>
        </p:nvPicPr>
        <p:blipFill>
          <a:blip r:embed="rId1"/>
          <a:stretch/>
        </p:blipFill>
        <p:spPr>
          <a:xfrm>
            <a:off x="2428920" y="1295280"/>
            <a:ext cx="42861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4088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31a0409661e57311515c4a09266b3006.jpg"/>
          <p:cNvPicPr/>
          <p:nvPr/>
        </p:nvPicPr>
        <p:blipFill>
          <a:blip r:embed="rId1"/>
          <a:stretch/>
        </p:blipFill>
        <p:spPr>
          <a:xfrm>
            <a:off x="2771640" y="1295280"/>
            <a:ext cx="3600720" cy="394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936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KENNE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KENN.jpg"/>
          <p:cNvPicPr/>
          <p:nvPr/>
        </p:nvPicPr>
        <p:blipFill>
          <a:blip r:embed="rId1"/>
          <a:stretch/>
        </p:blipFill>
        <p:spPr>
          <a:xfrm>
            <a:off x="3238560" y="1371600"/>
            <a:ext cx="2666880" cy="356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ALD  REA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RR.jpg"/>
          <p:cNvPicPr/>
          <p:nvPr/>
        </p:nvPicPr>
        <p:blipFill>
          <a:blip r:embed="rId1"/>
          <a:stretch/>
        </p:blipFill>
        <p:spPr>
          <a:xfrm>
            <a:off x="2476440" y="1349280"/>
            <a:ext cx="4191120" cy="34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WIGHT  EISENH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EISENHOWER.jpg"/>
          <p:cNvPicPr/>
          <p:nvPr/>
        </p:nvPicPr>
        <p:blipFill>
          <a:blip r:embed="rId1"/>
          <a:stretch/>
        </p:blipFill>
        <p:spPr>
          <a:xfrm>
            <a:off x="3273480" y="1339920"/>
            <a:ext cx="25970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a5917152c4e6685838109e1e1b1c0d98.jpg"/>
          <p:cNvPicPr/>
          <p:nvPr/>
        </p:nvPicPr>
        <p:blipFill>
          <a:blip r:embed="rId1"/>
          <a:stretch/>
        </p:blipFill>
        <p:spPr>
          <a:xfrm>
            <a:off x="3225960" y="1370160"/>
            <a:ext cx="26906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8dff96cddfb5a728859c73dbf56171f2.jpg"/>
          <p:cNvPicPr/>
          <p:nvPr/>
        </p:nvPicPr>
        <p:blipFill>
          <a:blip r:embed="rId1"/>
          <a:stretch/>
        </p:blipFill>
        <p:spPr>
          <a:xfrm>
            <a:off x="3086280" y="1371600"/>
            <a:ext cx="2971800" cy="37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ef00b91e7ab499814c9d824b7f4e481b.jpg"/>
          <p:cNvPicPr/>
          <p:nvPr/>
        </p:nvPicPr>
        <p:blipFill>
          <a:blip r:embed="rId1"/>
          <a:stretch/>
        </p:blipFill>
        <p:spPr>
          <a:xfrm>
            <a:off x="3111480" y="1371600"/>
            <a:ext cx="29196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NIXON.jpg"/>
          <p:cNvPicPr/>
          <p:nvPr/>
        </p:nvPicPr>
        <p:blipFill>
          <a:blip r:embed="rId1"/>
          <a:stretch/>
        </p:blipFill>
        <p:spPr>
          <a:xfrm>
            <a:off x="2322360" y="1371600"/>
            <a:ext cx="44992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W.jpg"/>
          <p:cNvPicPr/>
          <p:nvPr/>
        </p:nvPicPr>
        <p:blipFill>
          <a:blip r:embed="rId1"/>
          <a:stretch/>
        </p:blipFill>
        <p:spPr>
          <a:xfrm>
            <a:off x="3352680" y="1371600"/>
            <a:ext cx="2438640" cy="37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738f04265d996c5b7ef235a1c2cbcd6c.jpg"/>
          <p:cNvPicPr/>
          <p:nvPr/>
        </p:nvPicPr>
        <p:blipFill>
          <a:blip r:embed="rId1"/>
          <a:stretch/>
        </p:blipFill>
        <p:spPr>
          <a:xfrm>
            <a:off x="2340000" y="1295280"/>
            <a:ext cx="446400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KENN.jpg"/>
          <p:cNvPicPr/>
          <p:nvPr/>
        </p:nvPicPr>
        <p:blipFill>
          <a:blip r:embed="rId1"/>
          <a:stretch/>
        </p:blipFill>
        <p:spPr>
          <a:xfrm>
            <a:off x="3173400" y="1371600"/>
            <a:ext cx="27972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03:54:07Z</dcterms:created>
  <dc:creator>Jennifer Budzinski</dc:creator>
  <dc:description/>
  <dc:language>en-US</dc:language>
  <cp:lastModifiedBy>Erich Friedman</cp:lastModifiedBy>
  <dcterms:modified xsi:type="dcterms:W3CDTF">2020-09-04T13:39:28Z</dcterms:modified>
  <cp:revision>287</cp:revision>
  <dc:subject/>
  <dc:title>Slide 1</dc:title>
</cp:coreProperties>
</file>