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2F0B8-4750-4183-B8CE-1CB035FA98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0863E-7616-43B1-BB41-5718325F5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E0BC9-6137-4A46-9B2B-F085F23816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8B29A-095B-40D0-A705-4F64609B7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5DD1A-91BB-4C1A-B7A2-15F8F1BA8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13D75-478B-4982-A50B-430F6AE13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B3C6A-ACDD-4810-BE37-D02D80FC39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62315-16C2-4131-9CBD-F656AC670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E7DA9-3342-489D-905E-8CC6BF7900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70303-5021-4D37-BFAD-293CB4B482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53FA2-4AE7-40A2-B988-8BDB9DE6B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7A4DF-F3A1-4031-A255-E49F773586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98B57-FAD7-4A38-BA3C-DF6A58DDE7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51C9E-79D5-4DAA-BCF9-B7372CDDA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EF465-63B0-4898-AF2A-5E85AE611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947EE-E2F1-4F54-8E9D-60EB3975C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0D3E6-C663-4A1B-8915-48C828D17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1D77D-A321-4050-9D58-DD87DBADE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35F34-952D-473D-B4EF-5688DBA405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CBCB2-2A88-4E03-B8FA-54DE410B3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CAE15-6124-4213-AC45-125E3EC17C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5BD40-B6FF-47B9-8763-FA4F541DA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FE150-E11E-4676-9675-AE3D4286A2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33344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YOUNGER U. S. PRESID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RR.jpg"/>
          <p:cNvPicPr/>
          <p:nvPr/>
        </p:nvPicPr>
        <p:blipFill>
          <a:blip r:embed="rId1"/>
          <a:stretch/>
        </p:blipFill>
        <p:spPr>
          <a:xfrm>
            <a:off x="2413080" y="1371600"/>
            <a:ext cx="4317840" cy="355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EISENHOWER.jpg"/>
          <p:cNvPicPr/>
          <p:nvPr/>
        </p:nvPicPr>
        <p:blipFill>
          <a:blip r:embed="rId1"/>
          <a:stretch/>
        </p:blipFill>
        <p:spPr>
          <a:xfrm>
            <a:off x="3273480" y="1371600"/>
            <a:ext cx="259704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76032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49579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BRAHAM  LINCOL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31a0409661e57311515c4a09266b3006.jpg"/>
          <p:cNvPicPr/>
          <p:nvPr/>
        </p:nvPicPr>
        <p:blipFill>
          <a:blip r:embed="rId1"/>
          <a:stretch/>
        </p:blipFill>
        <p:spPr>
          <a:xfrm>
            <a:off x="2954160" y="1295280"/>
            <a:ext cx="3235680" cy="354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4952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RACK  OBA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a5917152c4e6685838109e1e1b1c0d98.jpg"/>
          <p:cNvPicPr/>
          <p:nvPr/>
        </p:nvPicPr>
        <p:blipFill>
          <a:blip r:embed="rId1"/>
          <a:stretch/>
        </p:blipFill>
        <p:spPr>
          <a:xfrm>
            <a:off x="3335400" y="1371600"/>
            <a:ext cx="24732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4933800"/>
            <a:ext cx="8534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IMMY  CAR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8dff96cddfb5a728859c73dbf56171f2.jpg"/>
          <p:cNvPicPr/>
          <p:nvPr/>
        </p:nvPicPr>
        <p:blipFill>
          <a:blip r:embed="rId1"/>
          <a:stretch/>
        </p:blipFill>
        <p:spPr>
          <a:xfrm>
            <a:off x="3166920" y="1371600"/>
            <a:ext cx="281016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KLIN  D.  ROOSEVE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ef00b91e7ab499814c9d824b7f4e481b.jpg"/>
          <p:cNvPicPr/>
          <p:nvPr/>
        </p:nvPicPr>
        <p:blipFill>
          <a:blip r:embed="rId1"/>
          <a:stretch/>
        </p:blipFill>
        <p:spPr>
          <a:xfrm>
            <a:off x="3111480" y="1371600"/>
            <a:ext cx="291960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CHARD  NIX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NIXON.jpg"/>
          <p:cNvPicPr/>
          <p:nvPr/>
        </p:nvPicPr>
        <p:blipFill>
          <a:blip r:embed="rId1"/>
          <a:stretch/>
        </p:blipFill>
        <p:spPr>
          <a:xfrm>
            <a:off x="2552760" y="1371600"/>
            <a:ext cx="4038480" cy="342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W.  BU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W.jpg"/>
          <p:cNvPicPr/>
          <p:nvPr/>
        </p:nvPicPr>
        <p:blipFill>
          <a:blip r:embed="rId1"/>
          <a:stretch/>
        </p:blipFill>
        <p:spPr>
          <a:xfrm>
            <a:off x="3429000" y="1295280"/>
            <a:ext cx="228600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  CLIN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738f04265d996c5b7ef235a1c2cbcd6c.jpg"/>
          <p:cNvPicPr/>
          <p:nvPr/>
        </p:nvPicPr>
        <p:blipFill>
          <a:blip r:embed="rId1"/>
          <a:stretch/>
        </p:blipFill>
        <p:spPr>
          <a:xfrm>
            <a:off x="2428920" y="1295280"/>
            <a:ext cx="428616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4088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3" descr="31a0409661e57311515c4a09266b3006.jpg"/>
          <p:cNvPicPr/>
          <p:nvPr/>
        </p:nvPicPr>
        <p:blipFill>
          <a:blip r:embed="rId1"/>
          <a:stretch/>
        </p:blipFill>
        <p:spPr>
          <a:xfrm>
            <a:off x="2771640" y="1295280"/>
            <a:ext cx="3600720" cy="394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43080" y="495936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KENNE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KENN.jpg"/>
          <p:cNvPicPr/>
          <p:nvPr/>
        </p:nvPicPr>
        <p:blipFill>
          <a:blip r:embed="rId1"/>
          <a:stretch/>
        </p:blipFill>
        <p:spPr>
          <a:xfrm>
            <a:off x="3238560" y="1371600"/>
            <a:ext cx="2666880" cy="356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NALD  REAG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RR.jpg"/>
          <p:cNvPicPr/>
          <p:nvPr/>
        </p:nvPicPr>
        <p:blipFill>
          <a:blip r:embed="rId1"/>
          <a:stretch/>
        </p:blipFill>
        <p:spPr>
          <a:xfrm>
            <a:off x="2476440" y="1349280"/>
            <a:ext cx="4191120" cy="345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WIGHT  EISENHO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EISENHOWER.jpg"/>
          <p:cNvPicPr/>
          <p:nvPr/>
        </p:nvPicPr>
        <p:blipFill>
          <a:blip r:embed="rId1"/>
          <a:stretch/>
        </p:blipFill>
        <p:spPr>
          <a:xfrm>
            <a:off x="3273480" y="1339920"/>
            <a:ext cx="259704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a5917152c4e6685838109e1e1b1c0d98.jpg"/>
          <p:cNvPicPr/>
          <p:nvPr/>
        </p:nvPicPr>
        <p:blipFill>
          <a:blip r:embed="rId1"/>
          <a:stretch/>
        </p:blipFill>
        <p:spPr>
          <a:xfrm>
            <a:off x="3225960" y="1370160"/>
            <a:ext cx="269064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8dff96cddfb5a728859c73dbf56171f2.jpg"/>
          <p:cNvPicPr/>
          <p:nvPr/>
        </p:nvPicPr>
        <p:blipFill>
          <a:blip r:embed="rId1"/>
          <a:stretch/>
        </p:blipFill>
        <p:spPr>
          <a:xfrm>
            <a:off x="3086280" y="1371600"/>
            <a:ext cx="2971800" cy="37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ef00b91e7ab499814c9d824b7f4e481b.jpg"/>
          <p:cNvPicPr/>
          <p:nvPr/>
        </p:nvPicPr>
        <p:blipFill>
          <a:blip r:embed="rId1"/>
          <a:stretch/>
        </p:blipFill>
        <p:spPr>
          <a:xfrm>
            <a:off x="3111480" y="1371600"/>
            <a:ext cx="291960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NIXON.jpg"/>
          <p:cNvPicPr/>
          <p:nvPr/>
        </p:nvPicPr>
        <p:blipFill>
          <a:blip r:embed="rId1"/>
          <a:stretch/>
        </p:blipFill>
        <p:spPr>
          <a:xfrm>
            <a:off x="2322360" y="1371600"/>
            <a:ext cx="449928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W.jpg"/>
          <p:cNvPicPr/>
          <p:nvPr/>
        </p:nvPicPr>
        <p:blipFill>
          <a:blip r:embed="rId1"/>
          <a:stretch/>
        </p:blipFill>
        <p:spPr>
          <a:xfrm>
            <a:off x="3352680" y="1371600"/>
            <a:ext cx="2438640" cy="373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3" descr="738f04265d996c5b7ef235a1c2cbcd6c.jpg"/>
          <p:cNvPicPr/>
          <p:nvPr/>
        </p:nvPicPr>
        <p:blipFill>
          <a:blip r:embed="rId1"/>
          <a:stretch/>
        </p:blipFill>
        <p:spPr>
          <a:xfrm>
            <a:off x="2340000" y="1295280"/>
            <a:ext cx="4464000" cy="38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KENN.jpg"/>
          <p:cNvPicPr/>
          <p:nvPr/>
        </p:nvPicPr>
        <p:blipFill>
          <a:blip r:embed="rId1"/>
          <a:stretch/>
        </p:blipFill>
        <p:spPr>
          <a:xfrm>
            <a:off x="3173400" y="1371600"/>
            <a:ext cx="2797200" cy="373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3T03:54:07Z</dcterms:created>
  <dc:creator>Jennifer Budzinski</dc:creator>
  <dc:description/>
  <dc:language>en-US</dc:language>
  <cp:lastModifiedBy>Erich Friedman</cp:lastModifiedBy>
  <dcterms:modified xsi:type="dcterms:W3CDTF">2020-09-04T13:39:28Z</dcterms:modified>
  <cp:revision>287</cp:revision>
  <dc:subject/>
  <dc:title>Slide 1</dc:title>
</cp:coreProperties>
</file>