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E2B-DB07-49C2-8154-F76831BF5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856-3E08-49EF-BFAC-CF96CAFEC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0F17-4CF7-4BA1-BEC4-1D113DC8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212A-4D20-43D9-9244-CA81E85A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5F54-A5ED-4D1F-8979-8E6119FF7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ABA-CD0D-4197-A79A-6419EADB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4CBC-070A-4EF7-8ECD-8CBBE005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49A2-AD09-42D5-93DB-443EAB70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F298-8A7A-49B3-9C77-52B66279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F35E-3E5A-4A68-B786-C08AA6F1C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E7BE-F8F2-4823-85A9-77C38D3A0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C699-A6AD-4EF1-A2C3-604FEF4B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EDE5-8303-45B0-BCF7-F6803ED56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BF32-0FD2-4D95-9A1E-B632989A6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674C-CDE1-466C-9B7C-81B2072D7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A3FF-C6DA-4FEE-89B4-2015C4684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EAB5-2E05-4266-81FC-0054F25B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6BE-3EC6-4085-9138-3687A1FF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060D-D7EE-48E8-BD1D-1D01AE417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4A58-3CC4-46B8-B5DB-E8FB275B3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113C-99B2-4824-AE31-A1F288B47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1BA8-9F43-4DA6-AC64-6208C2300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8BC9-1281-471E-A32D-BC8A7986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19280" y="761760"/>
            <a:ext cx="590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14560" y="762120"/>
            <a:ext cx="691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GOSAU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6800" y="762120"/>
            <a:ext cx="7067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T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OLYMPIC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71480" y="762120"/>
            <a:ext cx="760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D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19120" y="762120"/>
            <a:ext cx="630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8000" y="762120"/>
            <a:ext cx="712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YRANNOSAURUS REX OR THE STEGOSAUR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71480" y="762120"/>
            <a:ext cx="760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C  CO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28640" y="762120"/>
            <a:ext cx="5886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DC COMICS OR MARVEL C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57400" y="762120"/>
            <a:ext cx="6829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HITE HOUSE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LEOPATRA OR KING T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28720" y="762120"/>
            <a:ext cx="74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IRST OLYMPIC GAMES OR THE ROMAN COLOS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S COMPLETED FIRST?  THE PYRAMIDS OF GIZA OR THE GREAT WALL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FRENCH REVOLUTION OR 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ICYCLES OR TRICY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52600" y="761760"/>
            <a:ext cx="62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G.I. JOE FIGURINES OR BARBIE D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COMPUTER MOUSE OR THE CORDLESS TELEPH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01Z</dcterms:modified>
  <cp:revision>356</cp:revision>
  <dc:subject/>
  <dc:title>Slide 1</dc:title>
</cp:coreProperties>
</file>