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281A-F0AF-4B1F-8492-0F90A2780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19EA-47DF-4258-AED1-60F9F4DEA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5CA4-CE9C-4B16-9D41-D3274CE04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DCD7-79B1-4CAF-804F-CDB5BB2D2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BF69-2060-40AE-8E16-9C3F11118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60FE-530F-479E-A24E-1C206E89C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ACF1-6AD3-4555-A1F5-3D425AFDB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F1BB-DEF7-472E-9864-4785FD2F4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313B-1FD8-4CB5-B48A-E27CD6AB0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1B95-6B25-4FE0-9C8A-634050D04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03B1-0495-438D-A645-755B5DBFE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FA2D-6E27-46A3-B5B9-D0F79DF90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0A61-556B-459A-81D5-A7B2CE803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D8D7-C607-4C97-A309-F0AF6F009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7BCB-6881-4761-9A93-44B65D020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471C-86EB-451E-BC6A-087B34360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B2AC-B6B6-4951-A4D8-E04A7B3FC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EAF3-B87F-42A5-8A11-707115279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A7EF-38CD-403D-8834-BB89E4B6C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00C-23C7-4347-932F-9C94EF9F6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9EC9-B733-4B7D-9E83-69D8759CF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1ECB-2299-4C76-B5E6-061F4E14E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4E38-AF7E-47B1-AE09-7385689B8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19280" y="761760"/>
            <a:ext cx="5905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DC COMICS OR MARVEL COM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14560" y="762120"/>
            <a:ext cx="6914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HITE HOUSE OR THE STATUE OF LIB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GOSAU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36800" y="762120"/>
            <a:ext cx="7067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TYRANNOSAURUS REX OR THE STEGOSAUR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T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42840" y="762120"/>
            <a:ext cx="7258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CLEOPATRA OR KING T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OLYMPIC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FIRST OLYMPIC GAMES OR THE ROMAN COLOS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RAMIDS  OF  GI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S COMPLETED FIRST?  THE PYRAMIDS OF GIZA OR THE GREAT WALL OF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FRENCH REVOLUTION OR  THE AMERICAN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71480" y="762120"/>
            <a:ext cx="760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BICYCLES OR TRICY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IE  DO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19120" y="762120"/>
            <a:ext cx="630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G.I. JOE FIGURINES OR BARBIE D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08000" y="762120"/>
            <a:ext cx="712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TYRANNOSAURUS REX OR THE STEGOSAUR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UTER  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71480" y="762120"/>
            <a:ext cx="7601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COMPUTER MOUSE OR THE CORDLESS TELE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C  C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28640" y="762120"/>
            <a:ext cx="5886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DC COMICS OR MARVEL COM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57400" y="762120"/>
            <a:ext cx="6829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HITE HOUSE OR THE STATUE OF LIB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CLEOPATRA OR KING T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28720" y="762120"/>
            <a:ext cx="74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FIRST OLYMPIC GAMES OR THE ROMAN COLOS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S COMPLETED FIRST?  THE PYRAMIDS OF GIZA OR THE GREAT WALL OF CH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FRENCH REVOLUTION OR  THE AMERICAN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1560" y="761760"/>
            <a:ext cx="7400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BICYCLES OR TRICYC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52600" y="761760"/>
            <a:ext cx="623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G.I. JOE FIGURINES OR BARBIE DO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COMPUTER MOUSE OR THE CORDLESS TELEPH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9-05T12:14:01Z</dcterms:modified>
  <cp:revision>356</cp:revision>
  <dc:subject/>
  <dc:title>Slide 1</dc:title>
</cp:coreProperties>
</file>