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D37D-5C7E-408C-A0B7-8998C2E21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3E23-8C61-47BF-BA63-A65174480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9775-BD6A-47DF-8B9C-E0B80486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E57B-7D5E-47BD-9F42-DB5332A91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1A40-B598-4ADF-810D-F50E0EAE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EC4A-0A99-4A01-B3E7-9E730EA72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FF9D-2443-4370-94C8-50F4FA741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5052-4E0E-4E76-BC39-A5EE2A84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E73-6E3B-49DF-8DC0-FA817F58D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A085-2389-4A43-87DE-9B05A862B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9EAF-C122-462B-955B-649DC2B80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7360-D69A-460F-8A49-9980A1EC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C5C8-E0ED-4846-BCA5-C2E1E6C3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9123-E7B4-4B29-8B93-DF7434DF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59B9-70A0-4BBD-8405-CFDF4985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3D8A-0739-479F-AB6D-4C6B17A7B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2F15-722B-44A1-B17A-8ABD8FF57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02DC-F04B-4F2A-974B-C91E49FF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D2B4-90B6-4A12-A714-550BBD8B7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98E5-7C87-4118-93F5-92C4E025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DAC7-1853-413B-90BE-3CCCB4F4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C55D-86EF-4DAA-ACB2-DF9C7C699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1BEB-DA13-4EE5-9103-52A0DCEA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19280" y="761760"/>
            <a:ext cx="590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DC COMICS OR MARVEL CO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14560" y="762120"/>
            <a:ext cx="691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HITE HOUSE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GOS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36800" y="762120"/>
            <a:ext cx="7067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YRANNOSAURUS REX OR THE STEGOSAU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T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42840" y="762120"/>
            <a:ext cx="725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LEOPATRA OR KING T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OLYMPIC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IRST OLYMPIC GAMES OR THE ROMAN COLOS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S  OF  GI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S COMPLETED FIRST?  THE PYRAMIDS OF GIZA OR THE GREAT WALL OF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RENCH REVOLUTION OR  THE AMERICAN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71480" y="762120"/>
            <a:ext cx="760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ICYCLES OR TRICY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IE  D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19120" y="762120"/>
            <a:ext cx="630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G.I. JOE FIGURINES OR BARBIE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08000" y="762120"/>
            <a:ext cx="712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YRANNOSAURUS REX OR THE STEGOSAUR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UTER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71480" y="762120"/>
            <a:ext cx="760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OMPUTER MOUSE OR THE CORDLESS TELE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C  C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28640" y="762120"/>
            <a:ext cx="5886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DC COMICS OR MARVEL CO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57400" y="762120"/>
            <a:ext cx="6829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HITE HOUSE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LEOPATRA OR KING T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28720" y="762120"/>
            <a:ext cx="74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IRST OLYMPIC GAMES OR THE ROMAN COLOS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S COMPLETED FIRST?  THE PYRAMIDS OF GIZA OR THE GREAT WALL OF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RENCH REVOLUTION OR  THE AMERICAN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40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ICYCLES OR TRICYC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52600" y="761760"/>
            <a:ext cx="623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G.I. JOE FIGURINES OR BARBIE DO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OMPUTER MOUSE OR THE CORDLESS TELEPH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9-05T12:14:01Z</dcterms:modified>
  <cp:revision>356</cp:revision>
  <dc:subject/>
  <dc:title>Slide 1</dc:title>
</cp:coreProperties>
</file>