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12F01-4C6D-4506-88DF-A1AD26B7A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9873-5C3F-4694-9B8A-4F177E2ED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5513-F393-4FE0-BC60-645B09483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B852-BFF0-4969-9A72-CE32AE5F8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6A8C-5AA4-4672-9D3B-701C80308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1DBB-23A0-464D-9473-EF883F0AA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D997-6BE2-40B4-A144-788E4F3DC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FD92-076B-445D-9C89-CBB9B21D5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1F86-1EE3-42D6-AC11-CACF5DA6C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BBD6-FFCB-4C6D-B415-4C556192E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D049-B44C-423B-9E48-87630CECF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CA35-4B98-4FE5-9913-7E1282A59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976C-948E-46A3-BC7C-87A901505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F81D-C850-4B13-B22C-7FCDA1F7D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83C2-CA08-48F8-8325-6CAD4D6C6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98DF-7228-4206-B721-353196CB1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6426-53ED-4894-B9E7-AE5CCCD53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47C5-B112-4C97-9166-89CC38D67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6A45-B527-4E83-A2AB-54FBFDCF7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E9D3-65D3-4BE1-AAEA-3A773E480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52E4-182D-47C3-9534-666337A58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165B-165D-4300-A184-DD78F9AE6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C1A8-6F61-43E4-8488-998845886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TELEPHONE OR THE ELEV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38400" y="762120"/>
            <a:ext cx="6667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MOTORCYCLE OR THE SAFETY RAZ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H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04880" y="762120"/>
            <a:ext cx="7734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STONEHENGE OR THE GREAT SPHINX OF GIZ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CUUM  CLEA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23920" y="762120"/>
            <a:ext cx="689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ASHING MACHINE OR THE VACUUM CLEA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  UNDER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LONDON UNDERGROUND OR THE EIFFEL T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REAN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52520" y="762120"/>
            <a:ext cx="6438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KOREAN WAR OR THE VIETNAM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BOWLING OR CRIC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ME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09800" y="762120"/>
            <a:ext cx="7124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ANGO OR FLAMEN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THE 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CHARLEMAGNE OR ALEXANDER THE GRE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STONEHENGE OR THE GREAT SPHINX OF GIZ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57160" y="762120"/>
            <a:ext cx="742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SOCRATES OR PLA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V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52520" y="762120"/>
            <a:ext cx="6438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TELEPHONE OR THE ELEV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ORCY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24080" y="762120"/>
            <a:ext cx="6495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MOTORCYCLE OR THE SAFETY RAZ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WASHING MACHINE OR THE VACUUM CLEA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71640" y="76212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LONDON UNDERGROUND OR THE EIFFEL T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KOREAN WAR OR THE VIETNAM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BOWLING OR CRICK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81000" y="761760"/>
            <a:ext cx="7182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ANGO OR FLAMEN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CHARLEMAGNE OR ALEXANDER THE GRE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SOCRATES OR PLA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9-05T12:14:19Z</dcterms:modified>
  <cp:revision>354</cp:revision>
  <dc:subject/>
  <dc:title>Slide 1</dc:title>
</cp:coreProperties>
</file>