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D5524-D701-4829-B426-4FEBB93E4D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15D36-316C-472D-91D7-6B07C01472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2AD66-836E-4617-9F3D-28CBCC05CF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4B288-8024-4225-9962-A8DBD3BE89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438DC-33FB-41F1-9FDF-5734E7D59B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A2DC4-20F9-4327-BE85-2350705364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B724D-10C5-43CC-9CD3-2668EAE640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5DE1E-5B3F-4CFB-BDD4-FFB5DB73E4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9C9A0-AB10-4844-A84A-AFFAB629AC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3E7F1-6D4F-429A-823C-6D9B078FB3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70C57-E61A-46B2-9E81-B40F2976AF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5FD69-23A0-4600-85BE-53F211CD61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B908E-501E-4C23-A1F6-358E576F4C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BBD1A-89BF-4665-9DD1-612886729B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9C3F6-96E9-4D18-BC5D-2B52C37E9D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5F49A-AF5F-4530-8F83-BFABE98038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ACE91-7543-475C-A9AA-475B9321AF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5DCA6-9C5E-42EE-8F34-7733EAA52A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482DE-CADA-4E72-8ECA-B4B54728DE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421FB-562A-4925-9D8D-6FC506A8F6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52FA1-6718-4EB8-8494-B7753D78D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6D86F-C0A4-4E9D-B5B2-862FF21B9A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A96C3-0448-4226-91B3-4AD33B68D3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ICH CAME FIRS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333440" y="761760"/>
            <a:ext cx="64771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THE TELEPHONE OR THE ELEVAT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1238400" y="762120"/>
            <a:ext cx="6667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THE MOTORCYCLE OR THE SAFETY RAZ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952880"/>
            <a:ext cx="7010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ONEHE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704880" y="762120"/>
            <a:ext cx="77342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STONEHENGE OR THE GREAT SPHINX OF GIZ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ACUUM  CLEA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123920" y="762120"/>
            <a:ext cx="68961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THE WASHING MACHINE OR THE VACUUM CLEAN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NDON  UNDERGR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02888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THE LONDON UNDERGROUND OR THE EIFFEL TOW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OREAN  W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352520" y="762120"/>
            <a:ext cx="6438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THE KOREAN WAR OR THE VIETNAM W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W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BOWLING OR CRICK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AMEN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009800" y="762120"/>
            <a:ext cx="7124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TANGO OR FLAMENC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952880"/>
            <a:ext cx="68580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EXANDER  THE  GRE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28560" y="762120"/>
            <a:ext cx="78868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CHARLEMAGNE OR ALEXANDER THE GRE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19280" y="762120"/>
            <a:ext cx="77054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STONEHENGE OR THE GREAT SPHINX OF GIZ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CR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57160" y="762120"/>
            <a:ext cx="74296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SOCRATES OR PLAT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EVA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352520" y="762120"/>
            <a:ext cx="64389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THE TELEPHONE OR THE ELEVAT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TORCY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324080" y="762120"/>
            <a:ext cx="64958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THE MOTORCYCLE OR THE SAFETY RAZ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33480" y="761760"/>
            <a:ext cx="7277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THE WASHING MACHINE OR THE VACUUM CLEAN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71640" y="762120"/>
            <a:ext cx="7200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THE LONDON UNDERGROUND OR THE EIFFEL TOW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333440" y="762120"/>
            <a:ext cx="6477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THE KOREAN WAR OR THE VIETNAM W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BOWLING OR CRICKE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981000" y="761760"/>
            <a:ext cx="7182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TANGO OR FLAMENC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90600" y="761760"/>
            <a:ext cx="8362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CHARLEMAGNE OR ALEXANDER THE GRE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SOCRATES OR PLAT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2T15:54:55Z</dcterms:created>
  <dc:creator>Jennifer Budzinski</dc:creator>
  <dc:description/>
  <dc:language>en-US</dc:language>
  <cp:lastModifiedBy>Erich Friedman</cp:lastModifiedBy>
  <dcterms:modified xsi:type="dcterms:W3CDTF">2020-09-05T12:14:19Z</dcterms:modified>
  <cp:revision>354</cp:revision>
  <dc:subject/>
  <dc:title>Slide 1</dc:title>
</cp:coreProperties>
</file>