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7292-F3A6-49D1-8B04-50C2FCDE6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9748-B6EF-4DB4-B4E4-6E022B279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C56A-33F0-44E9-AD98-EA325C69E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9DA9-F394-42F3-BD2E-F48B33D75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3C17-B60F-47BC-A6F5-5D2F98CDF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0150-5A92-4FEC-86A9-A93221282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2161-61D1-4641-A9EB-B5BF66298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FCAF-DCA6-4FE3-84DD-70085C3C4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E66D-4C68-4AC7-B4FC-27602606F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C797-30AC-41C1-A88C-CF9CB2208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5AAA-99B9-4B19-AC68-3A691DF1F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EB39-D63D-4DEB-8138-2A8C079BB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FEF6-8DF6-44EC-B7A4-B23EE2EF0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AB4D-3CB3-4B80-8700-F9E01B08C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B7B7-F5C3-484F-A1ED-230827242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D8FD-AF8C-4F09-B00E-D2CC3B6E1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139B-94EF-4CC4-90D2-2D99BCEE1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B5D5-E323-4003-A6A4-A17A059C2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7C40-6179-4BCF-9F46-B92AFBECD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035F-525E-48B8-99DF-7641A90F0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9B95-01C9-42C9-96F8-9183C76B1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F014-E2C6-444B-9AB0-817ECB1B0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217F-4C5D-4B4F-9082-C9624FFF3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TELEPHONE OR THE ELEV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38400" y="762120"/>
            <a:ext cx="666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MOTORCYCLE OR THE SAFETY RAZ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H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04880" y="762120"/>
            <a:ext cx="7734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STONEHENGE OR THE GREAT SPHINX OF GI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CUUM  CLEA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23920" y="762120"/>
            <a:ext cx="6896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ASHING MACHINE OR THE VACUUM CLEA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DON  UNDER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LONDON UNDERGROUND OR THE EIFFEL T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REAN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52520" y="762120"/>
            <a:ext cx="6438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KOREAN WAR OR THE VIETNAM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BOWLING OR CRIC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ME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09800" y="762120"/>
            <a:ext cx="7124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ANGO OR FLAMEN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THE 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CHARLEMAGNE OR ALEXANDER THE GR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STONEHENGE OR THE GREAT SPHINX OF GIZ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SOCRATES OR PLA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V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52520" y="762120"/>
            <a:ext cx="6438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TELEPHONE OR THE ELEV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OR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24080" y="762120"/>
            <a:ext cx="6495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MOTORCYCLE OR THE SAFETY RAZ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ASHING MACHINE OR THE VACUUM CLEA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71640" y="76212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LONDON UNDERGROUND OR THE EIFFEL T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KOREAN WAR OR THE VIETNAM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BOWLING OR CRICK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81000" y="761760"/>
            <a:ext cx="718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ANGO OR FLAMEN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CHARLEMAGNE OR ALEXANDER THE GRE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SOCRATES OR PLA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9-05T12:14:19Z</dcterms:modified>
  <cp:revision>354</cp:revision>
  <dc:subject/>
  <dc:title>Slide 1</dc:title>
</cp:coreProperties>
</file>