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24C6-DD39-4297-9ED6-B61139148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3DC3-2444-43A8-87B8-BAFE8D81A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3107-ACA5-4401-BACD-2D8FDD63F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F4DC-F247-411C-86BD-7D7511A61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449A-A1E6-417B-8652-FB3D3D44E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70CE-6622-4D8E-8A09-F208C1DC4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4749-476E-4003-851C-2FD2A59CB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4521-64BB-4601-8068-D05B9F42F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DFC9-86A9-4B9E-9E33-607A8C462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D968-2BFB-4BCB-863D-7FC86E6E1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C800-2EAF-41EA-B391-EAB027AC7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A322-F325-4B46-A51C-52504C681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062C-822D-4A8D-9C11-61995979E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6554-9A56-4D4B-AF71-F0A401178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B3DD-74BD-4CE2-8656-667F7B529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7F82-E48C-4CB8-8871-F4DD51B0D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1313-8FB1-4327-A0A1-0759797D8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1989-E310-47CA-BCEC-C9AE711A1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C116-FC25-4175-9259-89F675E94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E7D2-F0F0-4D29-8CEB-85FC8DEA8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5521-2F3C-4FD9-B111-4AAFA7CBB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586E-71B0-4CFF-9DC5-AE9D9C3AE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810B-DA41-4D51-B376-AD39469F1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LD WAR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85640" y="761760"/>
            <a:ext cx="817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WWII, HOW MANY ZONES OF OCCUPATION WAS GERMANY DIVIDED IN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61800" y="762120"/>
            <a:ext cx="842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ICH BEACH DID THE AMERICANS RUN INTO A FIRESTORM OF RESISTANCE DURING THE D-DAY LAND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87692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  &amp;  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76280" y="762120"/>
            <a:ext cx="8191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COUNTRIES THAT FOUGHT EACH OTHER DURING WWII WERE ALREADY FIGHTING WHEN THE WAR OFFICIALLY STAR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CH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47800" y="762120"/>
            <a:ext cx="7448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THE FIRST NAZI CONCENTRATION CAM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36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TLE  OF  STALING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14240" y="76212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ATTLE DID THE AXIS POWERS LOSE ABOUT 1/4 OF THEIR TOTAL TROOPS ON THE EASTERN FRO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OLA  G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B-29 BOMBER THAT DROPPED THE FIRST ATOMIC BOMB ON HIROSHI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VIET  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85760" y="762120"/>
            <a:ext cx="6972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LOST THE MOST LIVES IN WW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HATTAN 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61960" y="762120"/>
            <a:ext cx="802008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SEARCH AND DEVELOPMENT PROJECT PRODUCED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UCLEAR WEAPONS DURING WW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ERATION  OVER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85840" y="762120"/>
            <a:ext cx="8572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ODE NAME FOR THE BATTLE OF NORMAN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COUNTRIES THAT FOUGHT EACH OTHER DURING WWII WERE ALREADY FIGHTING WHEN THE WAR OFFICIALLY STAR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512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  TU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66720" y="762120"/>
            <a:ext cx="7810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CODE BREAKER CREATED A MACHINE THAT HELPED TO DECRYPT NAZI MESS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23800" y="762120"/>
            <a:ext cx="8096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WWII, HOW MANY ZONES OF OCCUPATION WAS GERMANY DIVIDED IN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MAH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82680" y="762120"/>
            <a:ext cx="8378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ICH BEACH DID THE AMERICANS RUN INTO A FIRESTORM OF RESISTANCE DURING THE D-DAY LAND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THE FIRST NAZI CONCENTRATION CAM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09560" y="762120"/>
            <a:ext cx="7724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ATTLE DID THE AXIS POWERS LOSE ABOUT 1/4 OF THEIR TOTAL TROOPS ON THE EASTERN FRO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42880" y="762120"/>
            <a:ext cx="8058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B-29 BOMBER THAT DROPPED THE FIRST ATOMIC BOMB ON HIROSHI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85760" y="761760"/>
            <a:ext cx="6972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LOST THE MOST LIVES IN WW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81080" y="761760"/>
            <a:ext cx="8781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SEARCH AND DEVELOPMENT PROJECT PRODUCED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UCLEAR WEAPONS DURING WW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ODE NAME FOR THE BATTLE OF NORMAN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CODE BREAKER CREATED A MACHINE THAT HELPED TO DECRYPT NAZI MESSAG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0-12-16T13:47:05Z</dcterms:modified>
  <cp:revision>356</cp:revision>
  <dc:subject/>
  <dc:title>Slide 1</dc:title>
</cp:coreProperties>
</file>