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785E-BE3F-4B0B-9A5E-2CEFB9709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FFB4-105C-4F58-A067-A911B0561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1586-4B49-49B8-8127-121950E3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CBD6-75B3-47E1-9286-7566BCEA2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42A6-0AE8-428B-B0C7-49FDA746E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178F-05EB-4373-85F0-1FA958BC5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7DD2-EB67-4109-B19B-7A67DEB9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263C-4E9B-4659-8654-92D13BD8D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FDA1-EEEC-424E-8194-259EBB4D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A42D-6C21-41F0-B64A-44D4144D1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4DCE-11F8-4A4E-B055-9B03B6F90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BCB1-5B20-44AC-8B01-7640C5AD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3F60-0BCF-4E25-B0A8-DA6958D65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3DD3-44B6-49C0-8A41-3B4B52195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7219-E3A3-4B97-A400-963891A48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61C6-9B2D-4C5F-8112-8F915C124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C2C1-F7F4-4930-A13C-4389CADA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AEA9-E0F9-4D14-9377-AFC92E7D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D96C-3A16-47E4-BF5C-E23F5A3F5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D7AA-219A-4819-A138-7E99FE4D5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2D85-7DA5-4CA0-BABF-2F86E7F2A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2F1C-8479-471C-ADEF-555DE965D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B373-88B5-445C-B394-71B5B5799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WAR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HOW MANY ZONES OF OCCUPATION WAS GERMANY DIVIDED INT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BEACH DID THE AMERICANS RUN INTO A FIRESTORM OF RESISTANCE DURING THE D-DAY LAN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  &amp;  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76280" y="762120"/>
            <a:ext cx="81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THAT FOUGHT EACH OTHER DURING WWII WERE ALREADY FIGHTING WHEN THE WAR OFFICIALLY STAR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CH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47800" y="762120"/>
            <a:ext cx="74484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FIRST NAZI CONCENTRATION CA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TLE  OF  STALING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14240" y="762120"/>
            <a:ext cx="771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TTLE DID THE AXIS POWERS LOSE ABOUT 1/4 OF THEIR TOTAL TROOPS ON THE EASTER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OLA  G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-29 BOMBER THAT DROPPED THE FIRST ATOMIC BOMB ON HIROSHI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VIET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85760" y="762120"/>
            <a:ext cx="6972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LOST THE MOST LIVES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 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61960" y="762120"/>
            <a:ext cx="802008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 AND DEVELOPMENT PROJECT PRODUCE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UCLEAR WEAPONS DURING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ION  OVERL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762120"/>
            <a:ext cx="8572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 NAME FOR THE BATTLE OF NORMAN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COUNTRIES THAT FOUGHT EACH OTHER DURING WWII WERE ALREADY FIGHTING WHEN THE WAR OFFICIALLY STAR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5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T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DE BREAKER CREATED A MACHINE THAT HELPED TO DECRYPT NAZI MESSA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23800" y="762120"/>
            <a:ext cx="8096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HOW MANY ZONES OF OCCUPATION WAS GERMANY DIVIDED IN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82680" y="762120"/>
            <a:ext cx="8378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ICH BEACH DID THE AMERICANS RUN INTO A FIRESTORM OF RESISTANCE DURING THE D-DAY LAND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AS THE FIRST NAZI CONCENTRATION CA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09560" y="762120"/>
            <a:ext cx="77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ATTLE DID THE AXIS POWERS LOSE ABOUT 1/4 OF THEIR TOTAL TROOPS ON THE EASTERN FRO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-29 BOMBER THAT DROPPED THE FIRST ATOMIC BOMB ON HIROSHI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LOST THE MOST LIVES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1080" y="761760"/>
            <a:ext cx="8781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 AND DEVELOPMENT PROJECT PRODUCE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UCLEAR WEAPONS DURING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 NAME FOR THE BATTLE OF NORMAN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CODE BREAKER CREATED A MACHINE THAT HELPED TO DECRYPT NAZI MESSA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12-16T13:47:05Z</dcterms:modified>
  <cp:revision>356</cp:revision>
  <dc:subject/>
  <dc:title>Slide 1</dc:title>
</cp:coreProperties>
</file>