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3F03-1CE1-4821-8B2B-3D4200184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0358-25FD-408A-A6A4-68A890BC5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0AF8-2B80-45D0-914E-EBA88E2FA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C613-7DA5-4A8B-BB8E-EA81DA7BF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D303-EBBE-458F-B1EF-501C5A9A3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1BB8-07E4-433D-B7CD-BDD6DC4BC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D028-7FA7-476A-AF11-69C5F5F60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DE1B-E22D-42D2-B85E-D43D93FF5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0F50-9DA7-4408-897C-488B018C3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EBB1-11C8-49B2-80B8-93297ECBB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2A10-9F65-45E0-A30A-2AB4DFEF9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8A84-F75F-4A09-9275-C83252F58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04C1-2DC8-407B-A9A3-5764CCF41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521C-B589-4156-9D81-8ACFE0235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2549-A2E3-445A-8D70-3F5ACD988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DD65-5C82-4FF9-82FF-E5B62BE99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FF7F-7BC8-47FC-82FE-1E8E391EE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BD26-B9FA-4B07-A387-564237A4B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26A0-6B40-46A2-8B80-057CBEAA4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0FC6-82B9-4634-9F41-D498741E2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1895-8EC2-461C-AD76-FB15BD56B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668A-09A4-4575-BA41-88C046C2B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A399-3805-4A69-800A-4AACDDABE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LD WAR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85640" y="761760"/>
            <a:ext cx="8172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WWII, HOW MANY ZONES OF OCCUPATION WAS GERMANY DIVIDED IN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61800" y="762120"/>
            <a:ext cx="8420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ICH BEACH DID THE AMERICANS RUN INTO A FIRESTORM OF RESISTANCE DURING THE D-DAY LAND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876920"/>
            <a:ext cx="7010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A  &amp;  JA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76280" y="762120"/>
            <a:ext cx="8191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 COUNTRIES THAT FOUGHT EACH OTHER DURING WWII WERE ALREADY FIGHTING WHEN THE WAR OFFICIALLY STAR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CH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47800" y="762120"/>
            <a:ext cx="7448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AS THE FIRST NAZI CONCENTRATION CAM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36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TTLE  OF  STALINGR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14240" y="762120"/>
            <a:ext cx="771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ATTLE DID THE AXIS POWERS LOSE ABOUT 1/4 OF THEIR TOTAL TROOPS ON THE EASTERN FRO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OLA  G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B-29 BOMBER THAT DROPPED THE FIRST ATOMIC BOMB ON HIROSHI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VIET  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85760" y="762120"/>
            <a:ext cx="6972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LOST THE MOST LIVES IN WW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HATTAN 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61960" y="762120"/>
            <a:ext cx="8020080" cy="34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SEARCH AND DEVELOPMENT PROJECT PRODUCED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NUCLEAR WEAPONS DURING WW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PERATION  OVER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85840" y="762120"/>
            <a:ext cx="8572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CODE NAME FOR THE BATTLE OF NORMAN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 COUNTRIES THAT FOUGHT EACH OTHER DURING WWII WERE ALREADY FIGHTING WHEN THE WAR OFFICIALLY STAR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512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N  TU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66720" y="762120"/>
            <a:ext cx="7810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CODE BREAKER CREATED A MACHINE THAT HELPED TO DECRYPT NAZI MESSA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23800" y="762120"/>
            <a:ext cx="8096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WWII, HOW MANY ZONES OF OCCUPATION WAS GERMANY DIVIDED IN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MAH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382680" y="762120"/>
            <a:ext cx="8378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ICH BEACH DID THE AMERICANS RUN INTO A FIRESTORM OF RESISTANCE DURING THE D-DAY LAND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AS THE FIRST NAZI CONCENTRATION CAM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09560" y="762120"/>
            <a:ext cx="7724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ATTLE DID THE AXIS POWERS LOSE ABOUT 1/4 OF THEIR TOTAL TROOPS ON THE EASTERN FRO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42880" y="762120"/>
            <a:ext cx="8058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B-29 BOMBER THAT DROPPED THE FIRST ATOMIC BOMB ON HIROSHIM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85760" y="761760"/>
            <a:ext cx="6972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LOST THE MOST LIVES IN WWI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81080" y="761760"/>
            <a:ext cx="8781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SEARCH AND DEVELOPMENT PROJECT PRODUCED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NUCLEAR WEAPONS DURING WWI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CODE NAME FOR THE BATTLE OF NORMAN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90400" y="761760"/>
            <a:ext cx="7963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CODE BREAKER CREATED A MACHINE THAT HELPED TO DECRYPT NAZI MESSAG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13:15:19Z</dcterms:created>
  <dc:creator>Jennifer Budzinski</dc:creator>
  <dc:description/>
  <dc:language>en-US</dc:language>
  <cp:lastModifiedBy>Erich Friedman</cp:lastModifiedBy>
  <dcterms:modified xsi:type="dcterms:W3CDTF">2020-12-16T13:47:05Z</dcterms:modified>
  <cp:revision>356</cp:revision>
  <dc:subject/>
  <dc:title>Slide 1</dc:title>
</cp:coreProperties>
</file>