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B809-296A-49E1-BBD8-28ED5DDC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23EA-FC77-4D45-9235-AC1C00E78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45A8-2E4C-4987-9577-293E11D8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064B3-D591-4893-82DA-7BFFCDFF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8BC6-EE1D-4051-97C5-62181B6F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D6D9-73D0-47DE-9B96-F4C4FFF9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452E-F01A-4ADE-8227-020BC504A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14E6-9D43-49F2-A281-0419627DD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0CD9-9B84-4491-84B2-59FB3021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DDC6-684E-4000-8BFF-6DCE57E91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105B-45E1-472D-ADE3-E6EF4C695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0564-4095-40B1-8413-9C91DA488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5F26-3587-48E3-B21C-C9422076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5AD8-4A3D-431D-BF45-FFED21910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EB8D-AD8A-47BB-AA1E-E4668F191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39C7-45E5-413F-B4C8-B2126627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49282-B0F8-488A-BE38-CABC8A00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18EC-B829-4C16-BB5B-DBA77495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677E-5411-46B8-AAE4-16F5EA9DB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93D2-6031-4C8C-BB0A-49636719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2BF5-F917-40E8-8D1F-CA31D3CC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F7DC-A0B7-4091-BD55-B2AC5E11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4A60-841D-455E-8DC1-7D79E268C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00-15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9560" y="761760"/>
            <a:ext cx="826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THLESS FIRST TSAR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MEXICO AND DEFEATED THE AZTEC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9160" y="762120"/>
            <a:ext cx="570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EXPENSIVE PAINTING EVER SOLD AT AUCTION WAS PAINTED AROUND  1500 BY WHAT ARTI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204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4640" y="762120"/>
            <a:ext cx="72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SPANISH EXPLORER BECAME THE FIRST EUROPEAN TO REACH THE PACIFIC OCEAN FROM THE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COLÒ  MACHIAV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ITALIAN PHILOSOPHER WROTE "THE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"NINETY-FIVE THESES", QUESTIONING THE PRACTICE OF SELLING INDULGENCES, BEGAN THE PROTESTANT REFORMATION IN 15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EIMAN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3920" y="762120"/>
            <a:ext cx="8696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AGNIFICENT" SULTAN OF TURKEY CONQUERED HUNGARY AND MOST OF THE MIDDLE EAST AND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PIZA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1760" y="762120"/>
            <a:ext cx="83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PERU IN 1533, AND KILLED THE INCAN EMPEROR EVEN AFTER HE PAID A HUGE RANS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V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ENGLAND MARRIED 1 JANE, 2 ANNES AND 3 CATHE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320" y="762120"/>
            <a:ext cx="584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MOST EXPENSIVE PAINTING EVER SOLD AT AUCTION WAS PAINTED AROUND  1500 BY WHAT ARTI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732040" cy="40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OLAUS  COPERNI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SH MATHEMATICIAN FORMULATED A MODEL OF THE SOLAR SYSTEM PLACING THE SUN AT ITS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  THE  TERR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1600" y="762120"/>
            <a:ext cx="82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UTHLESS FIRST TSAR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NÁN  CORT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0360" y="762120"/>
            <a:ext cx="788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MEXICO AND DEFEATED THE AZTEC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88920" y="761760"/>
            <a:ext cx="7166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SPANISH EXPLORER BECAME THE FIRST EUROPEAN TO REACH THE PACIFIC OCEAN FROM THE E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513, WHAT ITALIAN PHILOSOPHER WROTE "THE PRI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7720" y="762120"/>
            <a:ext cx="8188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"NINETY-FIVE THESES", QUESTIONING THE PRACTICE OF SELLING INDULGENCES, BEGAN THE PROTESTANT REFORMATION IN 15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MAGNIFICENT" SULTAN OF TURKEY CONQUERED HUNGARY AND MOST OF THE MIDDLE EAST AND NOR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ARD CONQUERED PERU IN 1533, AND KILLED THE INCAN EMPEROR EVEN AFTER HE PAID A HUGE RANS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G OF ENGLAND MARRIED 1 JANE, 2 ANNES AND 3 CATHE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SH MATHEMATICIAN FORMULATED A MODEL OF THE SOLAR SYSTEM PLACING THE SUN AT ITS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3:50:19Z</dcterms:modified>
  <cp:revision>404</cp:revision>
  <dc:subject/>
  <dc:title>Slide 1</dc:title>
</cp:coreProperties>
</file>