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ECE-11D7-4BE8-A13A-9AEADDAE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3DAD-541F-4380-A64B-A790240A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12E-1E46-460E-A130-61274A05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2AA-01EB-45EF-89BE-CC7586C63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C166-B80D-4ECF-AE80-6C6AFE9D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4C6-9C88-47C3-BD02-B72F9BE01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A7CB-F161-4ADA-AF9D-2EBCE66D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D39-9F51-4216-ADF0-0E08B35A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FC68-0DAC-4812-97E6-9DF3C211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EFE8-D9E0-4420-A713-88EB105B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50A-5645-43C5-A807-D8F35B3E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5967-B20A-4641-8265-EC4B7914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E15C-5B6C-4AF2-AA7F-CA8B7572F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674-FBA3-403F-AF24-D216BF09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3D1-C08D-418E-B805-5B6C55D6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ED1-D671-4F2B-8754-62230B36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681-9723-41DB-8310-47AF0D22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BE7-A941-45B0-8AD8-25F91792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5E6-084A-4283-BC2F-2C11A983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110-0187-4080-8897-85EA926A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0C3-72A9-40A6-9F95-7D8560EC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8C7-D1AF-433C-AD34-56605D1E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1F7-A4D1-4DD7-9334-8AFBA072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00-15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9560" y="761760"/>
            <a:ext cx="826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9160" y="762120"/>
            <a:ext cx="570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4640" y="762120"/>
            <a:ext cx="72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COLÒ  MACHIAV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EIMAN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3920" y="762120"/>
            <a:ext cx="86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320" y="762120"/>
            <a:ext cx="584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AUS  COPER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THE  TE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1600" y="762120"/>
            <a:ext cx="82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NÁN  COR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76212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88920" y="761760"/>
            <a:ext cx="716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7720" y="762120"/>
            <a:ext cx="8188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3:50:19Z</dcterms:modified>
  <cp:revision>404</cp:revision>
  <dc:subject/>
  <dc:title>Slide 1</dc:title>
</cp:coreProperties>
</file>