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EEB-108F-4159-9C40-00117A28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6824-6011-4ADE-80C9-38896145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65C3-0C2F-481B-8E33-0DDBA862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B58-72F1-4D13-80E6-EDA28535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0F85-7F30-4CBC-ACB2-83546730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600-91D4-4783-8CB7-62C75F0A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6B3-03B4-4875-97BD-135604F1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532-85A2-4DD7-8E6F-7CB8C991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1F6-2880-4004-BD5C-891381EBA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41E5-F773-48D7-9B59-6A79D26C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A670-B0FE-4911-BE0A-A80F6A0B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77A-C7F4-4F57-A0A1-D8626E9D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E504-FBA3-44D6-A675-DBDB0985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6BD6-98DB-4494-8393-35AB5962E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CB26-D6D0-4192-98D1-FB410BC4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25E-0A0E-474B-A1C0-35350DBA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2FC-7082-4DDB-9A5F-752F6421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35C-B904-4904-81E9-D3D203F1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964-65AA-4875-9F5C-18E1CF86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2477-7012-4154-B213-A2FC598F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F46-5D52-4DBE-A446-4692B837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3E4E-1BCF-4361-BE7E-E112AC55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8C5D-6E6A-45AA-8F80-8BF6BBAB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00-15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9560" y="761760"/>
            <a:ext cx="826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9160" y="762120"/>
            <a:ext cx="570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4640" y="762120"/>
            <a:ext cx="72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COLÒ  MACHIAV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EIMAN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3920" y="762120"/>
            <a:ext cx="86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320" y="762120"/>
            <a:ext cx="584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AUS  COPER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THE  TE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1600" y="762120"/>
            <a:ext cx="82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NÁN  COR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76212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88920" y="761760"/>
            <a:ext cx="716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7720" y="762120"/>
            <a:ext cx="8188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3:50:19Z</dcterms:modified>
  <cp:revision>404</cp:revision>
  <dc:subject/>
  <dc:title>Slide 1</dc:title>
</cp:coreProperties>
</file>