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458E-A99B-4862-BB5F-08FB69D01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FE9F-067C-4B92-B0EB-A8BB0E17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8720-68A4-484C-8D75-5C770860A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DAB1-CBEA-4601-846C-91421531C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DBAF-8495-49AD-9704-2C7E4FFB4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5A65-30D7-4D33-A145-DB7FF804B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11C7-8130-4B9B-A4DA-E793319A6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9924-EE57-40FD-BA34-9EE909590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3F9AA-4C2C-406D-A465-ADDF6209B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3684-5E57-47C6-A784-832260FAB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4598-54C4-471D-893B-73C6A72AC7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D690-A412-4A37-A2EA-D4266EC85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FBD2-BED8-4ACD-B18A-AF536389C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884D-DD1F-4EDD-AEAE-82495DA2C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2576-B415-4386-9CBE-7833DDD75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31E1-0E2E-4E90-A0C4-4FBC3AE25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D98A-A51C-453F-B2AB-B17978D6C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8327-4CC9-41A8-BB7D-F2FE3B7B1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7938-4546-4F3C-B79E-4064527C3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1C44-0532-4834-962E-732840CBF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60B2-4A2C-4C4F-87AA-D3B96604D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EB28-8942-4A28-95B9-7DDE2EC85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CE66-823E-4A14-8846-25CA8C1F2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550-160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4419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PAINTING IS "DEFEAT OF THE ____ ____, 1588-08-08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038840" cy="311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17400" y="762120"/>
            <a:ext cx="7909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65, WHAT CITY IN FLORIDA BECAME THE FIRST PERMANENT SETTLEMENT OF EUROPEAN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343080" y="49528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ELIZABETH  I  OF  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249200" y="762120"/>
            <a:ext cx="664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VIRGIN QUEE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ORIAN  CALE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23880" y="762120"/>
            <a:ext cx="7894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E GREGORY XIII IS BEST KNOWN FOR IMPLEMENTING WHAT, IN 158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NETHER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74800" y="762120"/>
            <a:ext cx="7394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IGHTY YEARS' WAR IS ALSO KNOWN AS THE WAR OF INDEPENDENCE OF WHAT EUROPEAN 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CHO  BRA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STRONOMER, WHO HAD AN ARTIFICIAL BRASS NOSE AFTER LOSING HIS IN A DUEL, WAS THE FIRST TO DOCUMENT A SUPERNOV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IS  DR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17600" y="762120"/>
            <a:ext cx="830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EXPLORER   WAS THE FIRST TO CAPTAIN A MISSION TO CIRCUMNAVIGATE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ILEO  GALI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01760" y="762120"/>
            <a:ext cx="83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STRONOMER BUILT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ERMOMETER, CALLED A THERMOSC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MARL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10960" y="762120"/>
            <a:ext cx="8722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OREMOST DRAMATIST IN LONDON BEFORE WILLIAM SHAKESPE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09840" y="762120"/>
            <a:ext cx="6124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VIRGIN QUEE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UEN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95400" y="762120"/>
            <a:ext cx="895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ST. BARTHOLOMEW'S DAY MASSACRE OF 1572,      WHAT GROUP OF FRENCH PROTESTANTS WERE THE   VICTIM OF MOB VIOL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NISH  ARM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8680" y="838080"/>
            <a:ext cx="4329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IS PAINTING IS "DEFEAT OF THE ____ ____, 1588-08-08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4724280" y="838080"/>
            <a:ext cx="4038840" cy="311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AUGUST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630360" y="685800"/>
            <a:ext cx="788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565, WHAT CITY IN FLORIDA BECAME THE FIRST PERMANENT SETTLEMENT OF EUROPEAN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1800" y="761760"/>
            <a:ext cx="7697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PE GREGORY XIII IS BEST KNOWN FOR IMPLEMENTING WHAT, IN 158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3400" y="762120"/>
            <a:ext cx="747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IGHTY YEARS' WAR IS ALSO KNOWN AS THE WAR OF INDEPENDENCE OF WHAT EUROPEAN N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53880" y="762120"/>
            <a:ext cx="8436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STRONOMER, WHO HAD AN ARTIFICIAL BRASS NOSE AFTER LOSING HIS IN A DUEL, WAS THE FIRST TO DOCUMENT A SUPERNOV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EXPLORER   WAS THE FIRST TO CAPTAIN A MISSION TO CIRCUMNAVIGATE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ASTRONOMER BUILT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HERMOMETER, CALLED A THERMOSC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92240" y="761760"/>
            <a:ext cx="8759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OREMOST DRAMATIST IN LONDON BEFORE WILLIAM SHAKESPE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6840" y="761760"/>
            <a:ext cx="8950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ST. BARTHOLOMEW'S DAY MASSACRE OF 1572,      WHAT GROUP OF FRENCH PROTESTANTS WERE THE   VICTIM OF MOB VIOL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12-16T14:11:20Z</dcterms:modified>
  <cp:revision>413</cp:revision>
  <dc:subject/>
  <dc:title>Slide 1</dc:title>
</cp:coreProperties>
</file>