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016F-04AB-45F7-9299-08F8BCD09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E617-9EA5-4745-A115-CAB302C1B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6FDA-C5AB-4CEA-85F8-934352531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87AC-9D93-4AE9-8EA0-C29503F49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89E1-31B4-4AE4-99B9-3F2E80D6C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A506-F169-4D7A-9A9F-90959864F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CB79-F71B-46F6-912E-F47170B78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49EE-6570-46F3-BE34-6CB4652A7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C38D-05D1-4D66-AA0F-4467CD81A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D75E-5F11-49AF-8A3C-38E2516F5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2880-7ED4-454E-AC1A-97AD785BA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2756-A1F8-4303-A388-9FF07C2C8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57FD-27E2-4B5D-8DBC-BD5ABD0AA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7120-86F0-4043-922C-F9134B7B1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AB43-7183-4506-A517-7FD43C39A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8992-690D-4ACB-842C-D426B7C46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FB6D-5F27-4507-85B9-89E22CBBA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FDAF-758E-47E2-A2E5-58EFA74FD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F516-5C66-4FDD-A069-593FA2437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E54B-AE8D-4C42-8950-48609954A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E69F-9893-493B-A9C1-BA737D6E9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43A2-CFC1-4500-B528-FEA2936F6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D7D2-5636-42EE-9C15-1EAC7A905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550-16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4419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PAINTING IS "DEFEAT OF THE ____ ____, 1588-08-08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4038840" cy="31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17400" y="762120"/>
            <a:ext cx="7909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65, WHAT CITY IN FLORIDA BECAME THE FIRST PERMANENT SETTLEMENT OF EUROPEANS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343080" y="49528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  ELIZABETH  I  OF  ENG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249200" y="762120"/>
            <a:ext cx="6645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KNOWN AS "THE VIRGIN QUE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ORIAN  CALEN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623880" y="762120"/>
            <a:ext cx="7894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PE GREGORY XIII IS BEST KNOWN FOR IMPLEMENTING WHAT, IN 158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ETHERL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74800" y="762120"/>
            <a:ext cx="7394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IGHTY YEARS' WAR IS ALSO KNOWN AS THE WAR OF INDEPENDENCE OF WHAT EUROPEAN N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CHO  BRA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ISH ASTRONOMER, WHO HAD AN ARTIFICIAL BRASS NOSE AFTER LOSING HIS IN A DUEL, WAS THE FIRST TO DOCUMENT A SUPERNOV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IS  DR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17600" y="762120"/>
            <a:ext cx="830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EXPLORER   WAS THE FIRST TO CAPTAIN A MISSION TO CIRCUMNAVIGATE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ILEO  GALIL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401760" y="762120"/>
            <a:ext cx="8339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ASTRONOMER BUILT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HERMOMETER, CALLED A THERMOSC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OPHER  MARLO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10960" y="762120"/>
            <a:ext cx="8722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OREMOST DRAMATIST IN LONDON BEFORE WILLIAM SHAKESPE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09840" y="762120"/>
            <a:ext cx="612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KNOWN AS "THE VIRGIN QUE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GUEN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95400" y="762120"/>
            <a:ext cx="895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THE ST. BARTHOLOMEW'S DAY MASSACRE OF 1572,      WHAT GROUP OF FRENCH PROTESTANTS WERE THE   VICTIM OF MOB VIOL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NISH  ARM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8680" y="838080"/>
            <a:ext cx="4329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PAINTING IS "DEFEAT OF THE ____ ____, 1588-08-08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4038840" cy="311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.  AUGUST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630360" y="685800"/>
            <a:ext cx="788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65, WHAT CITY IN FLORIDA BECAME THE FIRST PERMANENT SETTLEMENT OF EUROPEANS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21800" y="761760"/>
            <a:ext cx="7697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PE GREGORY XIII IS BEST KNOWN FOR IMPLEMENTING WHAT, IN 158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33400" y="762120"/>
            <a:ext cx="7477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IGHTY YEARS' WAR IS ALSO KNOWN AS THE WAR OF INDEPENDENCE OF WHAT EUROPEAN N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53880" y="762120"/>
            <a:ext cx="8436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ISH ASTRONOMER, WHO HAD AN ARTIFICIAL BRASS NOSE AFTER LOSING HIS IN A DUEL, WAS THE FIRST TO DOCUMENT A SUPERNOV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EXPLORER   WAS THE FIRST TO CAPTAIN A MISSION TO CIRCUMNAVIGATE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2680" y="761760"/>
            <a:ext cx="8378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ASTRONOMER BUILT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HERMOMETER, CALLED A THERMOSC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92240" y="761760"/>
            <a:ext cx="8759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OREMOST DRAMATIST IN LONDON BEFORE WILLIAM SHAKESPE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6840" y="761760"/>
            <a:ext cx="8950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THE ST. BARTHOLOMEW'S DAY MASSACRE OF 1572,      WHAT GROUP OF FRENCH PROTESTANTS WERE THE   VICTIM OF MOB VIOL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12-16T14:11:20Z</dcterms:modified>
  <cp:revision>413</cp:revision>
  <dc:subject/>
  <dc:title>Slide 1</dc:title>
</cp:coreProperties>
</file>