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CF73-718B-41FE-A6A5-2F01E52B9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0A97-3700-4B8B-A890-06F96780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7045-5A82-42A5-A395-D64BD228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7737-13F5-4478-976D-17428A796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0A42-E82E-47FB-8098-98CF131A4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B5D0-B44E-4207-93A6-905ED671A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A3CA-0E2F-4D6B-97D2-2EEF4490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9023-F157-4145-9F2C-0C3B31921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C06C-438F-42B3-BAB7-11349043D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B50F-E58F-466A-A882-0B21577ED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4E9-300C-4C32-B21C-1A26973B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F3D-676D-4F99-ACFC-E943BDB8E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03BA-6810-417C-8D2D-FBC00196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79F1-FB4F-48D6-9D13-9D943068F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228C-C5BA-4A2D-B615-0C166D65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3ED-7614-46F1-8DCE-D007F187B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7F69-6FBC-44D0-8771-A7B861C84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C96-8F73-47F4-86C5-22C6DC66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1B8F-6ED9-4198-8C81-8F75B9CB0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6190-A01F-4F17-AB4F-04A569C61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823D-D151-46B0-8D76-ECD9A0F0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5F2-9E29-4B6A-B27A-8064479C5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4196-9595-4822-986E-92A4C864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50-16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PAINTING IS "DEFEAT OF THE ____ ____, 1588-08-08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038840" cy="31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17400" y="762120"/>
            <a:ext cx="790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65, WHAT CITY IN FLORIDA BECAME THE FIRST PERMANENT SETTLEMENT OF EUROPEAN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  OF  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49200" y="762120"/>
            <a:ext cx="664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VIRGIN 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IAN  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23880" y="762120"/>
            <a:ext cx="789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 GREGORY XIII IS BEST KNOWN FOR IMPLEMENTING WHAT, IN 15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THER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IGHTY YEARS' WAR IS ALSO KNOWN AS THE WAR OF INDEPENDENCE OF WHAT EUROPEAN 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CHO  BRA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, WHO HAD AN ARTIFICIAL BRASS NOSE AFTER LOSING HIS IN A DUEL, WAS THE FIRST TO DOCUMENT A SUPERNO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  DR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7600" y="762120"/>
            <a:ext cx="830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EXPLORER   WAS THE FIRST TO CAPTAIN A MISSION TO CIRCUMNAVIGATE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01760" y="762120"/>
            <a:ext cx="83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BUILT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RMOMETER, CALLED A THERMO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MARL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10960" y="762120"/>
            <a:ext cx="872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OREMOST DRAMATIST IN LONDON BEFORE WILLIAM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09840" y="762120"/>
            <a:ext cx="612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VIRGIN QU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UEN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5400" y="762120"/>
            <a:ext cx="895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ST. BARTHOLOMEW'S DAY MASSACRE OF 1572,      WHAT GROUP OF FRENCH PROTESTANTS WERE THE   VICTIM OF MOB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  AR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8680" y="838080"/>
            <a:ext cx="4329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PAINTING IS "DEFEAT OF THE ____ ____, 1588-08-08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038840" cy="31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AUGU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30360" y="685800"/>
            <a:ext cx="788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65, WHAT CITY IN FLORIDA BECAME THE FIRST PERMANENT SETTLEMENT OF EUROPEAN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1800" y="761760"/>
            <a:ext cx="7697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 GREGORY XIII IS BEST KNOWN FOR IMPLEMENTING WHAT, IN 15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3400" y="762120"/>
            <a:ext cx="74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IGHTY YEARS' WAR IS ALSO KNOWN AS THE WAR OF INDEPENDENCE OF WHAT EUROPEAN 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, WHO HAD AN ARTIFICIAL BRASS NOSE AFTER LOSING HIS IN A DUEL, WAS THE FIRST TO DOCUMENT A SUPERNOV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EXPLORER   WAS THE FIRST TO CAPTAIN A MISSION TO CIRCUMNAVIGATE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BUILT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RMOMETER, CALLED A THERMO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OREMOST DRAMATIST IN LONDON BEFORE WILLIAM SHAKESPE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6840" y="761760"/>
            <a:ext cx="895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ST. BARTHOLOMEW'S DAY MASSACRE OF 1572,      WHAT GROUP OF FRENCH PROTESTANTS WERE THE   VICTIM OF MOB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4:11:20Z</dcterms:modified>
  <cp:revision>413</cp:revision>
  <dc:subject/>
  <dc:title>Slide 1</dc:title>
</cp:coreProperties>
</file>