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2DB4-19C1-43D1-AAE4-75F21C0CD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30A8-1A18-4F78-A23B-94E1DFF070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F74B-3A64-4F8F-8F1B-820F2A158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4AF4-FF9F-4B37-931E-FD83234E7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72A40-F2F2-49A3-A9F2-49C8553AF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139EC-4737-4B7F-B113-910E82BEE2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B1B7-CB64-48EC-A744-5A6F5CD08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17E5-0149-4FD5-AE58-8E36AEC89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F054-B487-4BCD-A2BE-76A43734E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9E04-5B4A-429B-9DB6-A9FD7B627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FCFB4-5993-4F8D-8560-E5221FD79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90EC-CDDE-4742-924E-255A93CDB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4EDE-E23D-4D21-9037-AACE3F80C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CB024-5C0D-4053-8365-ED54C984D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EFF0-CDB6-4F8E-A308-4ACF9DE99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9AD5-8F5E-41D6-9309-BBE7C4588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1976-9E1C-4742-A3FA-8F95D7AFF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367F5-A7F3-4A28-B190-A2BC3FE3B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A6D9-B365-4FF9-BADB-673AEAE71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7E00-6783-4DB2-A636-3142FCAB7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645D-9343-427D-A241-42F4E64B5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F208-7E66-4A73-9061-7E80F6468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23BF-A513-40EB-B200-840821DCF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RCH 1 IN U.S. 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67, WHICH STATE BECAME THE 3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ATE (THOUGH IT WAS EXPANDED LATER)? NEBRASKA, WISCONSIN, OR MINNESOTA?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940, WHAT FAMOUS NOVEL BY RICHARD WRIGHT WAS PUBLISH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NNSYLV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MARCH 1, 1780, WHICH STATE BECAME THE FIRST TO ABOLISH SLAVERY?  NEW YORK, PENNSYLVANIA, OR NEW JERSE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72, WHAT BECAME THE WORLD'S FIRST NATIONA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H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03, WHAT MIDWESTERN STATE BECAME THE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ATE OF THE UNION?  OHIO, INDIANA, OR MICHI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8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I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47, WHICH MIDWESTERN STATE BECAME THE FIRST TO ABOLISH THE DEATH PENALTY?  OHIO, INDIANA, OR MICHI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8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80880" y="762120"/>
            <a:ext cx="838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 OF WHAT YEAR WAS TEXAS ANNEXED INTO THE U.S.?  1835, 1845, OR 185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STAGE  STAM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43080" y="762120"/>
            <a:ext cx="84582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MARCH 1, 1869, PICTURES (A HORSE AND RIDER, A SHIELD, A LOCOMOTIVE, AN EAGLE, AND A SHIP) FIRST APPEARED IN THE U.S. ON WHAT HOUSEHOLD ITEM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DIOA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96, HENRI BECQUEREL DISCOVERED WHAT DANGEROUS SCIENTIFIC PHENOMEN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MARCH 1, 1780, WHICH STATE BECAME THE FIRST TO ABOLISH SLAVERY?  NEW YORK, PENNSYLVANIA, OR NEW JERSEY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NES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909, THE FIRST UNIVERSITY NURSING SCHOOL WAS ESTABLISHED IN WHICH STATE?  NEBRASKA, WISCONSIN, OR MINNESO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BRAS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67, WHICH STATE BECAME THE 3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ATE (THOUGH IT WAS EXPANDED LATER)? NEBRASKA, WISCONSIN, OR MINNESOTA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IVE  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940, WHAT FAMOUS NOVEL BY RICHARD WRIGHT WAS PUBLISH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72, WHAT BECAME THE WORLD'S FIRST NATIONAL P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85840" y="762120"/>
            <a:ext cx="85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03, WHAT MIDWESTERN STATE BECAME THE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ATE OF THE UNION?  OHIO, INDIANA, OR MICHIG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47, WHICH MIDWESTERN STATE BECAME THE FIRST TO ABOLISH THE DEATH PENALTY?  OHIO, INDIANA, OR MICHIG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2396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 OF WHAT YEAR WAS TEXAS ANNEXED INTO THE U.S.?  1835, 1845, OR 185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N MARCH 1, 1869, PICTURES (A HORSE AND RIDER, A SHIELD, A LOCOMOTIVE, AN EAGLE, AND A SHIP) FIRST APPEARED IN THE U.S. ON WHAT HOUSEHOLD ITEM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896, HENRI BECQUEREL DISCOVERED WHAT DANGEROUS SCIENTIFIC PHENOMEN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MARCH 1, 1909, THE FIRST UNIVERSITY NURSING SCHOOL WAS ESTABLISHED IN WHICH STATE?  NEBRASKA, WISCONSIN, OR MINNESO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13:30:21Z</dcterms:created>
  <dc:creator>Jennifer Budzinski</dc:creator>
  <dc:description/>
  <dc:language>en-US</dc:language>
  <cp:lastModifiedBy>Erich Friedman</cp:lastModifiedBy>
  <dcterms:modified xsi:type="dcterms:W3CDTF">2020-09-01T12:09:17Z</dcterms:modified>
  <cp:revision>290</cp:revision>
  <dc:subject/>
  <dc:title>Slide 1</dc:title>
</cp:coreProperties>
</file>