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7435-0782-4A35-A677-66D5B4B3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37F-48D8-4A46-8EEB-927AE7A2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0139-8044-402D-A42E-59FDF659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FA08-630E-4370-8D27-CE0F638A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0D94-3E1C-49A9-9452-DB4464E9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959-C9FD-47ED-9F8F-BA70F34B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787-39AA-4515-9A9E-3339E4D2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0B2-1B6A-41FD-92B1-B643A49E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56CD-9BBE-4132-8DD8-BC8AE6A8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32A-450F-4010-AC78-FE3E5ADB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DC9-C420-486D-B841-B46BBC24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E4BF-AC77-4901-8669-B92978F8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193-4912-4D74-9ACC-E6FAB096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8D4-A6FD-4206-B330-38DE37DD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DBB-D1C3-4C8E-A918-D7995A2F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45A5-97E8-454B-9AD2-609EDB41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6C2-2192-4309-B2E1-26A312F4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9BEB-2491-45AF-95C2-433C2A5B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2151-2773-4806-9A48-048C4ED4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D45-936F-47A1-B463-A2AE53B4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EED-A6D6-4F64-A488-ED2FC62D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7AB5-A381-4496-B453-1E86A586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032-24B8-4C43-9F43-055F57B1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CH 1 IN U.S.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AGE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3:30:21Z</dcterms:created>
  <dc:creator>Jennifer Budzinski</dc:creator>
  <dc:description/>
  <dc:language>en-US</dc:language>
  <cp:lastModifiedBy>Erich Friedman</cp:lastModifiedBy>
  <dcterms:modified xsi:type="dcterms:W3CDTF">2020-09-01T12:09:17Z</dcterms:modified>
  <cp:revision>290</cp:revision>
  <dc:subject/>
  <dc:title>Slide 1</dc:title>
</cp:coreProperties>
</file>