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474-6C35-4D47-A691-105959DBB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F88-A902-49BA-B91B-5110DF5E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6835-1872-4B66-A930-E9C74011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317-2556-4A4D-8CB2-A30A1E8E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54C-58A2-418D-B576-31E544AE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20AA-56F0-4A64-AAAA-024EE294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A71-F191-4F6E-8EA6-3C9259EE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A31-CCE5-4CAE-BA0B-1DB3F933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FBA-B9BE-4E22-9F93-4216F13A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0C54-C741-44FB-BF03-87C05897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5DA-ED27-41C5-8D28-392E3CC9B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C58-5D9E-4DDB-B762-6D7B63A1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78C-2895-48C3-9F57-50455D79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14B7-85A9-4396-ACF5-1AB1B698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F1F1-ED0D-48E5-AC8D-A9E74CDF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5119-C91F-45D8-93E7-6E80F189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E286-5BC8-4084-9E91-C8376379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AFD-DB75-46B6-856B-01C9C08C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E46-CBDD-43A9-AB45-B909217B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A084-DBCA-4247-80EB-D2E38B9F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B020-50B9-4E96-BF99-67852E1E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C858-30AB-4413-8FDE-F266CAE6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6A3-0ABD-4A53-8026-8898618D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CH 1 IN U.S.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AGE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3:30:21Z</dcterms:created>
  <dc:creator>Jennifer Budzinski</dc:creator>
  <dc:description/>
  <dc:language>en-US</dc:language>
  <cp:lastModifiedBy>Erich Friedman</cp:lastModifiedBy>
  <dcterms:modified xsi:type="dcterms:W3CDTF">2020-09-01T12:09:17Z</dcterms:modified>
  <cp:revision>290</cp:revision>
  <dc:subject/>
  <dc:title>Slide 1</dc:title>
</cp:coreProperties>
</file>