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84DD-1E2E-490E-BB30-1A42CB81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ADAE-F026-4666-BF46-CF9803ECE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17F-93AC-48D0-9ADA-DEE0665C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0DD-A4B0-4EC7-8E58-E9B84F065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75C9-045F-4B05-BF7C-942347E8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0F0C-A5FB-4920-82B2-116D4D30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45FB-B1AD-43C0-A18C-3680D4F80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9B8F-5946-4357-ACA7-48C3E4097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0478-77AA-47CB-A66A-5CEF0687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979E-0A90-41EB-B3A8-74CB94D2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EE75-2972-41FE-9F57-8295B60F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2791-C489-4365-884E-2BC4F5DBF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9AEF-60C4-4206-B76A-09345A931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9080-20E5-4262-9747-7DA04CE6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3D17-DAA4-4CC5-B37D-FCA50A0A6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1E64-00DD-4DBF-B691-F2B257E9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BD35-50C5-426A-AB64-AB3ED87F9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0A6B-3A92-4DA1-A00E-7FF531ED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0094-4D72-4C44-A07B-1130E8A61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CFC1-8085-445A-B7C5-1B7EE81D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5EBC-CC83-4958-91E2-4156F9B66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DFA4-8CC2-47CF-95C5-7E6D6459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17CB-BDFD-471D-8BCF-D05CACEF7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00-16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39720" y="761760"/>
            <a:ext cx="786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14, THE FIRST TABLE    OF LOGARITHMS WAS PUBLISHED BY WHAT SCOTTISH MATHEMAT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GA-CORPORATION, FAMOUS FOR TRADING SPICES, COFFEE, SUGARCANE AND WINE, BECAME THE FIRST PUBLICLY TRADED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QUIX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1080" y="762120"/>
            <a:ext cx="7520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IRST MODERN NOVEL" WAS PUBLISHED BY MIGUEL DE CERVANTES IN 1605 AND 16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TOWN,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87440" y="762120"/>
            <a:ext cx="8167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ENGLISH COLONY ON THE AMERICAN MAINLAND WAS FOUNDED IN 16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4 LARGEST MOONS OF JUPITER: IO, GANYMEDE, EUROPA, AND CALLIS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63400" y="762120"/>
            <a:ext cx="80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SHAKESPEARE PLAY, FIRST PERFORMED     IN 1606, IS THE SHORTEST  OF HIS TRAGE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LGRIMS WHO ESTABLISHED THE PLYMOUTH COLONY PRACTICED WHAT BRANCH OF PROTESTANT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&amp;  A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3160" y="762120"/>
            <a:ext cx="87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 "30 YEARS' WAR" BEGAN AS A CATHOLIC VS. PROTESTANT DISPUTE, IT GREW INTO A WAR BETWEEN WHAT 2 NATIONAL SUPER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J  MAH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2200" y="762120"/>
            <a:ext cx="795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ILDING IN INDIA TOOK 20 YEARS TO COMPLETE,    AT A COST OF 32 MILLION RUPEES, NOW WORTH ALMOST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IRST MODERN NOVEL" WAS PUBLISHED BY MIGUEL DE CERVANTES IN 1605 AND 16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TARTED 214 YEARS OF EXTREME ISOLATIONIST POLICIES IN 163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NAP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31880" y="762120"/>
            <a:ext cx="7680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14, THE FIRST TABLE    OF LOGARITHMS WAS PUBLISHED BY WHAT SCOTTISH MATHEMAT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TCH  EAST  INDIA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GA-CORPORATION, FAMOUS FOR TRADING SPICES, COFFEE, SUGARCANE AND WINE, BECAME THE FIRST PUBLICLY TRADED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ENGLISH COLONY ON THE AMERICAN MAINLAND WAS FOUNDED IN 16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2160" y="762120"/>
            <a:ext cx="769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4 LARGEST MOONS OF JUPITER: IO, GANYMEDE, EUROPA, AND CALLIS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SHAKESPEARE PLAY, FIRST PERFORMED     IN 1606, IS THE SHORTEST  OF HIS TRAGED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LGRIMS WHO ESTABLISHED THE PLYMOUTH COLONY PRACTICED WHAT BRANCH OF PROTESTANT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 "30 YEARS' WAR" BEGAN AS A CATHOLIC VS. PROTESTANT DISPUTE, IT GREW INTO A WAR BETWEEN WHAT 2 NATIONAL SUPER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ILDING IN INDIA TOOK 20 YEARS TO COMPLETE,    AT A COST OF 32 MILLION RUPEES, NOW WORTH ALMOST $1 B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3160" y="761760"/>
            <a:ext cx="879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TARTED 214 YEARS OF EXTREME ISOLATIONIST POLICIES IN 163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3-11T14:40:26Z</dcterms:modified>
  <cp:revision>403</cp:revision>
  <dc:subject/>
  <dc:title>Slide 1</dc:title>
</cp:coreProperties>
</file>