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2EE72-74FA-4746-9C25-674B6A00A9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9B6B4-4AF8-4560-B36E-D7D8CB00B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8E049-5538-453E-8AD2-B0DD9D195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A2C78-A98A-4139-8837-95C2E43142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41168-4142-4C4A-B540-2A7B59D5B9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631CB-1533-41A6-850E-28A7961A94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5E818-49C1-4A82-8CC0-1B32DC8D8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426CE-9327-4949-B737-646E452C5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C6473-F00B-4570-82C5-A2840BDA3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D3D9D-F468-4945-9F1F-E0F2776CE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5820D-3196-4E6D-BCA9-6E7C46D12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B9D6E-B29E-4829-BA30-CD881B3E7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DA043-F5C6-45F5-A522-470981FA7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56DFA-DBD1-4EF2-8E43-7BE1649D48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16529-1FAE-47D0-8CE7-BC2F15AD9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50932-110F-4A95-B070-97F1F62FE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44D67-99B3-45CF-92CD-0FB8109F1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95E84-3CBB-46C9-928A-930E0FF25E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64552-E2E4-4C2C-82FC-B85EB91D67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D817F-A27F-4C56-A197-66560C077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C4830-9D9C-46F7-AF22-F0EDB3449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9FBE0-563F-448D-8646-E397A07BCF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F7FA3-BED1-4908-8FDA-957E1335E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600-165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39720" y="761760"/>
            <a:ext cx="7864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614, THE FIRST TABLE    OF LOGARITHMS WAS PUBLISHED BY WHAT SCOTTISH MATHEMATICI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318960" y="762120"/>
            <a:ext cx="8506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GA-CORPORATION, FAMOUS FOR TRADING SPICES, COFFEE, SUGARCANE AND WINE, BECAME THE FIRST PUBLICLY TRADED COMPAN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N  QUIXO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811080" y="762120"/>
            <a:ext cx="7520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FIRST MODERN NOVEL" WAS PUBLISHED BY MIGUEL DE CERVANTES IN 1605 AND 161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TOWN,  VIRGI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87440" y="762120"/>
            <a:ext cx="81676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RST ENGLISH COLONY ON THE AMERICAN MAINLAND WAS FOUNDED IN 160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LILEO  GALILE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874800" y="762120"/>
            <a:ext cx="7394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SCOVERED THE 4 LARGEST MOONS OF JUPITER: IO, GANYMEDE, EUROPA, AND CALLIST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CBE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563400" y="762120"/>
            <a:ext cx="8015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MOUS SHAKESPEARE PLAY, FIRST PERFORMED     IN 1606, IS THE SHORTEST  OF HIS TRAGED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LVIN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41904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ILGRIMS WHO ESTABLISHED THE PLYMOUTH COLONY PRACTICED WHAT BRANCH OF PROTESTANTIS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CE  &amp;  AUST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73160" y="762120"/>
            <a:ext cx="8796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LE THE "30 YEARS' WAR" BEGAN AS A CATHOLIC VS. PROTESTANT DISPUTE, IT GREW INTO A WAR BETWEEN WHAT 2 NATIONAL SUPERPOW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J  MAH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592200" y="762120"/>
            <a:ext cx="795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UILDING IN INDIA TOOK 20 YEARS TO COMPLETE,    AT A COST OF 32 MILLION RUPEES, NOW WORTH ALMOST $1 BILL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824040" y="762120"/>
            <a:ext cx="749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FIRST MODERN NOVEL" WAS PUBLISHED BY MIGUEL DE CERVANTES IN 1605 AND 161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P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228600" y="762120"/>
            <a:ext cx="8686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LAND NATION STARTED 214 YEARS OF EXTREME ISOLATIONIST POLICIES IN 163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NAP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731880" y="762120"/>
            <a:ext cx="76802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614, THE FIRST TABLE    OF LOGARITHMS WAS PUBLISHED BY WHAT SCOTTISH MATHEMATICI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UTCH  EAST  INDIA  COMPA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268200" y="762120"/>
            <a:ext cx="8607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GA-CORPORATION, FAMOUS FOR TRADING SPICES, COFFEE, SUGARCANE AND WINE, BECAME THE FIRST PUBLICLY TRADED COMPAN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93560" y="761760"/>
            <a:ext cx="8156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RST ENGLISH COLONY ON THE AMERICAN MAINLAND WAS FOUNDED IN 1607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722160" y="762120"/>
            <a:ext cx="7699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SCOVERED THE 4 LARGEST MOONS OF JUPITER: IO, GANYMEDE, EUROPA, AND CALLIST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54040" y="762120"/>
            <a:ext cx="8035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MOUS SHAKESPEARE PLAY, FIRST PERFORMED     IN 1606, IS THE SHORTEST  OF HIS TRAGED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ILGRIMS WHO ESTABLISHED THE PLYMOUTH COLONY PRACTICED WHAT BRANCH OF PROTESTANTIS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92240" y="761760"/>
            <a:ext cx="8759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LE THE "30 YEARS' WAR" BEGAN AS A CATHOLIC VS. PROTESTANT DISPUTE, IT GREW INTO A WAR BETWEEN WHAT 2 NATIONAL SUPERPOW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34960" y="761760"/>
            <a:ext cx="80755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UILDING IN INDIA TOOK 20 YEARS TO COMPLETE,    AT A COST OF 32 MILLION RUPEES, NOW WORTH ALMOST $1 BILL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73160" y="761760"/>
            <a:ext cx="8797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LAND NATION STARTED 214 YEARS OF EXTREME ISOLATIONIST POLICIES IN 1639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1-03-11T14:40:26Z</dcterms:modified>
  <cp:revision>403</cp:revision>
  <dc:subject/>
  <dc:title>Slide 1</dc:title>
</cp:coreProperties>
</file>