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92CE-F1CB-4B32-B193-74FDE8024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77CC-3B99-458E-BCC4-D0251B5D8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1A08-8CDE-479A-83FF-275FD588E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6323-3C94-493A-8B53-FF62A7C56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DE8B-F8D9-4336-851C-014B51840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684C-69F0-451F-B613-955A58899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AEA9-0B81-43C5-A87B-8519D92F6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1235-18C6-4CD2-8C4D-BF4CE16C4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3E5B-C834-4927-8156-9495B4CBF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47B5-98EE-48B0-810C-67D9C642D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572E-F7CA-4202-8949-0223CA43E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7B10-03E4-40AC-B3FE-043435461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C8AD-B06A-457C-BB14-DE404DB1A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847A-0234-4969-AC74-A3849FFB0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9F19-B133-4857-8137-C15FB158F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5229-4668-4544-A18F-E4F6F69B1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8A04-2891-4B6F-B6B7-43E0653C2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BF44-691E-416D-A3E2-515E60F27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D219-9014-4AFE-B704-E53BA4670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1472-DDFD-46AF-BC3A-FF770822E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A99E-6649-41A6-84F3-1C1589636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E2B6-0DEB-4261-9BA2-D07A09719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CB6A-B499-44AF-A53B-86AA1A322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650-17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6760" y="761760"/>
            <a:ext cx="8427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682, EDMOND HALLEY DISCOVERED HIS COMET'S PERIOD.  HOW MANY TIMES SINCE THEN HAS IT RETURNED TO OUR SOLAR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8960" y="762120"/>
            <a:ext cx="8520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MASSACHUSETTS TOWN DID WITCH-HUNTING HYSTERIA OCCUR IN 169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AAC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95440" y="762120"/>
            <a:ext cx="795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AID OUT THE FOUNDATIONS OF PHYSICAL MECHANICS IN HIS BOOK "MATHEMATICAL PRINCIPLES OF PHILOSOPHY" IN 168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  XIV  OF  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87440" y="762120"/>
            <a:ext cx="8167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REIGN FOR OVER 72 YEARS IS THE LONGEST OF ANY EUROPEAN MONAR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AMSTERD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60360" y="762120"/>
            <a:ext cx="8421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W YORK CITY RECEIVED THAT NAME IN 1664.  WHAT WAS       IT CALLED BEFORE T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HO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74640" y="762120"/>
            <a:ext cx="779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POLYMATH INVENTED THE TERM "CELL" AFTER LOOKING AT PLANTS UNDER A MICROSC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52600" y="762120"/>
            <a:ext cx="803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666, A LARGE FIRE DESTROYED THE HOMES    OF MOST OF THE 80,000 INHABITANTS OF WHAT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76360" y="762120"/>
            <a:ext cx="7991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RDIC COUNTRY LOST 1/3 OF ITS POPULATION DUE TO FAMINE IN THE 169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I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92200" y="762120"/>
            <a:ext cx="795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UBLICATION OF "PARADISE LOST" EARNED WHAT AUTHOR ALL OF £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3040" y="762120"/>
            <a:ext cx="8197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AID OUT THE FOUNDATIONS OF PHYSICAL MECHANICS IN HIS BOOK "MATHEMATICAL PRINCIPLES OF PHILOSOPHY" IN 168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ONIE  VAN  LEEUWENHO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28880" y="762120"/>
            <a:ext cx="7086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UTCH SCIENTIST DISCOVERED BACTERIA, SPERM, AND BLOOD FLOW IN CAPILLA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  (1759, 1835, 1910, 198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95280" y="762120"/>
            <a:ext cx="8381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682, EDMOND HALLEY DISCOVERED HIS COMET'S PERIOD.  HOW MANY TIMES SINCE THEN HAS IT RETURNED TO OUR SOLAR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96800" y="762120"/>
            <a:ext cx="8190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MASSACHUSETTS TOWN DID WITCH-HUNTING HYSTERIA OCCUR IN 169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93560" y="761760"/>
            <a:ext cx="815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REIGN FOR OVER 72 YEARS IS THE LONGEST OF ANY EUROPEAN MONAR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60360" y="762120"/>
            <a:ext cx="8421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W YORK CITY RECEIVED THAT NAME IN 1664.  WHAT WAS       IT CALLED BEFORE T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54040" y="762120"/>
            <a:ext cx="803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POLYMATH INVENTED THE TERM "CELL" AFTER LOOKING AT PLANTS UNDER A MICROSC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666, A LARGE FIRE DESTROYED THE HOMES    OF MOST OF THE 80,000 INHABITANTS OF WHAT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63600" y="761760"/>
            <a:ext cx="841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RDIC COUNTRY LOST 1/3 OF ITS POPULATION DUE TO FAMINE IN THE 169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4960" y="761760"/>
            <a:ext cx="8075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UBLICATION OF "PARADISE LOST" EARNED WHAT AUTHOR ALL OF £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01880" y="761760"/>
            <a:ext cx="7140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UTCH SCIENTIST DISCOVERED BACTERIA, SPERM, AND BLOOD FLOW IN CAPILLA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1-06-15T16:16:24Z</dcterms:modified>
  <cp:revision>411</cp:revision>
  <dc:subject/>
  <dc:title>Slide 1</dc:title>
</cp:coreProperties>
</file>