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AB2C-6EA3-4D05-9900-A614999A9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72874-A617-4D37-A6C4-6DD77C09A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D9AB-1305-4D19-AF2C-BEF4BCBD2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418A-073A-4A51-B7E8-C35AB0D7F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025D-A0EC-460F-8683-712DDDCA8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09A1-DF66-4CB5-A17F-810523F89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C99D-DF6E-4BCE-BC6C-577CCC465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E0B2-505C-4DBB-A8B7-23470B7A8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F9A0-FF07-4D9E-A2C9-AA26F777F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B3DB-3BF2-4E0F-8F95-6B42F5D77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B37A-42AA-4377-9F18-0AD64C4C1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ACB4-C2F8-47E5-9275-B4DDAB2DB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1C99-2E74-47F7-BDFB-CBE968047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7C51-D4DD-4419-8267-C7CDF7E8B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9D24-0BA4-4FDA-8264-374DAF69F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92D6-0B01-4835-B024-E047B13D5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B9A9-4333-42C1-AFA7-061E4022C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D339-7CCA-4B32-9E5D-2831A0478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467A-2AB9-4312-BE42-289311822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40E2-B13E-4EC6-B569-6C5A34FB8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BECA-94C7-4FDB-939F-399E71A29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2B7A-9E8C-49BB-97A6-314388D18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6727-45D1-42C3-856C-FA3C4B986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650-17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56760" y="761760"/>
            <a:ext cx="8427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682, EDMOND HALLEY DISCOVERED HIS COMET'S PERIOD.  HOW MANY TIMES SINCE THEN HAS IT RETURNED TO OUR SOLAR SYS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8960" y="762120"/>
            <a:ext cx="8520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MASSACHUSETTS TOWN DID WITCH-HUNTING HYSTERIA OCCUR IN 169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SAAC  NEW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95440" y="762120"/>
            <a:ext cx="7951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AID OUT THE FOUNDATIONS OF PHYSICAL MECHANICS IN HIS BOOK "MATHEMATICAL PRINCIPLES OF PHILOSOPHY" IN 168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IS  XIV  OF  F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87440" y="762120"/>
            <a:ext cx="8167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REIGN FOR OVER 72 YEARS IS THE LONGEST OF ANY EUROPEAN MONAR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AMSTERD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60360" y="762120"/>
            <a:ext cx="8421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W YORK CITY RECEIVED THAT NAME IN 1664.  WHAT WAS       IT CALLED BEFORE T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HOO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74640" y="762120"/>
            <a:ext cx="779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POLYMATH INVENTED THE TERM "CELL" AFTER LOOKING AT PLANTS UNDER A MICROSC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52600" y="762120"/>
            <a:ext cx="8038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666, A LARGE FIRE DESTROYED THE HOMES    OF MOST OF THE 80,000 INHABITANTS OF WHAT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76360" y="762120"/>
            <a:ext cx="7991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RDIC COUNTRY LOST 1/3 OF ITS POPULATION DUE TO FAMINE IN THE 169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MI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92200" y="762120"/>
            <a:ext cx="795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UBLICATION OF "PARADISE LOST" EARNED WHAT AUTHOR ALL OF £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3040" y="762120"/>
            <a:ext cx="8197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AID OUT THE FOUNDATIONS OF PHYSICAL MECHANICS IN HIS BOOK "MATHEMATICAL PRINCIPLES OF PHILOSOPHY" IN 168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TONIE  VAN  LEEUWENHO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028880" y="762120"/>
            <a:ext cx="7086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UTCH SCIENTIST DISCOVERED BACTERIA, SPERM, AND BLOOD FLOW IN CAPILLA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  (1759, 1835, 1910, 198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95280" y="762120"/>
            <a:ext cx="83818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682, EDMOND HALLEY DISCOVERED HIS COMET'S PERIOD.  HOW MANY TIMES SINCE THEN HAS IT RETURNED TO OUR SOLAR SYS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96800" y="762120"/>
            <a:ext cx="8190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MASSACHUSETTS TOWN DID WITCH-HUNTING HYSTERIA OCCUR IN 169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93560" y="761760"/>
            <a:ext cx="8156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REIGN FOR OVER 72 YEARS IS THE LONGEST OF ANY EUROPEAN MONAR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60360" y="762120"/>
            <a:ext cx="8421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W YORK CITY RECEIVED THAT NAME IN 1664.  WHAT WAS       IT CALLED BEFORE T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54040" y="762120"/>
            <a:ext cx="803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POLYMATH INVENTED THE TERM "CELL" AFTER LOOKING AT PLANTS UNDER A MICROSCO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666, A LARGE FIRE DESTROYED THE HOMES    OF MOST OF THE 80,000 INHABITANTS OF WHAT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63600" y="761760"/>
            <a:ext cx="841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RDIC COUNTRY LOST 1/3 OF ITS POPULATION DUE TO FAMINE IN THE 169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4960" y="761760"/>
            <a:ext cx="8075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UBLICATION OF "PARADISE LOST" EARNED WHAT AUTHOR ALL OF £1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01880" y="761760"/>
            <a:ext cx="7140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UTCH SCIENTIST DISCOVERED BACTERIA, SPERM, AND BLOOD FLOW IN CAPILLA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1-06-15T16:16:24Z</dcterms:modified>
  <cp:revision>411</cp:revision>
  <dc:subject/>
  <dc:title>Slide 1</dc:title>
</cp:coreProperties>
</file>