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C016-8FCA-4C91-8CAA-DE7D62C6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E99-4815-4036-AC29-9AF2D781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DE5B-B210-4420-A9E8-FAED1864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CA93-7103-4362-9BEC-26617DC7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2C9E-E387-4441-BFEA-CCDFB26CF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EE1-9804-46B4-99D9-4ADED500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C400-E388-4429-AF75-8A6C8658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F0FE-0BE7-4DEF-B36C-F63E83D2C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E7F8-D82F-4167-8E92-DB43A85A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1D97-CE9B-4E46-BD75-D1912711E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432-8438-4096-87C6-50E1EEC9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67F7-B2A8-46D2-B9F2-CE01B430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713C-38E0-421C-A7BB-2FB0E516A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7AC-1379-4AD1-A784-225EAC1D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119F-F97F-4784-B411-5AF6131B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C54C-BE1A-4C6E-9315-0DA12D8B2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6B36-1885-4E45-821F-02B971C75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D376-E353-40C4-90CC-97648AE6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1BE7-CD20-42C9-AA7B-0F869EDF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A3FB-41A9-4010-84B9-586FBF2A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6DAB-88C0-4355-9351-9969E7B7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A7E1-2AD3-4CD7-8861-BF95D3CF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A076-CCEF-4680-84DB-4CB720B8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WAR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DID U.S. PRESIDENT WILSON OUTLINE IN HIS JANUARY 1918 SPEECH SETTING OUT AMERICA'S WAR AI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28680" y="762120"/>
            <a:ext cx="66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ATY MARKED THE END OF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FERDIN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52320" y="762120"/>
            <a:ext cx="7837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I WAS TRIGGERED BY THE ASSASSINATION OF WHAT ARCHDUKE OF AUST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1760" y="762120"/>
            <a:ext cx="830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WAS A TEMPORARY TRUCE ON WHAT DAY IN 19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5080" y="762120"/>
            <a:ext cx="741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EAPON WAS INTRODUCED AT THE BATTLE OF THE SOM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3200" y="762120"/>
            <a:ext cx="833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D THE MOST FATALITIES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A  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GE PERFORMER WAS EXECUTED AS A SPY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F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0320" y="762120"/>
            <a:ext cx="76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CAUSED ABOUT 1/3 OF THE MILITARY DEATHS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T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7280" y="762120"/>
            <a:ext cx="802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VE AMERICAN TRIBE CAME UP WITH A MILITARY CODE THE GERMANS COULDN'T BRE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I WAS TRIGGERED BY THE ASSASSINATION OF WHAT ARCHDUKE OF AUST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SIT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2000" y="762120"/>
            <a:ext cx="756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NKING OF WHAT SHIP CAUSED THE AMERICANS TO ENTER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2560" y="762120"/>
            <a:ext cx="7777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DID U.S. PRESIDENT WILSON OUTLINE IN HIS JANUARY 1918 SPEECH SETTING OUT AMERICA'S WAR A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ATY  OF  VERSAI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85920" y="762120"/>
            <a:ext cx="65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ATY MARKED THE END OF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WAS A TEMPORARY TRUCE ON WHAT DAY IN 19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27000" y="762120"/>
            <a:ext cx="729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EAPON WAS INTRODUCED AT THE BATTLE OF THE SOM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D THE MOST FATALITIES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7040" y="761760"/>
            <a:ext cx="8089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GE PERFORMER WAS EXECUTED AS A SPY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3720" y="761760"/>
            <a:ext cx="775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CAUSED ABOUT 1/3 OF THE MILITARY DEATHS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VE AMERICAN TRIBE CAME UP WITH A MILITARY CODE THE GERMANS COULDN'T BREA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NKING OF WHAT SHIP CAUSED THE AMERICANS TO ENTER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14T12:45:45Z</dcterms:modified>
  <cp:revision>370</cp:revision>
  <dc:subject/>
  <dc:title>Slide 1</dc:title>
</cp:coreProperties>
</file>