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3EA1-23DD-4684-98B7-9980AA207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7B2D-0488-4126-A0DC-5008BDEFE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D8FE3-AC02-483C-8052-66FD289AA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2916-9E72-4BD9-8821-4ABDA2527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29B0-4BA6-48EF-879D-35A2668D8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8CF2-86E5-40CE-80AC-05EA86867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D1D7-D15C-4FF7-9229-AFF31A126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DCB6-EB29-4549-ABB7-69511526B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C2A1-9394-4E41-81BB-DCEEE5385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E47C-6173-4CAF-9BD1-941B0240B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0DF1-493E-4E30-BF1C-F22033FA1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88A4-9027-44BB-B0B1-CDFF42C77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290D-243B-4BF8-A1BD-9D0B1AD20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659C-A82B-4137-8581-FB680D9B9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543E-9546-48C1-BFD5-1C496807A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19B7-2CCD-4E09-83EE-2D051086F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40CF-79FA-4AF3-8262-CB595E50B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3D6B-700D-4D95-9CE3-3568EB49E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1C20-D2F8-4709-817D-36E1C1B77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ED9B-E3C9-43FE-812E-F86418B2E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C4543-FC83-4B62-8C94-0A86F4F00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C4E4-8A50-49BF-814F-E2D7249E0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BDF7-C3B7-4059-9D42-0C03607E1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RLD WAR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95160" y="761760"/>
            <a:ext cx="7753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INTS DID U.S. PRESIDENT WILSON OUTLINE IN HIS JANUARY 1918 SPEECH SETTING OUT AMERICA'S WAR AI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228680" y="762120"/>
            <a:ext cx="6686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EATY MARKED THE END OF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Z  FERDIN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52320" y="762120"/>
            <a:ext cx="78375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WI WAS TRIGGERED BY THE ASSASSINATION OF WHAT ARCHDUKE OF AUSTR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01760" y="762120"/>
            <a:ext cx="8300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WAS A TEMPORARY TRUCE ON WHAT DAY IN 19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65080" y="762120"/>
            <a:ext cx="7413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WEAPON WAS INTRODUCED AT THE BATTLE OF THE SOM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03200" y="762120"/>
            <a:ext cx="8336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D THE MOST FATALITIES DURING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TA  H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GE PERFORMER WAS EXECUTED AS A SPY DURING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NISH  FL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0320" y="762120"/>
            <a:ext cx="762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EASE CAUSED ABOUT 1/3 OF THE MILITARY DEATHS DURING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OCT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57280" y="762120"/>
            <a:ext cx="8029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VE AMERICAN TRIBE CAME UP WITH A MILITARY CODE THE GERMANS COULDN'T BREA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14520" y="762120"/>
            <a:ext cx="7913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WI WAS TRIGGERED BY THE ASSASSINATION OF WHAT ARCHDUKE OF AUSTR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SIT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92000" y="762120"/>
            <a:ext cx="7560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NKING OF WHAT SHIP CAUSED THE AMERICANS TO ENTER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2560" y="762120"/>
            <a:ext cx="7777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POINTS DID U.S. PRESIDENT WILSON OUTLINE IN HIS JANUARY 1918 SPEECH SETTING OUT AMERICA'S WAR AI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ATY  OF  VERSAIL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285920" y="762120"/>
            <a:ext cx="6572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EATY MARKED THE END OF WW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49280" y="761760"/>
            <a:ext cx="82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WAS A TEMPORARY TRUCE ON WHAT DAY IN 19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27000" y="762120"/>
            <a:ext cx="7290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WEAPON WAS INTRODUCED AT THE BATTLE OF THE SOM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38040" y="762120"/>
            <a:ext cx="84679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HAD THE MOST FATALITIES DURING W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27040" y="761760"/>
            <a:ext cx="8089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GE PERFORMER WAS EXECUTED AS A SPY DURING W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93720" y="761760"/>
            <a:ext cx="7756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EASE CAUSED ABOUT 1/3 OF THE MILITARY DEATHS DURING W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85640" y="761760"/>
            <a:ext cx="8172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VE AMERICAN TRIBE CAME UP WITH A MILITARY CODE THE GERMANS COULDN'T BREA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01720" y="761760"/>
            <a:ext cx="7540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INKING OF WHAT SHIP CAUSED THE AMERICANS TO ENTER WW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10-14T12:45:45Z</dcterms:modified>
  <cp:revision>370</cp:revision>
  <dc:subject/>
  <dc:title>Slide 1</dc:title>
</cp:coreProperties>
</file>