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6CA5-E717-4997-9C9B-D16770EA1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A2B1-E379-4AC3-8903-2877DDB58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D216-F0B3-4B3A-8FE0-27F4345F0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0F4D-4DB1-45B2-8175-EB9C40E96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F5D7-BE24-449D-BA55-F4E46D528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484B-FEBA-45DF-A8B3-06537FB5E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F4D6-1168-442B-8884-EC7F8EE65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D60B-9469-4A01-87E3-E11F1C6BB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4464-C08F-4CE4-BB65-1C55FFE4B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CB38-0730-485F-81C9-095F67E37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228E-5247-401E-8A93-18E4F2EA2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2CDB-0E7B-4254-B8AC-2A62DEABE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9860-20E9-445D-9A22-E01658647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A829-0E13-4906-A322-3E8BC0B0C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4331-5B2C-40DF-AFA8-6F006F4DD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53D9-A3C1-4F2A-B96E-52EA8ED69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787E-C570-46A9-83B0-C5BB348CA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3865-50E8-4A22-B8E0-701A1DE73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3EF5-DA56-4E0B-B847-5FD992397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AC72-B8E0-4F63-A907-1A554FE25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89EC-7336-4BE6-89A0-C7B756FC1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E183-3554-465F-BA94-D0741809F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088A-7D07-4FC9-88D0-C9E76460D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700-175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56760" y="761760"/>
            <a:ext cx="8427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ORATORIO "MESSIAH" IN 174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36520" y="762120"/>
            <a:ext cx="8670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ET AND AUTHOR OF "THE RAPE OF THE LOCK"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MOST QUOTED AUTHOR      IN THE ENGLISH LANGUAGE, AFTER SHAKESPE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INT  PETERSBU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54200" y="762120"/>
            <a:ext cx="76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, FOUNDED IN 1703, SERVED AS RUSSIA'S CAPITAL UNTIL 19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  FUJ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87440" y="762120"/>
            <a:ext cx="8167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OLCANO ERUPTED IN 1707, FOR THE FIRST TIME IN MORE THAN 10,00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293760" y="808200"/>
            <a:ext cx="855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710, THE WORLD'S FIRST COPYRIGHT LEGISLATION TOOK EFFECT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FRANK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74640" y="762120"/>
            <a:ext cx="7794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GAN PUBLISHING "POOR RICHARD'S ALMANACK" IN 173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  SEBASTIAN  B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"THE WELL-TEMPERED CLAVIER" IN 172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THAN  SW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6360" y="762120"/>
            <a:ext cx="799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ULLIVER'S TRAVELS" IN 172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TI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11120" y="762120"/>
            <a:ext cx="8321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THE 1740'S, WHAT METAL WAS SEEN AS AN IMPURITY OF GOLD, AND THUS WAS GENERALLY DISCARD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46000" y="762120"/>
            <a:ext cx="7452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, FOUNDED IN 1703, SERVED AS RUSSIA'S CAPITAL UNTIL 19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028880" y="762120"/>
            <a:ext cx="6819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REGULAR NEWSPAPER IN THE U.S.,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NEWS-LETT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EGAN PUBLICATION    IN 1704 IN WHAT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FRIDERIC  HAN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95280" y="762120"/>
            <a:ext cx="8381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ORATORIO "MESSIAH" IN 174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ANDER  P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10960" y="762120"/>
            <a:ext cx="8722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ET AND AUTHOR OF "THE RAPE OF THE LOCK"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-MOST QUOTED AUTHOR      IN THE ENGLISH LANGUAGE, AFTER SHAKESPE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93560" y="761760"/>
            <a:ext cx="8156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OLCANO ERUPTED IN 1707, FOR THE FIRST TIME IN MORE THAN 10,00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217440" y="762120"/>
            <a:ext cx="870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710, THE WORLD'S FIRST COPYRIGHT LEGISLATION TOOK EFFECT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54040" y="762120"/>
            <a:ext cx="8035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GAN PUBLISHING "POOR RICHARD'S ALMANACK" IN 173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38120" y="762120"/>
            <a:ext cx="8267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"THE WELL-TEMPERED CLAVIER" IN 172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63600" y="761760"/>
            <a:ext cx="841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GULLIVER'S TRAVELS" IN 172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THE 1740'S, WHAT METAL WAS SEEN AS AN IMPURITY OF GOLD, AND THUS WAS GENERALLY DISCARD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47320" y="761760"/>
            <a:ext cx="6846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REGULAR NEWSPAPER IN THE U.S.,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NEWS-LETT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EGAN PUBLICATION    IN 1704 IN WHAT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1-12-18T19:06:54Z</dcterms:modified>
  <cp:revision>417</cp:revision>
  <dc:subject/>
  <dc:title>Slide 1</dc:title>
</cp:coreProperties>
</file>