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AD4A-DC9E-4ACA-B9DB-FEBF78F4F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59DF-C516-4DA4-B948-D7A5D500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D859-4027-4A0C-96DB-C12A81B0E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403E-99D1-45CD-81A7-57F1064FF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34AD-AA06-4246-AE02-841380381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7CB5-F51E-49AF-8AE8-E3F5E0178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27E5-7E98-4904-A8B4-11CC6AD68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F1F5-50AB-4CD1-9801-C29C56CD0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6208-45AA-4C60-A1E0-BCBFECB3E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90C2-1F2C-48B5-80B4-584FD59B9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D6D6-36D8-45DD-A215-7C501B194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DDC1-7ACA-4ED3-B04B-120CD20A0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AAA3-DBC3-4C5E-B962-E955C672A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5824-21CA-4DC7-B533-D9099FFB7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5A31-6F70-4B3A-BB09-4A0F29430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2B6F-8FD8-40C7-B694-B5BB17971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EF8D-3FEB-43D8-9BF8-ED745BCDF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E054-7630-43E7-B19E-0C0A2A632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9A54-F2D1-4779-9474-F6DA1787E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A90A-07E6-4AEF-AD14-31A990D9E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6B1E-426B-4DE3-A862-3D4186A85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FBB0-7FDB-41AC-8FB4-5F8C3EFEC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0033-EE8E-4E1D-8C0C-210DF46BB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00-175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6760" y="761760"/>
            <a:ext cx="8427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ORATORIO "MESSIAH" IN 174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36520" y="762120"/>
            <a:ext cx="8670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ET AND AUTHOR OF "THE RAPE OF THE LOCK"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MOST QUOTED AUTHOR      IN THE ENGLISH LANGUAGE, AFTER SHAKESPE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NT  PETER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54200" y="762120"/>
            <a:ext cx="76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, FOUNDED IN 1703, SERVED AS RUSSIA'S CAPITAL UNTIL 19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  FU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87440" y="762120"/>
            <a:ext cx="8167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OLCANO ERUPTED IN 1707, FOR THE FIRST TIME IN MORE THAN 10,0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93760" y="808200"/>
            <a:ext cx="855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710, THE WORLD'S FIRST COPYRIGHT LEGISLATION TOOK EFFECT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74640" y="762120"/>
            <a:ext cx="779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GAN PUBLISHING "POOR RICHARD'S ALMANACK" IN 173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  SEBASTIAN  B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"THE WELL-TEMPERED CLAVIER" IN 172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THAN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6360" y="762120"/>
            <a:ext cx="799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ULLIVER'S TRAVELS" IN 172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T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11120" y="762120"/>
            <a:ext cx="8321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THE 1740'S, WHAT METAL WAS SEEN AS AN IMPURITY OF GOLD, AND THUS WAS GENERALLY DISCAR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46000" y="762120"/>
            <a:ext cx="7452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, FOUNDED IN 1703, SERVED AS RUSSIA'S CAPITAL UNTIL 19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28880" y="762120"/>
            <a:ext cx="6819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REGULAR NEWSPAPER IN THE U.S.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S-LETT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EGAN PUBLICATION    IN 1704 IN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FRIDERIC  HA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5280" y="76212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ORATORIO "MESSIAH" IN 174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P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10960" y="762120"/>
            <a:ext cx="8722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ET AND AUTHOR OF "THE RAPE OF THE LOCK"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MOST QUOTED AUTHOR      IN THE ENGLISH LANGUAGE, AFTER SHAKESPE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3560" y="761760"/>
            <a:ext cx="815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OLCANO ERUPTED IN 1707, FOR THE FIRST TIME IN MORE THAN 10,0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17440" y="762120"/>
            <a:ext cx="87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710, THE WORLD'S FIRST COPYRIGHT LEGISLATION TOOK EFFECT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GAN PUBLISHING "POOR RICHARD'S ALMANACK" IN 173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"THE WELL-TEMPERED CLAVIER" IN 172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ULLIVER'S TRAVELS" IN 172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THE 1740'S, WHAT METAL WAS SEEN AS AN IMPURITY OF GOLD, AND THUS WAS GENERALLY DISCARD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7320" y="761760"/>
            <a:ext cx="6846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REGULAR NEWSPAPER IN THE U.S.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S-LETT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EGAN PUBLICATION    IN 1704 IN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1-12-18T19:06:54Z</dcterms:modified>
  <cp:revision>417</cp:revision>
  <dc:subject/>
  <dc:title>Slide 1</dc:title>
</cp:coreProperties>
</file>