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9BE0-19F8-4F4B-9A38-FAA37D9C6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B84F6-7215-4FA5-9D33-895E1326F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8926-6105-48C9-B315-220935DEB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CBB1-35E6-4554-BF6C-879FB9569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3E8D-2FB7-412B-876F-C049B7A55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893DA-F366-4AA4-B5E6-6E000F271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3297-7B49-47FC-A28D-F327F794F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B16F0-1EF2-40BC-BF5B-D09E366F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FBA06-486B-4A70-8D1A-24915FDCE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4C8E-BBAE-42B9-9D94-ACF1C167E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35BF-7081-4E59-BD79-2B03133B4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AB22-A40C-4AE5-9325-79C38D5F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17DB-CBFA-46C9-B6B7-B3B4AE0FD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57E4-9FF7-4C7D-B8EC-53F9071D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723B-2D2E-4930-AA98-4ED5F577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4673-02E2-4084-BE79-D9A878ADA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6F1B-82C9-47E5-A862-E8B26A94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DE18-3D25-4701-B5CC-6A4996884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97E6-C856-4870-B9EB-EE8F017B7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C7CB-4163-4C1A-92A5-19D95FDFB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4F17-B70B-425C-9FA8-78F82192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74E0-4915-4750-B90C-29E291C93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AA08-9C40-4644-B4AF-349A74916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IRD 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"NATIONALSOZIALISTISCHE" WAS SHORTENED TO WHAT ALREADY EXISTING INSU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(FAILED) SUBMERSIBLE ATTACK AGAINST A SHIP HAPPENED DURING WHAT U.S.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KING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8200" y="762120"/>
            <a:ext cx="806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THE ZANZIBAR SULTANATE IN THE SHORTEST WAR ON RECORD, ONLY 38 MINUTES 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POLÉAN  BONAPAR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42880" y="762120"/>
            <a:ext cx="8058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GENERAL WAS ATTACKED BY RABBITS AT A PARTY CELEBRATING THE SIGNING OF THE TREATY OF TILSIT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IDENCY  OF  ISRA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44640" y="762120"/>
            <a:ext cx="72547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WAS ALBERT EINSTEIN OFFERED IN 1952 THAT HE DECL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MILITARY  B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2040" y="76212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ANTA ANNA HAD HIS LEG AMPUTATED, DID HE BRONZE IT, SEND IT TO THE FRENCH GENERAL, OR GIVE IT A FULL MILITARY BURI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952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MAN  UR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317600" y="762120"/>
            <a:ext cx="65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LIQUID DID ANCIENT ROMANS USE AS MOUTHW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REST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WAS PRESIDENT, ABRAHAM LINCOLN EXCELLED IN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4720" y="762120"/>
            <a:ext cx="813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MAJOR CAUSE OF THE BLACK PLAGUE WAS POPE GREGORY IX, WHO ORDERED WHAT SORT OF ANIMAL SHOULD BE EXTERM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0440" y="762120"/>
            <a:ext cx="8223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THE ZANZIBAR SULTANATE IN THE SHORTEST WAR ON RECORD, ONLY 38 MINUTES 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42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IT FORKS, KNIVES,            OR SPOONS THAT WERE CONSIDERED "AN OFFENSE TO GOD"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33320" y="762120"/>
            <a:ext cx="7677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"NATIONALSOZIALISTISCHE" WAS SHORTENED TO WHAT ALREADY EXISTING INSU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ARY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81200" y="762120"/>
            <a:ext cx="7581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(FAILED) SUBMERSIBLE ATTACK AGAINST A SHIP HAPPENED DURING WHAT U.S. W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3040" y="761760"/>
            <a:ext cx="801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GENERAL WAS ATTACKED BY RABBITS AT A PARTY CELEBRATING THE SIGNING OF THE TREATY OF TILSI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9680" y="762120"/>
            <a:ext cx="70628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B WAS ALBERT EINSTEIN OFFERED IN 1952 THAT HE DECL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ANTA ANNA HAD HIS LEG AMPUTATED, DID HE BRONZE IT, SEND IT TO THE FRENCH GENERAL, OR GIVE IT A FULL MILITARY BURI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200240" y="762120"/>
            <a:ext cx="67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LLOW LIQUID DID ANCIENT ROMANS USE AS MOUTHW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HE WAS PRESIDENT, ABRAHAM LINCOLN EXCELLED IN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MAJOR CAUSE OF THE BLACK PLAGUE WAS POPE GREGORY IX, WHO ORDERED WHAT SORT OF ANIMAL SHOULD BE EXTERM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7760" y="762120"/>
            <a:ext cx="8448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IT FORKS, KNIVES,            OR SPOONS THAT WERE CONSIDERED "AN OFFENSE TO GOD" IN THE 1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7-18T22:07:04Z</dcterms:modified>
  <cp:revision>419</cp:revision>
  <dc:subject/>
  <dc:title>Slide 1</dc:title>
</cp:coreProperties>
</file>