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010C-FC5D-420D-92B6-EB92D376D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E4B3-0FC6-484F-8235-C43BDDC2B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7508-1B92-476B-BE3E-FEB69AA29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1B52-1565-4BF5-ABD6-6BAA623BF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83D1-0AC5-4833-9CBA-C70C78EF0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0C0F-1DE2-4352-95D4-61ADB7D1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EAFB-AD38-4E1E-B6B5-BE3AFA221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E900-DE19-4EDA-93A3-F06DB6236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0A4E-A53C-47DA-82BE-F5B8DFF69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22B6-45A6-40E1-AE12-D49548EB1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89A6-DF54-44FE-851F-0644A81D1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3888-943E-441E-A5AF-15053DF6C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3969-87B4-4AF4-956C-BD4880AB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302F-818D-4D9A-8D47-75B9F8880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8619-E9C7-4E15-B77F-911F9B9AA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A144-725B-4E4D-9E65-91FAF146C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C58F-2639-4137-B4F3-E4E3DA763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CD87-323F-4FCC-AE27-931AC6CE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C5CF-56C1-4346-933C-8DFF57FC2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E026-09C5-4448-B0EA-6EE0ABAC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13A4-1749-4240-B630-D84F3AE01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8EF4-EA95-4437-B093-858DDDC5E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13D9-C76F-48EA-A60E-C3A2D15A5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IRD  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RMAN WORD  "NATIONALSOZIALISTISCHE" WAS SHORTENED TO WHAT ALREADY EXISTING INSU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(FAILED) SUBMERSIBLE ATTACK AGAINST A SHIP HAPPENED DURING WHAT U.S.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95288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KING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38200" y="762120"/>
            <a:ext cx="806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THE ZANZIBAR SULTANATE IN THE SHORTEST WAR ON RECORD, ONLY 38 MINUTE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POLÉAN  BONAP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42880" y="762120"/>
            <a:ext cx="805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GENERAL WAS ATTACKED BY RABBITS AT A PARTY CELEBRATING THE SIGNING OF THE TREATY OF TILSIT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IDENCY  OF  ISR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44640" y="762120"/>
            <a:ext cx="7254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B WAS ALBERT EINSTEIN OFFERED IN 1952 THAT HE DECL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  MILITARY  B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2040" y="762120"/>
            <a:ext cx="78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SANTA ANNA HAD HIS LEG AMPUTATED, DID HE BRONZE IT, SEND IT TO THE FRENCH GENERAL, OR GIVE IT A FULL MILITARY BU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95288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AN  U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17600" y="762120"/>
            <a:ext cx="650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LLOW LIQUID DID ANCIENT ROMANS USE AS MOUTHW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EST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HE WAS PRESIDENT, ABRAHAM LINCOLN EXCELLED IN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C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4720" y="762120"/>
            <a:ext cx="8134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MAJOR CAUSE OF THE BLACK PLAGUE WAS POPE GREGORY IX, WHO ORDERED WHAT SORT OF ANIMAL SHOULD BE EXTERM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0440" y="762120"/>
            <a:ext cx="822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THE ZANZIBAR SULTANATE IN THE SHORTEST WAR ON RECORD, ONLY 38 MINUTE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42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IT FORKS, KNIVES,            OR SPOONS THAT WERE CONSIDERED "AN OFFENSE TO GOD" IN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Z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33320" y="762120"/>
            <a:ext cx="767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RMAN WORD  "NATIONALSOZIALISTISCHE" WAS SHORTENED TO WHAT ALREADY EXISTING INSU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ARY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81200" y="762120"/>
            <a:ext cx="758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(FAILED) SUBMERSIBLE ATTACK AGAINST A SHIP HAPPENED DURING WHAT U.S.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63040" y="761760"/>
            <a:ext cx="80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GENERAL WAS ATTACKED BY RABBITS AT A PARTY CELEBRATING THE SIGNING OF THE TREATY OF TILSI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9680" y="762120"/>
            <a:ext cx="70628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B WAS ALBERT EINSTEIN OFFERED IN 1952 THAT HE DECL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SANTA ANNA HAD HIS LEG AMPUTATED, DID HE BRONZE IT, SEND IT TO THE FRENCH GENERAL, OR GIVE IT A FULL MILITARY BU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LLOW LIQUID DID ANCIENT ROMANS USE AS MOUTHWA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HE WAS PRESIDENT, ABRAHAM LINCOLN EXCELLED IN WHAT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MAJOR CAUSE OF THE BLACK PLAGUE WAS POPE GREGORY IX, WHO ORDERED WHAT SORT OF ANIMAL SHOULD BE EXTERM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7760" y="762120"/>
            <a:ext cx="8448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IT FORKS, KNIVES,            OR SPOONS THAT WERE CONSIDERED "AN OFFENSE TO GOD" IN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7-18T22:07:04Z</dcterms:modified>
  <cp:revision>419</cp:revision>
  <dc:subject/>
  <dc:title>Slide 1</dc:title>
</cp:coreProperties>
</file>