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561-3429-47D4-836F-4F848114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375-3E5E-4CB9-BCBC-39B9A81E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737D-C8A9-4158-BEEB-A8999E00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84C-97A0-48E8-81C2-11380BB87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2C6-9B60-45EC-BEEF-F4C1095CC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FC5E-B681-4F46-B91B-D8F663F5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0F8-85C5-4210-B109-6F071921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E66-8AF0-4E3E-9571-3BD1FFFE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A6C-98DF-4E0D-88EF-F88342A0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B92-85C2-467B-85A6-182B594B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D8BB-BE39-40E5-9CBF-7CABEB32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020-CB8E-4D5F-B22F-1F326CAB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4FA4-7E55-42C7-A7FA-CFD1A7B5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1467-5F7C-4996-A5F6-7DBCF588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8C5-C92E-4C7F-B0BC-4421A06F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86D-3BAC-4E1D-933A-7651360F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AE7-D2F1-4E76-822F-D9EAD892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8FA-92FE-4E88-98A5-12548878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B6D-E736-4722-891C-2F87A4EB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57A5-7990-41E2-A0BC-20D8255F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59A-1503-4C06-9CBA-E67358C7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465A-D01E-4CBA-9513-95AD216D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0DA-4E64-437D-BF0F-977752E93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990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PLE CHOICE:   MAYA, INCA, OR AZTEC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6680" y="761760"/>
            <a:ext cx="827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WAS CONQUERED BY SPANIARDS LED BY HERNAN CORTE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CREATED A MASSIVE ROAD NETWORK THROUGH MOUNTAINS AND RI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7400" y="762120"/>
            <a:ext cx="736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IN 1000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57080" y="762120"/>
            <a:ext cx="7628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OUTSIDE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DISCOVERE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VIEWED WOMEN AS EQUALS, AND RECOGNIZED A THIRD NEUTRAL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, BEING OBSESSED WITH TIME AND CALENDAR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RRECTLY CALCULATED THAT A YEAR WAS 365.24 DAY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PRACTICED RITUAL HUMAN SACRI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8200" y="762120"/>
            <a:ext cx="752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MAIN CITY TENOCHTITLAN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THE WORL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IN 1000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1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THE MOST ADVANCED WRITING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42800" y="762120"/>
            <a:ext cx="8258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WAS CONQUERED BY SPANIARDS LED BY HERNAN CORT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CREATED A MASSIVE ROAD NETWORK THROUGH MOUNTAINS AND RI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OUTSIDE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DISCOVERE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VIEWED WOMEN AS EQUALS, AND RECOGNIZED A THIRD NEUTRAL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, BEING OBSESSED WITH TIME AND CALENDAR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RRECTLY CALCULATED THAT A YEAR WAS 365.24 DAY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PRACTICED RITUAL HUMAN SACRI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6480" y="761760"/>
            <a:ext cx="7871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MAIN CITY TENOCHTITLAN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THE WORLD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THE MOST ADVANCED WRITING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3-01-07T18:40:03Z</dcterms:modified>
  <cp:revision>392</cp:revision>
  <dc:subject/>
  <dc:title>Slide 1</dc:title>
</cp:coreProperties>
</file>