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19C5-A7B9-4E6F-93BA-F8D8DE147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7184-CE76-48C4-8E2B-B304AB9BC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0267-62B5-4A53-BC5D-289DFB736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CDFA-837F-4E87-AEB1-FD3160CBA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84DB-3F2D-4C20-B5A6-191DD864D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0271-3399-4349-A7C1-4B9713C0F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9112-E84F-4D52-9085-EBC012C4D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EB40-EE09-41CC-A12A-ED417DC8D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FE06-3C90-45CE-B501-02D6060EE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E36B-1090-474C-954A-1FD439F2C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A708-A803-40D7-9674-253A41EA2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11E0-37BB-4E0C-92A9-09E1EA391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69CC-AEFB-4EA4-8E53-76B30BB51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2403-F623-461A-ACFB-44EDCEABD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F5D1-DBE8-441A-8C4B-140A6DCCD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0DE0-E9FA-42A3-97D3-83A618D00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2FEE-3394-4CA1-B8E2-46C18D794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C847-5A8F-4C96-8CD9-6F674172F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9650-5DAD-40EA-BB6F-3C8A030A7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5527-D3BB-4EB8-8739-DBE757285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3816-CED6-496C-9ED6-65D16F388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A381-C5E3-40E6-8E9F-5C80AF191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D36D-7B68-41B9-B3F3-125721F82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9903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PLE CHOICE:   MAYA, INCA, OR AZTEC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6680" y="761760"/>
            <a:ext cx="827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WAS CONQUERED BY SPANIARDS LED BY HERNAN CORTE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16040" y="762120"/>
            <a:ext cx="77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CREATED A MASSIVE ROAD NETWORK THROUGH MOUNTAINS AND RIV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87400" y="762120"/>
            <a:ext cx="7369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EXISTED IN 1000 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57080" y="762120"/>
            <a:ext cx="7628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EXISTED OUTSIDE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DISCOVERED CHOCOL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25400" y="7621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VIEWED WOMEN AS EQUALS, AND RECOGNIZED A THIRD NEUTRAL GEN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90400" y="762120"/>
            <a:ext cx="7963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, BEING OBSESSED WITH TIME AND CALENDARS,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RRECTLY CALCULATED THAT A YEAR WAS 365.24 DAY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ZT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PRACTICED RITUAL HUMAN SACRI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ZT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08200" y="762120"/>
            <a:ext cx="7527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HAD MAIN CITY TENOCHTITLAN,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THE WORLD AT TH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0800" y="762120"/>
            <a:ext cx="750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EXISTED IN 1000 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11080" y="762120"/>
            <a:ext cx="7521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HAD THE MOST ADVANCED WRITING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ZT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42800" y="762120"/>
            <a:ext cx="8258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WAS CONQUERED BY SPANIARDS LED BY HERNAN CORTE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43040" y="762120"/>
            <a:ext cx="7657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CREATED A MASSIVE ROAD NETWORK THROUGH MOUNTAINS AND RIV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27120" y="761760"/>
            <a:ext cx="788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EXISTED OUTSIDE MEXI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7080" y="762120"/>
            <a:ext cx="762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DISCOVERED CHOCOL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62040" y="762120"/>
            <a:ext cx="7819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VIEWED WOMEN AS EQUALS, AND RECOGNIZED A THIRD NEUTRAL GEN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, BEING OBSESSED WITH TIME AND CALENDARS,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RRECTLY CALCULATED THAT A YEAR WAS 365.24 DAY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PRACTICED RITUAL HUMAN SACRI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36480" y="761760"/>
            <a:ext cx="7871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HAD MAIN CITY TENOCHTITLAN,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THE WORLD AT THE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60480" y="761760"/>
            <a:ext cx="7223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HAD THE MOST ADVANCED WRITING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3-01-07T18:40:03Z</dcterms:modified>
  <cp:revision>392</cp:revision>
  <dc:subject/>
  <dc:title>Slide 1</dc:title>
</cp:coreProperties>
</file>