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371A-9DD5-4FA8-B76B-98CF70ED1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2D5-4036-4DC4-9CB2-F580CE897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13BF-77B7-4A7E-8216-7718A4103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17726-8B28-4685-B40F-6AAA64F35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19FD-8AE0-442B-98A8-4DD966F51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E852-D7F0-4AA3-A386-B67A0B6C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70843-2781-4DBA-8C1F-ACAC2F7FE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A0F-1397-4611-97C2-D36D54DFB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CF8A-26B6-487A-B082-C1B87D39C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9A4E-1225-4B2A-9B8A-8E9822731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B386-BDF0-46DE-ADEC-42EB9D4CA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6262-5019-49CD-B12D-C8080237C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FD7B-7F4B-4976-BE6D-26CF5B05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3F5C-138E-4D34-AFC7-A15CEAC44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FBF3-0685-4862-8DD6-149C3E5BB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7D68-C37F-497A-8328-44B99FCB7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DC9B-BD02-4A6D-AF96-817EF9A6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A403-A85D-4B8C-8123-2EF01728F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3BF0-65CA-41F3-BE9C-791894AA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CDCB-72EA-46B3-89FA-4953F5E65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82EF-60C7-4A9C-BD6A-517B75210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6308-6D48-4F3F-B9D0-59AFE5861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387B-D9F0-4832-AA57-159F9C43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VIL W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IRD DID GENERAL ROBERT E. LEE KEEP WITH HIM AS A PET DURING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ISEASE KILLED MORE MEN DURING THE CIVIL WAR THAN GUNFIRE D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MERICANS DIED IN THE CIVIL WAR?  2%, 4%, OR 8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CAR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04640" y="762120"/>
            <a:ext cx="8334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TATE   TO SECEDE FROM THE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2960" y="762120"/>
            <a:ext cx="731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ID IT TAKE LINCOLN TO DELIVER HIS FAMOUS GETTYSBURG ADDRESS?  2 MINUTES,   20 MINUTES, OR 2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GOD  WE 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00000" y="76212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FIRST APPEARED ON A U.S. COIN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68320" y="762120"/>
            <a:ext cx="7407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CREEKS,  CHEROKEES, AND CHOCTAWS WERE ALLIED WITH THE CONFEDERACY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06320" y="762120"/>
            <a:ext cx="7729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ERA AFTER THE CIVIL WA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96760" y="762120"/>
            <a:ext cx="735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PRESIDENT ALLIED WITH THE CONFEDERA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MERICANS DIED IN THE CIVIL WAR?  2%, 4%, OR 8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4136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RICAN-AMERICANS MADE UP WHAT PERCENT OF THE UNION ARMY?  1%, 3%, OR 1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0520" y="762120"/>
            <a:ext cx="7669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IRD DID GENERAL ROBERT E. LEE KEEP WITH HIM AS A PET DURING THE CIVIL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ISEASE KILLED MORE MEN DURING THE CIVIL WAR THAN GUNFIRE D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STATE TO SECEDE FROM THE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9720" y="762120"/>
            <a:ext cx="732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ID IT TAKE LINCOLN TO DELIVER HIS FAMOUS GETTYSBURG ADDRESS?  2 MINUTES,   20 MINUTES, OR 2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96760" y="762120"/>
            <a:ext cx="735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FIRST APPEARED ON A U.S. COIN DURING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CREEKS,  CHEROKEES, AND CHOCTAWS WERE ALLIED WITH THE CONFEDERACY DURING THE CIVIL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6400" y="761760"/>
            <a:ext cx="807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ERA AFTER THE CIVIL WA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2160" y="761760"/>
            <a:ext cx="7158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PRESIDENT ALLIED WITH THE CONFEDERA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2920" y="76176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RICAN-AMERICANS MADE UP WHAT PERCENT OF THE UNION ARMY?  1%, 3%, OR 1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10-07T23:51:27Z</dcterms:modified>
  <cp:revision>398</cp:revision>
  <dc:subject/>
  <dc:title>Slide 1</dc:title>
</cp:coreProperties>
</file>