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DEED-7765-4993-8BD1-04315D2C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F89-D05F-4311-9397-2E2C895B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528E-FDAB-4848-8BB1-49F05EF3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BAD1-76CE-4DF7-8FD5-D3D2F38B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366E-520F-4447-8172-DD2C6EDF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5AEB-F02F-4B7F-95A4-65B5F925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F242-853B-44EC-9C90-D0188D9FF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C0BF-5FDE-48C3-81E4-94A2EC9F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8F45-0C51-45D7-92DB-FB242ADF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553F-B550-4A19-82D4-569938A8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212F-F8FB-4E05-9074-53D37F6C1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BA85-BC00-42C1-8313-EAACE129C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20A5-9AC1-4632-A6CD-84C121E1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32D-8BF1-4C9F-8083-52AF7717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E43-E71A-4B74-A749-6D88EE90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4EF1-CADE-41E3-B2DF-A77E3593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6801-5021-4210-987B-745AB9DC3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6F86-B480-49FA-B69A-ECECCC3D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670-DD8D-4385-981C-C954866A4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36C-03DB-4814-AC1E-C24DCE70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419F-F159-4C0B-B4C7-2732EB35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528D-77B8-41C3-B960-8DB0AADBF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360A-1C10-4ADB-85DD-DE3371CB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IRD DID GENERAL ROBERT E. LEE KEEP WITH HIM AS A PET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ISEASE KILLED MORE MEN DURING THE CIVIL WAR THAN GUNFIRE D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S DIED IN THE CIVIL WAR?  2%, 4%, OR 8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CAR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4640" y="762120"/>
            <a:ext cx="8334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TATE   TO SECEDE FROM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2960" y="762120"/>
            <a:ext cx="731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ID IT TAKE LINCOLN TO DELIVER HIS FAMOUS GETTYSBURG ADDRESS?  2 MINUTES,   20 MINUTES, OR 2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GOD  WE 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A U.S. COIN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8320" y="762120"/>
            <a:ext cx="7407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CREEKS,  CHEROKEES, AND CHOCTAWS WERE ALLIED WITH THE CONFEDERACY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06320" y="762120"/>
            <a:ext cx="7729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ERA AFTER THE CIVIL WA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6760" y="762120"/>
            <a:ext cx="735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PRESIDENT ALLIED WITH THE CONFED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S DIED IN THE CIVIL WAR?  2%, 4%, OR 8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4136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RICAN-AMERICANS MADE UP WHAT PERCENT OF THE UNION ARMY?  1%, 3%, OR 1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0520" y="762120"/>
            <a:ext cx="766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IRD DID GENERAL ROBERT E. LEE KEEP WITH HIM AS A PET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ISEASE KILLED MORE MEN DURING THE CIVIL WAR THAN GUNFIRE D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TATE TO SECEDE FROM THE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9720" y="762120"/>
            <a:ext cx="732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ID IT TAKE LINCOLN TO DELIVER HIS FAMOUS GETTYSBURG ADDRESS?  2 MINUTES,   20 MINUTES, OR 2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96760" y="762120"/>
            <a:ext cx="735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A U.S. COIN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CREEKS,  CHEROKEES, AND CHOCTAWS WERE ALLIED WITH THE CONFEDERACY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6400" y="761760"/>
            <a:ext cx="807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ERA AFTER THE CIVIL WA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2160" y="761760"/>
            <a:ext cx="7158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PRESIDENT ALLIED WITH THE CONFEDERA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RICAN-AMERICANS MADE UP WHAT PERCENT OF THE UNION ARMY?  1%, 3%, OR 1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10-07T23:51:27Z</dcterms:modified>
  <cp:revision>398</cp:revision>
  <dc:subject/>
  <dc:title>Slide 1</dc:title>
</cp:coreProperties>
</file>